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32A4-3609-4615-BAA5-7D858CE7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78FF-9B29-418A-91DA-27C4EE66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3B8-5B28-4F0B-B2D2-C94DEA27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BF02-5969-485D-90CC-15C1E4B2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F08-36A8-4CB6-B656-2F598671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C3A6-B571-4C30-B7DB-61B6314C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5CF-DBFD-40FC-9C7E-0076FD09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63B9-DE27-4D03-82A1-A41248E3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C748-82D4-4E4B-8FE4-F4E95EEC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A370-C4FC-4219-B580-83AC06FE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7094-CDA8-4C5D-9E62-580FE0DA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129E-4B51-40E4-A682-81494944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7659-FCA0-40EE-BBCB-6EFFAC2656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8480" y="2133720"/>
            <a:ext cx="4797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alidity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n Overview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3962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7543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3886200" cy="2158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3886200" cy="577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3960720" cy="2308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33520" y="3352680"/>
            <a:ext cx="3962160" cy="776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4648320" y="1523880"/>
            <a:ext cx="3695760" cy="2895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4648320" y="533520"/>
            <a:ext cx="3720960" cy="990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68840" y="4800600"/>
            <a:ext cx="4213080" cy="1557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ly, exposure to TCD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classified according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 descriptions of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terans selected for stu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705360" cy="2895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19320" y="762120"/>
            <a:ext cx="6705360" cy="1068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21"/>
                </a:solidFill>
                <a:latin typeface="Times New Roman"/>
              </a:rPr>
              <a:t>Classification of TCDD exposure by job descrip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19320" y="4724280"/>
            <a:ext cx="6705360" cy="1435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666880" y="4648320"/>
            <a:ext cx="3429000" cy="1295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315200" cy="4876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90720" y="457200"/>
            <a:ext cx="541008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400800" y="457200"/>
            <a:ext cx="190512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2784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693432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6934320" cy="1752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743200" y="4419720"/>
            <a:ext cx="365760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6705720" cy="1904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09000" y="3703680"/>
            <a:ext cx="467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21"/>
                </a:solidFill>
                <a:latin typeface="Times New Roman"/>
              </a:rPr>
              <a:t>If not properly done, t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21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21"/>
                </a:solidFill>
                <a:latin typeface="Times New Roman"/>
              </a:rPr>
              <a:t>Confounding B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6705720" cy="2057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505320" y="2133720"/>
            <a:ext cx="2286000" cy="761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924680" cy="5486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934320" y="5715000"/>
            <a:ext cx="17524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5181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029200" y="1676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00"/>
                </a:solidFill>
                <a:latin typeface="Arial"/>
              </a:rPr>
              <a:t>Y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819520"/>
            <a:ext cx="563904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90720" y="2819520"/>
            <a:ext cx="1676160" cy="2514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3600" y="2895480"/>
            <a:ext cx="228600" cy="738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15200" cy="4219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4952880"/>
            <a:ext cx="7315200" cy="1371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33720" y="5486400"/>
            <a:ext cx="5105160" cy="685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39:44Z</dcterms:modified>
  <cp:revision>209</cp:revision>
  <dc:subject/>
  <dc:title>Slide 1</dc:title>
</cp:coreProperties>
</file>