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F131-9BA4-4999-A85D-5EA8FF01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507D-6737-4AB9-91F8-FD0C138A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26FD-A85A-4972-A607-7E9BF19B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7F8D-8A94-4745-9946-324B2775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DF99-252A-4112-A2D3-A10F35F3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41ED-6670-4E06-A78B-CC0BEADD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08E8-2878-4F1D-ACB5-A9D01F5C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8E31-871A-482A-8B43-0AB0B9E9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753B-42B5-4603-B31A-93D47625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4E8-58BD-4587-864B-60601E72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A55B-3153-4BB7-BB08-5BA02DEA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8F6-5C6E-48AF-B4E3-CE47A858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A411-3D9B-47A4-8CD9-F8AA1229F0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0760" y="1523880"/>
            <a:ext cx="665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tiologic Fr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f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erson-Time Dat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2133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822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2133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82296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772400" cy="4282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62120" y="5029200"/>
            <a:ext cx="77724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7543800" cy="2771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543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638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010280" y="5715000"/>
            <a:ext cx="15242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010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239240" cy="2943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723924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066680" y="4800600"/>
            <a:ext cx="7239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3505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4114800"/>
            <a:ext cx="7543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543800" cy="2438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543800" cy="160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7543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754380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8229600" cy="2133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" y="2666880"/>
            <a:ext cx="8229600" cy="1447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858000" y="4114800"/>
            <a:ext cx="1852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8305920" cy="2057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8229600" cy="2133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57200" y="2666880"/>
            <a:ext cx="8229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31:36Z</dcterms:modified>
  <cp:revision>210</cp:revision>
  <dc:subject/>
  <dc:title>Slide 1</dc:title>
</cp:coreProperties>
</file>