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CD63-1D1B-46F5-A999-1AEBBB6F4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4856-AB39-4802-869D-1AD96E856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6B85-5DD2-4EB4-A734-5871F800D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D79C-2CF8-4E96-B76C-933B996FA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7BCB-A889-4B83-83A8-5A4A23366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3B28-D2A3-4918-BD38-DC3E003A3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1746-6A1D-4C6D-BF59-A0752E2E4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A03A-7675-46F4-812D-50D002433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C5C1-08DA-4977-B777-F57F68918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7FB4-E74C-41F2-AC90-828DD383D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F5AA-CF9D-48C8-A402-71DA49657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FD81-4E6D-4DCA-8ECB-35036FE71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02A6D-F54E-436C-83AC-F5128E1ECF4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439720" y="2362320"/>
            <a:ext cx="390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Risk Ratio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16292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162920" cy="38862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066680" y="4648320"/>
            <a:ext cx="716292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162920" cy="38862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066680" y="4648320"/>
            <a:ext cx="71629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990720" y="685800"/>
            <a:ext cx="73152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7391520" cy="11844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85800" y="2514600"/>
            <a:ext cx="739152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143000" y="1371600"/>
            <a:ext cx="6248520" cy="10764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1143000" y="2362320"/>
            <a:ext cx="624852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7086600" cy="13716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762120" y="2971800"/>
            <a:ext cx="701028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066680" y="1905120"/>
            <a:ext cx="6705720" cy="10760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066680" y="2895480"/>
            <a:ext cx="67057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1625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066680" y="609480"/>
            <a:ext cx="7086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14400" y="1066680"/>
            <a:ext cx="7315200" cy="41911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971080" y="457200"/>
            <a:ext cx="275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hort Stu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391520" cy="54100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553080" y="5791320"/>
            <a:ext cx="167652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90720" y="609480"/>
            <a:ext cx="731520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39152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70866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219320" y="838080"/>
            <a:ext cx="678168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90720" y="685800"/>
            <a:ext cx="72388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72388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74674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0-09T17:30:12Z</dcterms:modified>
  <cp:revision>204</cp:revision>
  <dc:subject/>
  <dc:title>Slide 1</dc:title>
</cp:coreProperties>
</file>