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2C4-1503-4036-A1CB-F83C1F85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05D-F02C-4185-B46F-55FA472E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E45-7E00-40B0-9EA8-91660DB4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75E-A182-42D7-92E2-68DBD93F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E08-6ED5-4C2A-A79D-54E20EA9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7C0-FEE7-4605-9146-D9E1A2A3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B6F-1CA6-43D7-845F-34E0BC62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986-AEAD-4D46-B74A-7A8ECBE6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BD6-EAB1-404C-BC4C-4850072E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8A9-CD19-45B0-941C-9B7D552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4D2-54AF-49BA-A48E-A2A8C20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DA7-9EED-404F-82AD-562C101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FD9F-BD57-4AA1-A3A0-92EBA03DB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384720"/>
            <a:ext cx="7391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135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1009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162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132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4876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74320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57150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6858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133720"/>
            <a:ext cx="7238880" cy="207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53080" y="3962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34320" y="5334120"/>
            <a:ext cx="1447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7238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7543800" cy="325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619440"/>
            <a:ext cx="754380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50160" y="4095720"/>
            <a:ext cx="150804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281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30:56Z</dcterms:modified>
  <cp:revision>1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