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28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F91D4-0B23-4090-BCAA-AD60E8075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DF545-5CA8-45B0-9B26-1F3DCE6AC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B92F5-8217-4BBE-8713-30E8AAB95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FA5E8-F742-446E-982F-C7588BD62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8B4C2-19D0-46B4-9C0C-BB2F07090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10E0C-D32B-4EF8-8CEC-717BE0EAA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F69D8-289E-4F5F-B1E4-07F5F5B88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7ACA4-1B66-4F77-A367-12B94F6A1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37707-BA8C-412C-AD28-D1E0EEE18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EE6F5-40CF-4520-B4EA-76DB33511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D8FE7-FE96-41D0-B5E0-A4B829585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80CD6-40D0-42AB-AA6E-5EBF76EE1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544C5-C09F-4961-95B5-1D44AFE0F1A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4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086920" y="1905120"/>
            <a:ext cx="44982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  </a:t>
            </a: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Diagnostic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Test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 </a:t>
            </a: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Studi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838080" y="762120"/>
            <a:ext cx="7543800" cy="3429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838080" y="4191120"/>
            <a:ext cx="7543800" cy="19047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6781680" y="5638680"/>
            <a:ext cx="1600200" cy="457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838080" y="762120"/>
            <a:ext cx="7543800" cy="34290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838080" y="4191120"/>
            <a:ext cx="7543800" cy="5270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1828800" y="5105520"/>
            <a:ext cx="502920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914400" y="533520"/>
            <a:ext cx="7543800" cy="28191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914400" y="3352680"/>
            <a:ext cx="7543800" cy="76212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6934320" y="3733920"/>
            <a:ext cx="1523880" cy="304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914400" y="4191120"/>
            <a:ext cx="762012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066680" y="990720"/>
            <a:ext cx="701064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685800" y="914400"/>
            <a:ext cx="7696080" cy="30481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685800" y="3962520"/>
            <a:ext cx="7696080" cy="196524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7010280" y="5562720"/>
            <a:ext cx="137160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7010280" cy="32767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914400" y="3927600"/>
            <a:ext cx="7010280" cy="4921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1676520" y="4572000"/>
            <a:ext cx="518148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914400" y="3505320"/>
            <a:ext cx="7391520" cy="83808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914400" y="457200"/>
            <a:ext cx="7391520" cy="304812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6934320" y="3962520"/>
            <a:ext cx="137160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914400" y="4495680"/>
            <a:ext cx="739152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762120" y="838080"/>
            <a:ext cx="769608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762120" y="304920"/>
            <a:ext cx="7696080" cy="380988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62120" y="4114800"/>
            <a:ext cx="7696080" cy="198108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6934320" y="5715000"/>
            <a:ext cx="1523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838080" y="762120"/>
            <a:ext cx="7696440" cy="312408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838080" y="3886200"/>
            <a:ext cx="7696440" cy="4572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1905120" y="4572000"/>
            <a:ext cx="561312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609480" y="1676520"/>
            <a:ext cx="8077320" cy="31240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167080" y="3840120"/>
            <a:ext cx="3413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Times New Roman"/>
              </a:rPr>
              <a:t>Screening Test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V="1">
            <a:off x="6400800" y="2742840"/>
            <a:ext cx="609480" cy="609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614280" y="2270160"/>
            <a:ext cx="132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ur foc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762120" y="304920"/>
            <a:ext cx="7696080" cy="281916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762120" y="3124080"/>
            <a:ext cx="7696080" cy="83844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6934320" y="3657600"/>
            <a:ext cx="1523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838080" y="4038480"/>
            <a:ext cx="762012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762120" y="609480"/>
            <a:ext cx="76197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62120" y="533520"/>
            <a:ext cx="7696080" cy="55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685800" y="380880"/>
            <a:ext cx="800100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838224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914400" y="1371600"/>
            <a:ext cx="731520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57200" y="533520"/>
            <a:ext cx="815328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914400" y="990720"/>
            <a:ext cx="693432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295280" y="380880"/>
            <a:ext cx="6629400" cy="29718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1295280" y="3352680"/>
            <a:ext cx="5257800" cy="26672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477120" y="3276720"/>
            <a:ext cx="1447560" cy="2743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33520" y="533520"/>
            <a:ext cx="80769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85800" y="609480"/>
            <a:ext cx="76960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838080" y="762120"/>
            <a:ext cx="75438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6T01:37:56Z</dcterms:created>
  <dc:creator>david g. kleinbaum</dc:creator>
  <dc:description/>
  <dc:language>en-US</dc:language>
  <cp:lastModifiedBy>david g kleinbaum</cp:lastModifiedBy>
  <dcterms:modified xsi:type="dcterms:W3CDTF">2003-11-10T17:37:44Z</dcterms:modified>
  <cp:revision>218</cp:revision>
  <dc:subject/>
  <dc:title>Slide 1</dc:title>
</cp:coreProperties>
</file>