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2C0-3827-4955-931F-F15788A8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F19-74DC-41BC-82C6-82FADAA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2C6-647D-40AA-A09B-7EDE77D0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6AD-FB8A-4CE8-A488-7706E600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1E7-F429-4AD6-B176-160781A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FBB-6B81-42DF-BF8C-03CE568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BA6-4380-49C7-8580-ADA76FBC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A8C-6D67-40B9-BE8C-AB81AF5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477-6629-4B09-81A0-0D4A7F7D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B45-BF01-4347-9A76-5289403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072-4CDF-4ACE-B99E-A53DC16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E4F-560A-4734-B896-78B3506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17F-A681-4483-BBDD-D82B12C96A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69644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953240" cy="85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4360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59092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086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95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0866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74320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35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0866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2514600"/>
            <a:ext cx="243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35268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440" y="3703680"/>
            <a:ext cx="309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ereas RR is 2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08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34320" y="57150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19:44Z</dcterms:modified>
  <cp:revision>214</cp:revision>
  <dc:subject/>
  <dc:title>Slide 1</dc:title>
</cp:coreProperties>
</file>