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119-7C10-4D91-B7B7-5E0073BE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CE6-9792-4B00-A471-C391ACC0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34E-4484-44BB-8711-9DC8497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70A-9F2E-4F74-9548-8886A732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6F6-C5CB-4389-94DF-1E8C955E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C05-4736-43F2-8769-0DA50CB7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A80-C8E5-47BD-B741-B1E54EC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B98-5D3C-4787-BB4B-23D6A7C0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A01-C25E-46CF-95B4-11AFEC1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4D4-3613-4C15-851E-B37FF944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991-4727-4B20-9788-76E45DA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FD7-9C2B-4913-B4B3-7E7AFF0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0510-BDC7-4ED0-BE6F-7CAFEC78A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ample Size for O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i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ase-Control o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ross-sectional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tud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05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696080" cy="2921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120" y="5791320"/>
            <a:ext cx="373356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952880" y="5943600"/>
            <a:ext cx="350532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86200" y="579132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724280" y="5791320"/>
            <a:ext cx="369576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2120" y="2743200"/>
            <a:ext cx="99036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489560" y="3289320"/>
            <a:ext cx="164880" cy="2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495680" y="5791320"/>
            <a:ext cx="83844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2590920" y="4952880"/>
            <a:ext cx="3174840" cy="3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743200" y="4495680"/>
            <a:ext cx="3949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514600" y="4710240"/>
            <a:ext cx="4876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6T15:35:27Z</dcterms:modified>
  <cp:revision>42</cp:revision>
  <dc:subject/>
  <dc:title>PowerPoint Presentation</dc:title>
</cp:coreProperties>
</file>