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79-E471-4D4F-A23D-FD211A05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178-073E-4D3B-9C7B-5E3C274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A31-828B-4A3A-A92D-28710C12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862-56CC-421E-871C-D2DD3AE3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421-5641-452C-B189-3F6BD39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62A-5423-4A2C-BA34-7509C54F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C5A-FCD2-4902-9AC5-E30A22E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A7B-27C7-404C-BE34-CFF874B2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647-5463-4E6D-908C-1764C7C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C7E-C223-4EB2-802D-9960B92F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743-81FA-4D45-854F-513B674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30A-7CD5-455D-B2DA-F64DFBB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162-0AAE-4F11-8D00-FC2C00832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 EXAMPL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256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18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60880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77472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15620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29718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4:14Z</dcterms:modified>
  <cp:revision>102</cp:revision>
  <dc:subject/>
  <dc:title>The Art in the State of the Art</dc:title>
</cp:coreProperties>
</file>