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1B5-2F39-4655-B900-0A51489D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EAC-7F43-4E18-8A23-BA751DC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F6F-16EB-4E51-B885-8039953D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DAD-59F8-40B9-857F-D374C902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4EC-0584-4CEC-8ADA-2D698CA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62E-90EB-4B49-953D-5790DDF9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543-4AFA-4AC8-A0A1-97241FC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C21-6942-48CC-8953-3037DA6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D3F-DA12-408B-AAA1-8B1D4E2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FA1-AD08-4BAD-9677-E1BB6FE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408-6AE3-4BC0-9011-45659AA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CD0-BCB1-4BA7-802B-976D965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A01E-5503-4E2A-BA77-EE4B5B9F3D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09680"/>
            <a:ext cx="644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3048120"/>
            <a:ext cx="114300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333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391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249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0010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7772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80010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696080" cy="24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6019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7:09:13Z</dcterms:modified>
  <cp:revision>215</cp:revision>
  <dc:subject/>
  <dc:title>Slide 1</dc:title>
</cp:coreProperties>
</file>