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9D21-9F1E-4A6A-B939-F1E1DD70C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E53B-5DEF-44DB-9EBF-D2F204F9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5462-9E65-4771-B6FA-D4787305C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364A-55C8-4BB7-B8F9-B0E2A9F86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84DD-7D57-437D-9DE4-B0562525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4175-5DBC-4253-83EB-00E65CB9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BCB9-5C01-40C4-B329-56623218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7FE8-862D-4C8C-B0CB-85962B2F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CA50-A4EF-4C47-8CD8-6757B52D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1233-7D9E-4C3E-9005-483FC54D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74F0-2813-4AEE-82F4-93AEAFA7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5DC6-F6B7-4906-BDCC-E85FEBE2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7340-2D4D-429E-8619-094B69B4C4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80200" y="1447920"/>
            <a:ext cx="3819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 Clinica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iagnosi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xampl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238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4038480" cy="3886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800600" y="1447920"/>
            <a:ext cx="3429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4419360" cy="4419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952880" y="1143000"/>
            <a:ext cx="3429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8001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0773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2296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153280" cy="762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33520" y="609480"/>
            <a:ext cx="8130960" cy="101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43 year-old man with an acutely swollen leg is exam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t a medical clini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848720" y="1600200"/>
            <a:ext cx="4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3520" y="2362320"/>
            <a:ext cx="8153280" cy="685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676520" y="3048120"/>
            <a:ext cx="5715000" cy="2679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3520" y="3048120"/>
            <a:ext cx="1143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3048120"/>
            <a:ext cx="13716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858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6197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7848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80773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10T16:36:13Z</dcterms:modified>
  <cp:revision>215</cp:revision>
  <dc:subject/>
  <dc:title>Slide 1</dc:title>
</cp:coreProperties>
</file>