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219E-D177-4432-99C5-386686EB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EF0-786C-4BCE-A969-A26F0523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0E3-83E2-4B92-BF64-60D8E8D4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97B9-5E9E-4B2D-8E26-6526CED7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3A91-B219-41B9-B729-6B634E3B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978-B7CC-4AB4-962E-86467AC6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0BE-BB60-4CA3-A8EE-8A9A444E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2B1B-7338-4CC6-AEF4-67DE8D22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1744-CAD3-47E7-A6FB-10CE2180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3C6A-4447-4753-B190-308EA1BD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758-7640-4353-AFCE-3DF785CE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8DC-358D-4D7A-BAF1-466B8A76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2320-E456-4679-8EC0-6AA13F95C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Analysis Options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or Contro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129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2971800"/>
            <a:ext cx="6705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7924680" cy="1162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7924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924680" cy="1162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92468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7924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924680" cy="2133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924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9480" y="2743200"/>
            <a:ext cx="792504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5800" y="3809880"/>
            <a:ext cx="7848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7924680" cy="99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7924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924680" cy="99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924680" cy="19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62120" y="3657600"/>
            <a:ext cx="7924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162920" cy="2133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43000" y="1371600"/>
            <a:ext cx="7162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Another Analysis Op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7162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4724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66680" y="5257800"/>
            <a:ext cx="73152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053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4070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4800600"/>
            <a:ext cx="7315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43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46748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467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149960" cy="1066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716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149960" cy="1066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7162920" cy="762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914400" y="2768760"/>
            <a:ext cx="71629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467480" cy="1175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7467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467480" cy="1174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467480" cy="1295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62120" y="3124080"/>
            <a:ext cx="7467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01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01000" cy="3124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8001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7238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924680" cy="2819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85800" y="2514600"/>
            <a:ext cx="7924680" cy="99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19920" y="5486400"/>
            <a:ext cx="20066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924680" cy="3035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92468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" y="2514600"/>
            <a:ext cx="792468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562720" y="4572000"/>
            <a:ext cx="2819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924680" cy="3651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7924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86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086600" cy="2133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7086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67816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14:24:34Z</dcterms:modified>
  <cp:revision>43</cp:revision>
  <dc:subject/>
  <dc:title>PowerPoint Presentation</dc:title>
</cp:coreProperties>
</file>