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510-3CDF-49DC-834E-FC120D0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53C-5915-49A3-ACAD-269E5B03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B78-E514-4358-9EBA-B6F00E56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4C4-CCE2-4D57-BAC7-6059958F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FE8-C95A-4880-87C1-B2B8901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D70-74D9-43D3-A26E-BD4D5A6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CE7-2CE2-4F95-8C60-1B4B83B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0AE-9EAA-4122-82D1-1F62FB8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53F-F7D4-4723-A0CF-B17C214E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0A5-BC4C-417A-950A-04624C9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9D3-4D31-46B2-AD6B-ECFB22A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BB1-30AE-4CB9-8711-45C2EB3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094-71C2-4383-A1FA-2EBECEFB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ics of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8153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55:24Z</dcterms:modified>
  <cp:revision>43</cp:revision>
  <dc:subject/>
  <dc:title>PowerPoint Presentation</dc:title>
</cp:coreProperties>
</file>