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AF1-4B36-44BA-9ABE-2DC9EFA5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A6C-DF01-4002-8A4F-3F771DB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AA9-410F-47DA-847A-B6018BC2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A52-4AB5-4532-87AD-145C4D5D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E46-5CD1-41B9-B948-8BB67C3C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3C4-CEEB-4E84-9B2B-35BF74A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0E7-8765-42C8-B55F-D9AC8130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911-E8EA-49DF-89E8-E1EF081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A21-27C2-46B2-8789-ED3F200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2DB-74E8-440E-8F2E-FB9475A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5FE-66B2-479C-BDC1-6B60E9A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9F3-16E0-4F8F-A433-8B92F4F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A6E-3ACA-4219-A050-C053EB20F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762120" y="6858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4572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914400" y="18288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74"/>
          <a:stretch/>
        </p:blipFill>
        <p:spPr>
          <a:xfrm>
            <a:off x="914400" y="9907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5:35:12Z</dcterms:modified>
  <cp:revision>42</cp:revision>
  <dc:subject/>
  <dc:title>PowerPoint Presentation</dc:title>
</cp:coreProperties>
</file>