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CA72-2E10-4346-932B-48AF269B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62D-C1FC-4D2F-B0F0-DF520321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4C00-F486-485E-B0A9-B05F9D04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6527-F103-42BA-BD23-AE8CC459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692-D2FC-4B05-BC10-43D62275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62F8-1D64-408E-9131-522D4F10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F2E-F21F-47FB-A380-598298A4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ED3D-2865-4242-BD86-F1585306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3CFB-B362-4802-B87D-420D9FB0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7E31-516F-424F-A534-56EE1958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BC5D-04BF-4791-A801-D6B50171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72FA-2D51-4DA0-8659-B52F801A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D55F-9F9D-4040-835F-FA574B5C9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Design and Analysis of Matched D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20520" y="3505320"/>
            <a:ext cx="6494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Presenter: DAVID G. KLEINBAU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Dept. of Epidemi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Rollins School of Public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Emory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Atlanta, 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2080" y="1752480"/>
            <a:ext cx="818316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All 15 Chapters (Lessons) Complete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Golden Master CD sent to Publisher-  May 15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ActivEpi Companion Text- to be completed June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Purchase Price of CD- approx $US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Purchase Price of Companion Text:  approx $US 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Availability for Purchase: September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9480" y="1066680"/>
            <a:ext cx="35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CURRENT STAT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INTRODUCTION </a:t>
            </a:r>
            <a:br>
              <a:rPr sz="4400"/>
            </a:b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AND </a:t>
            </a:r>
            <a:br>
              <a:rPr sz="4400"/>
            </a:b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DEFINITION OF MAT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28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CHING ?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Design Option for the Control of Extraneous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657240"/>
            <a:ext cx="6781680" cy="205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erimental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servational Cohort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servational Case-Control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3920" y="192096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74320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873920" cy="4040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8305920" cy="1384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18"/>
                </a:solidFill>
                <a:latin typeface="Times New Roman"/>
              </a:rPr>
              <a:t>Part 0: ACTIVEPI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 MULTIMEDIA CD ROM</a:t>
            </a:r>
            <a:br>
              <a:rPr sz="3600"/>
            </a:b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COURSE ON  FUNDAMENTALS OF EPIDEMI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924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Times New Roman"/>
              </a:rPr>
              <a:t>OUTLINE: MATCHING IN EPIDEMIOLOGIC RESEARCH (Part 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Definition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Types of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Matching Rat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Reasons for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Reasons Against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To Match or Not to Match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Times New Roman"/>
              </a:rPr>
              <a:t>MATCHING OUTLINE continued</a:t>
            </a:r>
            <a:br>
              <a:rPr sz="3600"/>
            </a:br>
            <a:r>
              <a:rPr b="1" lang="en-US" sz="3600" spc="-1" strike="noStrike">
                <a:solidFill>
                  <a:srgbClr val="ffcc18"/>
                </a:solidFill>
                <a:latin typeface="Times New Roman"/>
              </a:rPr>
              <a:t>(Part 2- ANALYSI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Options and General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Pair-Matched Case-Contro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R-to-1 Matched Case-Contro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Frequency-match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Logistic Regression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Pair-Matched Cohor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Times New Roman"/>
              </a:rPr>
              <a:t>MATCHING OUTLINE continued</a:t>
            </a:r>
            <a:br>
              <a:rPr sz="3600"/>
            </a:br>
            <a:r>
              <a:rPr b="1" lang="en-US" sz="3600" spc="-1" strike="noStrike">
                <a:solidFill>
                  <a:srgbClr val="ffcc18"/>
                </a:solidFill>
                <a:latin typeface="Times New Roman"/>
              </a:rPr>
              <a:t>(Part 3- OTHER ISSU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Pooling Exchangeable Matched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Assessing Interaction For Matched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Breaking the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Ignoring the Matc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Anything els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Times New Roman"/>
              </a:rPr>
              <a:t>COURSE PREREQUISITES</a:t>
            </a:r>
            <a:br>
              <a:rPr sz="3600"/>
            </a:br>
            <a:r>
              <a:rPr b="1" lang="en-US" sz="3600" spc="-1" strike="noStrike">
                <a:solidFill>
                  <a:srgbClr val="ffcc18"/>
                </a:solidFill>
                <a:latin typeface="Times New Roman"/>
              </a:rPr>
              <a:t>(HOPEFULL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Times New Roman"/>
              </a:rPr>
              <a:t>Basic principles and methods of epidemiology</a:t>
            </a: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18c6"/>
                </a:solidFill>
                <a:latin typeface="Times New Roman"/>
              </a:rPr>
              <a:t>(e.g., study designs,  measures of disease frequency and effect, confounding, effect mod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Times New Roman"/>
              </a:rPr>
              <a:t>Basic principles and methods of bio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18c6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4618c6"/>
                </a:solidFill>
                <a:latin typeface="Times New Roman"/>
              </a:rPr>
              <a:t>(e.g., standard error, tests of hypothesis, confidence intervals, P-v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Times New Roman"/>
              </a:rPr>
              <a:t>Some background in logistic regression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18c6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4618c6"/>
                </a:solidFill>
                <a:latin typeface="Times New Roman"/>
              </a:rPr>
              <a:t>(e.g., the model form, the logit function, odds ratio estim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Times New Roman"/>
              </a:rPr>
              <a:t>Some experience with computer 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18c6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4618c6"/>
                </a:solidFill>
                <a:latin typeface="Times New Roman"/>
              </a:rPr>
              <a:t>(e.g., SAS, STATA, SP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5000" y="1920960"/>
            <a:ext cx="23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7432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A CD-ROM MULTIMED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LEARNER-INTERACTIVE COURSE ON FUNDAMENTALS OF EPIDEMI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18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cc18"/>
                </a:solidFill>
                <a:latin typeface="Times New Roman"/>
              </a:rPr>
              <a:t>(FOR WINDOWS AND M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7520" y="1920960"/>
            <a:ext cx="40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WHO DEVELOPED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2743200"/>
            <a:ext cx="7010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DAVID G. KLEINBAUM- AUTH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DATA DESCRIPTION (Ithaca, NY)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MEDIA 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SPRINGER-VERLAG- PUBLIS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18c6"/>
                </a:solidFill>
                <a:latin typeface="Times New Roman"/>
              </a:rPr>
              <a:t>Course outline covers topics in most      intro epi texts </a:t>
            </a:r>
            <a:r>
              <a:rPr b="0" lang="en-US" sz="2400" spc="-1" strike="noStrike">
                <a:solidFill>
                  <a:srgbClr val="4618c6"/>
                </a:solidFill>
                <a:latin typeface="Times New Roman"/>
              </a:rPr>
              <a:t>(e.g., Kleinbaum, Kupper, &amp; Morgenstern, Rothman-Greenland, Kels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18c6"/>
                </a:solidFill>
                <a:latin typeface="Times New Roman"/>
              </a:rPr>
              <a:t>Chapter Topics </a:t>
            </a:r>
            <a:r>
              <a:rPr b="0" lang="en-US" sz="2400" spc="-1" strike="noStrike">
                <a:solidFill>
                  <a:srgbClr val="4618c6"/>
                </a:solidFill>
                <a:latin typeface="Times New Roman"/>
              </a:rPr>
              <a:t>(e.g., Measures of Disease Frequency, Measures of Effect, Confounding)</a:t>
            </a:r>
            <a:r>
              <a:rPr b="0" lang="en-US" sz="3200" spc="-1" strike="noStrike">
                <a:solidFill>
                  <a:srgbClr val="4618c6"/>
                </a:solidFill>
                <a:latin typeface="Times New Roman"/>
              </a:rPr>
              <a:t> are called “Lesson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18c6"/>
                </a:solidFill>
                <a:latin typeface="Times New Roman"/>
              </a:rPr>
              <a:t>15 Lessons, each with several “Activiti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a800"/>
                </a:solidFill>
                <a:latin typeface="Times New Roman"/>
              </a:rPr>
              <a:t>(NOTE: LESSON 15- MATC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6800" y="99072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HOW ORGANIZ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3T13:18:39Z</dcterms:modified>
  <cp:revision>107</cp:revision>
  <dc:subject/>
  <dc:title>The Art in the State of the Art</dc:title>
</cp:coreProperties>
</file>