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CCE9-4CC4-4338-A9D5-02E44025A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4638-C7AC-4DB4-B1E2-BF3B3DC8B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D184-151C-419C-9ACF-DBC600536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8502-7AAA-4F4C-9ABA-6F68CC07A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3A11-1131-411E-85DD-86CE84126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F786-AAFF-4D38-B85A-5B3EEC1AC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D2BC-8DD2-4EBF-BDAB-9723AFEE6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1D22-A6CF-46B1-AF72-DEFB60662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D477-109B-455C-9EFA-B11EFD567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2934-1628-458C-8DBE-C05213B4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A983-AC1C-4C59-9CBC-F0FA5267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F6B3-5CE6-41A8-9C27-B1FCA5AE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06F8B-8B03-439B-8B4B-9C473E1ADAB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4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36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3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880" y="1752480"/>
            <a:ext cx="6150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Quantitatively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Assessing Bia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in the Risk Ratio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315200" cy="38098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914400" y="4952880"/>
            <a:ext cx="7315200" cy="6318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819520" y="4800600"/>
            <a:ext cx="30456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990720" y="4038480"/>
            <a:ext cx="7315200" cy="6318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990720" y="533520"/>
            <a:ext cx="7315200" cy="35049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990720" y="4648320"/>
            <a:ext cx="7315200" cy="14475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895480" y="388620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066680" y="4800600"/>
            <a:ext cx="7315200" cy="657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066680" y="990720"/>
            <a:ext cx="73152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7315200" cy="29718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143000" y="3657600"/>
            <a:ext cx="7315200" cy="657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143000" y="4267080"/>
            <a:ext cx="731520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620120" cy="4648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914400" y="5562720"/>
            <a:ext cx="2133720" cy="7617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6248520" y="5562720"/>
            <a:ext cx="2286000" cy="7617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971800" y="5638680"/>
            <a:ext cx="3276720" cy="581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rresponds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95480" y="5410080"/>
            <a:ext cx="350532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6172200"/>
            <a:ext cx="327672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4678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62120" y="3429000"/>
            <a:ext cx="7696080" cy="27050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62120" y="533520"/>
            <a:ext cx="76960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20120" cy="29718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838080" y="3581280"/>
            <a:ext cx="7620120" cy="6098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838080" y="4191120"/>
            <a:ext cx="7620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620120" cy="36576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838080" y="4800600"/>
            <a:ext cx="7620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20120" cy="32767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838080" y="3962520"/>
            <a:ext cx="7620120" cy="7617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838080" y="4724280"/>
            <a:ext cx="762012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43000" y="3048120"/>
            <a:ext cx="6629400" cy="12189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143000" y="1447920"/>
            <a:ext cx="6629400" cy="1630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cb017"/>
                </a:solidFill>
                <a:latin typeface="Times New Roman"/>
              </a:rPr>
              <a:t>     </a:t>
            </a:r>
            <a:r>
              <a:rPr b="1" lang="en-US" sz="4000" spc="-1" strike="noStrike">
                <a:solidFill>
                  <a:srgbClr val="66ccff"/>
                </a:solidFill>
                <a:latin typeface="Times New Roman"/>
              </a:rPr>
              <a:t>Selection bias in th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Times New Roman"/>
              </a:rPr>
              <a:t>        </a:t>
            </a:r>
            <a:r>
              <a:rPr b="1" lang="en-US" sz="4000" spc="-1" strike="noStrike">
                <a:solidFill>
                  <a:srgbClr val="66ccff"/>
                </a:solidFill>
                <a:latin typeface="Times New Roman"/>
              </a:rPr>
              <a:t>Risk Ratio (RR) 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038480" y="4267080"/>
            <a:ext cx="3733920" cy="1219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143000" y="4267080"/>
            <a:ext cx="2895480" cy="1219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886200" y="4495680"/>
            <a:ext cx="2286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7619760" cy="3809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90720" y="4952880"/>
            <a:ext cx="761976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7619760" cy="2819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990720" y="3124080"/>
            <a:ext cx="7619760" cy="8384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990720" y="3962520"/>
            <a:ext cx="761976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62120" y="4495680"/>
            <a:ext cx="7619760" cy="10573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762120" y="685800"/>
            <a:ext cx="76197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838080" y="2743200"/>
            <a:ext cx="7620120" cy="10573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838080" y="304920"/>
            <a:ext cx="7620120" cy="2438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838080" y="3809880"/>
            <a:ext cx="76201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6858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6858000" cy="25146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219320" y="3962520"/>
            <a:ext cx="685800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38080" y="3276720"/>
            <a:ext cx="7620120" cy="27208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838080" y="914400"/>
            <a:ext cx="76201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19760" cy="32544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62120" y="3886200"/>
            <a:ext cx="7619760" cy="6094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62120" y="4495680"/>
            <a:ext cx="761976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7620120" cy="38098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85800" y="4952880"/>
            <a:ext cx="762012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620120" cy="3025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838080" y="3429000"/>
            <a:ext cx="7620120" cy="6350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838080" y="4038480"/>
            <a:ext cx="7620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371600" y="533520"/>
            <a:ext cx="6629400" cy="1630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cb017"/>
                </a:solidFill>
                <a:latin typeface="Times New Roman"/>
              </a:rPr>
              <a:t>     </a:t>
            </a:r>
            <a:r>
              <a:rPr b="1" lang="en-US" sz="4000" spc="-1" strike="noStrike">
                <a:solidFill>
                  <a:srgbClr val="66ccff"/>
                </a:solidFill>
                <a:latin typeface="Times New Roman"/>
              </a:rPr>
              <a:t>Selection bias in th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Times New Roman"/>
              </a:rPr>
              <a:t>        </a:t>
            </a:r>
            <a:r>
              <a:rPr b="1" lang="en-US" sz="4000" spc="-1" strike="noStrike">
                <a:solidFill>
                  <a:srgbClr val="66ccff"/>
                </a:solidFill>
                <a:latin typeface="Times New Roman"/>
              </a:rPr>
              <a:t>Risk Ratio (RR) 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371600" y="3200400"/>
            <a:ext cx="6629400" cy="3048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895480" y="2130480"/>
            <a:ext cx="3505320" cy="1069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371600" y="2133720"/>
            <a:ext cx="1523880" cy="1066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6324480" y="2057400"/>
            <a:ext cx="16765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19760" cy="4572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762120" y="5257800"/>
            <a:ext cx="76197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620120" cy="34066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838080" y="3809880"/>
            <a:ext cx="762012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838080" y="4419720"/>
            <a:ext cx="76201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38080" y="5181480"/>
            <a:ext cx="7620120" cy="9493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838080" y="609480"/>
            <a:ext cx="7620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7620120" cy="9493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85800" y="457200"/>
            <a:ext cx="7620120" cy="34066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685800" y="4724280"/>
            <a:ext cx="76201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838080" y="5029200"/>
            <a:ext cx="7620120" cy="8380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838080" y="3809880"/>
            <a:ext cx="7620120" cy="8384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838080" y="457200"/>
            <a:ext cx="7620120" cy="34066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838080" y="4648320"/>
            <a:ext cx="7620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772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66680" y="3581280"/>
            <a:ext cx="7315200" cy="26672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066680" y="762120"/>
            <a:ext cx="731520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315200" cy="2590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838080" y="3276720"/>
            <a:ext cx="7315200" cy="549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362320" y="2895480"/>
            <a:ext cx="22860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3276720" y="2971080"/>
            <a:ext cx="30456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5028840" y="2971800"/>
            <a:ext cx="228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838080" y="3809880"/>
            <a:ext cx="7315200" cy="1854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 flipH="1">
            <a:off x="2514240" y="327672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327672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29200" y="327672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315200" cy="33530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990720" y="4876920"/>
            <a:ext cx="73152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315200" cy="27432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066680" y="3657600"/>
            <a:ext cx="73152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066680" y="4267080"/>
            <a:ext cx="73152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315200" cy="35053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066680" y="4419720"/>
            <a:ext cx="731520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7315200" cy="22100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143000" y="2590920"/>
            <a:ext cx="7315200" cy="838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1143000" y="3429000"/>
            <a:ext cx="73152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23T15:10:15Z</dcterms:modified>
  <cp:revision>214</cp:revision>
  <dc:subject/>
  <dc:title>Slide 1</dc:title>
</cp:coreProperties>
</file>