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D80-8F78-473A-A757-0EB17759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09A-BAFC-4C35-BC4E-8F1F39B3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668-B071-474C-BB0F-813274AC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68A-83ED-4BFC-9320-5428C15E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8CA-27BB-4C57-8AAA-39E4C78D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946-BD81-458B-BA3C-6A192940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C8A-EE27-42C6-8756-B5622285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3E9-E46D-4405-873F-C3E75B85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D96-BAD9-42BB-977E-920A58AC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848-0715-4E50-ACE3-6818B56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CAC-1BC0-42FA-99E1-C3FAAFB7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4F5-A00A-4D88-8727-D846100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4F2D-BFD2-4759-92A7-B961AE90D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for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hort Stu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7C9-8623-4DE4-95B2-B94CFDB1D5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CF1-76E6-461F-88DD-560BE38870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hi Square Test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848-5530-4A3B-9B38-54F3DBBABC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629400" y="5181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72560" y="5348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467480" y="5257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391520" y="51055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FDE-1E95-4147-958A-7D89B5935E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81680" y="541008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0E5-4C95-431F-BEA7-E88634397A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16256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3526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366-3DA3-461C-A609-93A2CDB2C2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806-F916-4779-A39B-878CC6F132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111-2BB7-4D15-A7F3-9A51237321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60282" r="0" b="0"/>
          <a:stretch/>
        </p:blipFill>
        <p:spPr>
          <a:xfrm>
            <a:off x="685800" y="4343400"/>
            <a:ext cx="7696080" cy="2209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9480" y="388620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i square test should be significant because Z test is significa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83280" y="4876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14" r="0" b="39733"/>
          <a:stretch/>
        </p:blipFill>
        <p:spPr>
          <a:xfrm>
            <a:off x="685800" y="380880"/>
            <a:ext cx="7772400" cy="3353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rcRect l="46540" t="89050" r="45552" b="0"/>
          <a:stretch/>
        </p:blipFill>
        <p:spPr>
          <a:xfrm>
            <a:off x="5105520" y="487692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F15-BDB4-49EB-A1C0-964C967EAE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4400" y="914400"/>
            <a:ext cx="457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But there is a problem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5105520"/>
            <a:ext cx="77882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values of a chi square statistic that might indica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result can occur from either large positiv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negative values of the normal statistic</a:t>
            </a: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28287" t="22224" r="44451" b="61910"/>
          <a:stretch/>
        </p:blipFill>
        <p:spPr>
          <a:xfrm>
            <a:off x="4343400" y="3733920"/>
            <a:ext cx="2057400" cy="761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00800" y="3657600"/>
            <a:ext cx="12193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5A2-30F0-4A1C-898D-493C7F5F02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2120" y="5715000"/>
            <a:ext cx="7086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way  to compute P-value:   Use Z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A69-539E-4DB9-8DEF-1FF05DB0BC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Z Test for RR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rom 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hort Stud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790-DC82-472F-A719-717F50380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2120" y="5181480"/>
            <a:ext cx="746748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 way to compute P value: Divide the area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ail of the chi square distribution in ha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A11-6376-47F2-AC5E-9927058F08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9865" r="0" b="0"/>
          <a:stretch/>
        </p:blipFill>
        <p:spPr>
          <a:xfrm>
            <a:off x="838080" y="1219320"/>
            <a:ext cx="7620120" cy="487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32040" y="1176480"/>
            <a:ext cx="5436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Symbol"/>
                <a:ea typeface="Symbol"/>
              </a:rPr>
              <a:t>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68580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Two-si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31005" b="90149"/>
          <a:stretch/>
        </p:blipFill>
        <p:spPr>
          <a:xfrm>
            <a:off x="838080" y="685800"/>
            <a:ext cx="525780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19920" y="685800"/>
            <a:ext cx="236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326-0EDB-4D27-8F9D-9700200A52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1828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One-si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495-E750-4BF6-8E4E-3BBE79FF9F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355-94B7-4ACC-850F-A4B66A57CF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C28-2DE1-4984-8336-B435D9C11F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isher’s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xact Test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279-CC3B-48AE-A33D-68CED047D9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4496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4800600"/>
            <a:ext cx="754380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F40-9411-4DDD-9349-2232FDB56C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7543800" cy="11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7CF-FD8A-4FF7-A422-CEF6331F0A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1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C05-4A2E-45F3-BEA8-09E721FED1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8720" y="5257800"/>
            <a:ext cx="736956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know the frequency in the a-cell you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 the frequencies in the other 3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7A1-BD7E-4413-B6C3-E49858B6E7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80F-0715-433A-A292-FCF7FBC8D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350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0CA-E9F2-4E0F-8E1E-C3BBFD25D5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9B8-6110-4126-917A-166A735665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6272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If y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27B-A5B7-49C2-954D-43128C0895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F66-8439-4EE2-82E8-05430EEA84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F8E-E686-4B7B-A868-2BA5087719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218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EA9-83EB-4882-B0C9-3D8C2D30CD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E75-01DB-4716-8267-D9C229C4E1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Mantel-Haenszel Test-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 Version of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isher’s Exact T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678-9522-4075-9041-708EBAE903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2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267080" cy="838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4792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47920" y="3962520"/>
            <a:ext cx="1828800" cy="761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55308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638680" y="3962520"/>
            <a:ext cx="2057400" cy="761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447920" y="4724280"/>
            <a:ext cx="46980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7238880" y="4724280"/>
            <a:ext cx="4572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9CA-C47E-4747-A919-BCB5CE4A2C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43000" y="808200"/>
            <a:ext cx="6858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C83-B1E5-42D5-9E03-02C4AC0914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77240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3352680"/>
            <a:ext cx="266724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972-5BD4-4B5E-B407-1B22B49613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351000"/>
            <a:ext cx="7238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5943600" cy="243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781680" y="4495680"/>
            <a:ext cx="160020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05F-3C7E-48AD-956E-9A601354DDA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5E3-306D-4E7E-97F5-53E76225CE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87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1EA-4261-42D6-A5E7-3D4C5605E6C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5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D38-D197-4A6F-B8E1-A7AE7BC14FE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486400" y="4876920"/>
            <a:ext cx="2895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(Previous 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Sample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E6B-2C34-46E8-83E5-B2CB0B16E87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1E4-412D-48E2-A5D9-80E3EB1B1EC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2A4-55AE-420B-BA1B-0D31A77568B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25E-2FFC-44E5-AD32-7D1A9ADDE09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907-5640-47C5-A2A2-C3D322953BA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253-C268-4483-8E4C-3AEBC3099A0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5D9-9F59-467B-86FC-E29A815567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E91-28B1-4CF8-A20A-D08E7BF5096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622600"/>
            <a:ext cx="7543800" cy="2940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411-B642-4F35-A0A1-8E92EE98CF3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9644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7696440" cy="1676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228600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396252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AAC-2307-4053-A985-0DC7F0D3E45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79C8-3856-4C50-9DFA-C7A003E9C5B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C23-2912-4761-97F4-318F597EB0A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32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162560" cy="243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750-BAAE-4172-AD6D-A057B15891C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55308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963-C8D5-4763-950A-C175188F8D2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1904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620120" cy="152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761976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6DA-AEE3-494A-AB17-DABA808AB00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04B-3E58-49AB-980F-5149EF62754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A6D-03B9-48FF-83B3-3A5769B81F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26708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336920" y="3200400"/>
            <a:ext cx="412128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267080" y="3886200"/>
            <a:ext cx="30492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381880" y="533520"/>
            <a:ext cx="4572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914400" y="4419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44F-6FF6-4078-AF6A-148A2C90C7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43600" cy="316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1187280"/>
            <a:ext cx="5943600" cy="83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0AE-79C3-4101-B0BA-1E78877761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3FF-4DE4-4E80-8C8B-ECB679D28F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20:07:00Z</dcterms:modified>
  <cp:revision>197</cp:revision>
  <dc:subject/>
  <dc:title>Slide 1</dc:title>
</cp:coreProperties>
</file>