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FFE-D40D-4C77-95D8-D09E4179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82E-5143-4F18-AF2F-E5C7B04D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6C8-718A-4FE9-B30F-E1147179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B0D-A54E-420A-A28C-FD37FE91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DEE-2673-4EF3-B363-0B902EE9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25A-AB7F-414A-A1B6-E90BD92C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A01-EADB-4CC3-A5D9-EAAD7D1B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CC5-2A42-42F2-BD0F-E9DF7793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460-AFF4-42CE-80C1-E07A3CEE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910-56A0-4595-8E56-46D6CD8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E31-C4C4-4F50-9F2D-C0416885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060-4D56-4F5F-95C7-E01803A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167-C966-4FA4-A95A-CA87E0ACA9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7280" y="1447920"/>
            <a:ext cx="284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3396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8640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334120"/>
            <a:ext cx="914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241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3809880"/>
            <a:ext cx="1371600" cy="762120"/>
          </a:xfrm>
          <a:prstGeom prst="rect">
            <a:avLst/>
          </a:pr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17Z</dcterms:modified>
  <cp:revision>189</cp:revision>
  <dc:subject/>
  <dc:title>Slide 1</dc:title>
</cp:coreProperties>
</file>