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1CC-954C-4346-81B9-A788CCBE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E3A-2E87-44BE-B33D-F950F67C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0FA-3128-4639-B1A0-E0240FAE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58B-584C-4D37-8F74-6CCF4C4A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B3F-E8B2-4339-92AE-F8048EAF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B39-D159-4CC5-AF69-7C505D84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8B0-D844-4A0E-B982-35D458F3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4D2-20AA-4A1A-950B-7C616BD6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7B6-AE75-4AD3-86C8-9EF85008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BAF-ADEA-4C43-94E9-F8E1475C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41E-A9F5-460B-8785-F0186477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386-F30F-4AC6-B5DE-38D0579F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158E-9624-45D5-B91B-0D646B925E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9840" y="1219320"/>
            <a:ext cx="6833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Rotterdam Study Examp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3915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0" y="4800600"/>
            <a:ext cx="1447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14400" y="487692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6934320" cy="3610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6934320" cy="1904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76720" y="4038480"/>
            <a:ext cx="2057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5562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93432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693432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14600" y="4572000"/>
            <a:ext cx="5562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2767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5334120"/>
            <a:ext cx="701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4495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0" y="624852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467840" cy="3352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86600" y="502920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5257800"/>
            <a:ext cx="7467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6292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162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01028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7010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73915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391520" cy="35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5638680"/>
            <a:ext cx="1447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0:38Z</dcterms:modified>
  <cp:revision>216</cp:revision>
  <dc:subject/>
  <dc:title>Slide 1</dc:title>
</cp:coreProperties>
</file>