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3A7-DF5C-46D5-876E-99377109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FE4-32CC-45F0-A69B-3D07F8CB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58E-E594-4335-9A2C-2BB5CB1A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D35-9ADA-4E25-9020-51E36DB4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CA9-4E7C-4A00-84F5-C461BF2B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D62-2AA9-4F52-9CED-55070C3A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930-4B87-4A81-9747-3A197ED3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CE1-D68B-4AB7-8845-70D8B840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D8D-5669-4C4C-B188-2EBE1AE9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CB6-761C-4643-9844-2564EC3F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DA6-96CB-4AE5-A206-BC387BF7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540-0CAB-49A5-8155-32711ACE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624C-9361-44BE-BFB1-B6C87E8E6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idence Interval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R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327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1625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553080" cy="243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553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190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620120" cy="1523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7620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2622600"/>
            <a:ext cx="7543800" cy="2940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543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696080" cy="2133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3124080"/>
            <a:ext cx="76960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equivalen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769644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69644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8080" y="609480"/>
            <a:ext cx="7696440" cy="1676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2286000"/>
            <a:ext cx="7696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equivalen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962520"/>
            <a:ext cx="7696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1:24:58Z</dcterms:modified>
  <cp:revision>41</cp:revision>
  <dc:subject/>
  <dc:title>PowerPoint Presentation</dc:title>
</cp:coreProperties>
</file>