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0945-46E6-4708-A376-76FC35660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4AEA-943D-478D-A00C-BF741B42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B202-A5E3-44D5-8BAE-542FED587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7313-43CE-4BC4-A974-AC7863E15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7A50-D5AA-4789-A0D6-C6E5D74E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A0D7-914D-48B2-A65A-9E2EE548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3AC6-449C-416F-9F1B-5DE157B4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BBB5-E2F9-4EDE-95AC-D2832B6B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23AB-AB6C-4BB1-B1EC-54DEC899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2248-E6D3-436B-BDA9-46CB38C9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2C61-AC22-47F8-9A05-1C6D64F0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54EC-4BB8-4850-8B1C-F2D13D78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3553-A48D-42FC-846D-730A07DB5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HYBRID DESIGNS</a:t>
            </a: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238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911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010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0866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7086600" cy="4395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219320" y="5105520"/>
            <a:ext cx="708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239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9339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14440" y="914400"/>
            <a:ext cx="8629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1f1d"/>
                </a:solidFill>
                <a:latin typeface="Times New Roman"/>
              </a:rPr>
              <a:t>Hybrid Designs</a:t>
            </a: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 combine the elements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at least two basic designs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                           </a:t>
            </a: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extend the strategy of one basic desig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through repeti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5120" y="4191120"/>
            <a:ext cx="7269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Two popular hybrid designs are the</a:t>
            </a:r>
            <a:r>
              <a:rPr b="1" lang="en-US" sz="3600" spc="-1" strike="noStrike">
                <a:solidFill>
                  <a:srgbClr val="ef1f1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1f1d"/>
                </a:solidFill>
                <a:latin typeface="Times New Roman"/>
              </a:rPr>
              <a:t>case-cohort study </a:t>
            </a: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and the</a:t>
            </a:r>
            <a:r>
              <a:rPr b="1" lang="en-US" sz="3600" spc="-1" strike="noStrike">
                <a:solidFill>
                  <a:srgbClr val="ef1f1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1f1d"/>
                </a:solidFill>
                <a:latin typeface="Times New Roman"/>
              </a:rPr>
              <a:t>nested case-control study</a:t>
            </a: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038480"/>
            <a:ext cx="7772400" cy="2133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12360" y="1143000"/>
            <a:ext cx="801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1f1d"/>
                </a:solidFill>
                <a:latin typeface="Times New Roman"/>
              </a:rPr>
              <a:t>Incomplete Desig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are studies in which information 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missing on one or more relevant fact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6080" y="3352680"/>
            <a:ext cx="799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Two typ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a800"/>
                </a:solidFill>
                <a:latin typeface="Times New Roman"/>
              </a:rPr>
              <a:t>Ecologic Desig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b01bf5"/>
                </a:solidFill>
                <a:latin typeface="Times New Roman"/>
              </a:rPr>
              <a:t>Proportional (Morbidity or Mortality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01bf5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b01bf5"/>
                </a:solidFill>
                <a:latin typeface="Times New Roman"/>
              </a:rPr>
              <a:t>Desig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3352680"/>
            <a:ext cx="7924680" cy="2438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69343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086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8077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010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23924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162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34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4876920"/>
            <a:ext cx="2235240" cy="1066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1066680"/>
            <a:ext cx="7315200" cy="3822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971800" y="4876920"/>
            <a:ext cx="510552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1536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105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70880" y="22716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iwan Stu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23888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16256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1-13T17:52:26Z</dcterms:modified>
  <cp:revision>111</cp:revision>
  <dc:subject/>
  <dc:title>The Art in the State of the Art</dc:title>
</cp:coreProperties>
</file>