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2687-4DE7-4C0E-8880-25B5E687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2697-F9B0-4B39-AC5F-F02CAFCE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C6BA-CF3B-4402-8E48-2B3C4EF7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008B-55D5-497D-A010-C95B6871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C6B-BE2D-4D1F-86FF-58AC8F8F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2715-A94E-4504-BBF6-5B05F364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062-6E8D-477E-8442-6E32E1BA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07BD-1D62-480A-8B7C-81064EC2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173A-3A66-4C10-B71F-B855620F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DD3-A1E9-4FB1-8F6B-081B6C9A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2904-27F5-4BF2-AF71-D14A404B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D993-1AB5-463E-B649-C4B6766C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66C5-2694-4F17-90B6-E69A2C186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Interpreting a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idence Interv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315200" cy="3181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066680" y="4267080"/>
            <a:ext cx="73152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888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8880" cy="2412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905120" y="4038480"/>
            <a:ext cx="4876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781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78168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705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9339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6934320" cy="2819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6858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0" y="5562720"/>
            <a:ext cx="1447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309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7467840" cy="1371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4880" y="5257800"/>
            <a:ext cx="82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 we interpret this confidence interva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7724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31520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731520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14400" y="4572000"/>
            <a:ext cx="7315200" cy="1828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20160" y="1905120"/>
            <a:ext cx="128880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i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20160" y="4038480"/>
            <a:ext cx="56628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72200" y="25290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64360" y="46483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8580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543800" cy="1917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7543800" cy="1130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7543800" cy="1562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85800" y="3733920"/>
            <a:ext cx="7543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00:04:03Z</dcterms:modified>
  <cp:revision>46</cp:revision>
  <dc:subject/>
  <dc:title>PowerPoint Presentation</dc:title>
</cp:coreProperties>
</file>