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2D7-F9F5-4B38-8D60-18531D75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A35-04C7-4173-9AD0-5B2E9F53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6BD-771D-4AA2-A18B-AB21DDF0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1E1-FEEB-4161-9917-6BC55A62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8DE-2A6B-4080-86D3-EC98EA3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CDB-F80A-4339-90FE-1769A7F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3D1-69E4-4D59-91E7-2F9CDE83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493-52A8-491C-BC28-CE85358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56E-A1E9-47E2-BEAB-01984AE8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97B-4790-40BE-B6DC-30EA094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7FA-651F-4ABD-BE74-093D464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157-0277-446D-B606-3B57D15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A78F-2A63-456F-AFDA-625C69877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andomiz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391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388620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739116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90920" y="297180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581280"/>
            <a:ext cx="739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39152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391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With randomization, you hope that the distribution o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variables are distributed similarly in the groups being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5:03:46Z</dcterms:modified>
  <cp:revision>43</cp:revision>
  <dc:subject/>
  <dc:title>PowerPoint Presentation</dc:title>
</cp:coreProperties>
</file>