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D1D-9C08-46AF-A5D2-12C4CD59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565-506E-432B-982C-666FE975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950-A2BA-46E0-AEF4-8D769A9D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143-36A8-45CB-8EF7-81E03935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53F-5EC5-414A-8DC8-A3CAB450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FDD-0EBE-443A-B8F8-F6BF1CF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C8D-5A51-4CD2-B5D8-5A226CDD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BB6-BDB7-4293-9EF6-E55A629D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716-FFA9-4D98-BF61-9E3DD56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9D9-256F-4B62-8F07-2468658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AC8-8861-4184-9034-B2CA923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0A6-F06C-40B6-9D53-811193F5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E625-00AA-4D8D-AB11-561E1D00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55Z</dcterms:modified>
  <cp:revision>110</cp:revision>
  <dc:subject/>
  <dc:title>The Art in the State of the Art</dc:title>
</cp:coreProperties>
</file>