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2E5-FC90-4233-847C-9253B44F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E6E-2602-41E8-863C-840B891B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5E4-20E6-4C22-8374-FE83B863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B8F-316D-4FAE-9BAF-270E99FA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594-B659-4627-915C-C43849A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71F-9AAB-4708-A462-2DB598D1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780-CEFE-426B-B7DE-4C8A751C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46F-903A-4D82-884B-2E672966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3F1-5BBD-4FF5-A347-1E0596B6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250-E378-4615-8359-4525B13A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2C1-CEB7-42F2-8545-180515A4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7B0-C118-4B73-AE60-82727037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667-BD58-4938-8160-FA1E6600B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Design Option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0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121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701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3200400" y="243828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8120" y="3581280"/>
            <a:ext cx="2971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274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29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162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086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88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46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678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3124080" y="13716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14300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r foc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63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2895480"/>
            <a:ext cx="388620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04:56:37Z</dcterms:modified>
  <cp:revision>43</cp:revision>
  <dc:subject/>
  <dc:title>PowerPoint Presentation</dc:title>
</cp:coreProperties>
</file>