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9DC-BCFD-4AD6-81C6-6B05F02B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40D-4A31-42D3-9B32-610854ED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B5A-FE6A-4A62-B8E7-88CF0119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F3D-3656-4CD7-8C68-58C3E369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97D-AB0C-41F5-A754-4FF3E097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514-64CE-4CA1-AFF6-39ECFDEC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4D8-5387-46C4-9CD0-878BF154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4C4-4DFE-4553-B061-12A88B83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DAB-44D8-448C-9B9F-8E9C0A2C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22C-6D74-4BEB-BA55-DE01910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0F0-52C6-4BA2-A6BF-0753725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A18-379C-4DA6-8803-6C6CE2A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2251-6B35-4A70-867B-4F8DCDF4E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Study De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361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784836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5715000"/>
            <a:ext cx="777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84872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" y="510552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349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5638680"/>
            <a:ext cx="777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322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7925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48720" cy="151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84872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5800" y="5943600"/>
            <a:ext cx="7848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924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27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76201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5486400"/>
            <a:ext cx="7620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201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14400" y="5562720"/>
            <a:ext cx="754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8:04Z</dcterms:modified>
  <cp:revision>103</cp:revision>
  <dc:subject/>
  <dc:title>The Art in the State of the Art</dc:title>
</cp:coreProperties>
</file>