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A77-29A5-416A-9EFF-F487B42C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ABE-4F06-486E-88FB-F530CE2B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925-8D80-4773-ABA9-9558884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32F-D898-408A-B1F9-77C82320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F41-CC53-43A7-908B-A489DE5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FF2-29B3-402F-A874-C20B237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107-C615-4415-80F8-FEAE0F26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6EC-1091-4541-92D7-8C15E42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37F-59A3-4968-90AE-68E8906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961-6FB8-4F41-A92B-CC99179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7F2-BC49-47CA-A4EC-1911985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C2C-A658-4DEA-AF0C-303C9C9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6F2E-7AFB-4D52-A822-0FC71CCB0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22096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16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81680" cy="144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467480" cy="138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760" y="2057400"/>
            <a:ext cx="712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termi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(P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335268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962520"/>
            <a:ext cx="15242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0920" y="3207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36Z</dcterms:modified>
  <cp:revision>183</cp:revision>
  <dc:subject/>
  <dc:title>Slide 1</dc:title>
</cp:coreProperties>
</file>