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1B5D-216F-4A69-82C6-82D70B97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374-C1DB-49B3-9555-443A6BBE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A6F-EF22-4D28-9BC9-9BA5D5B7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5EB-7BA8-4806-A0CB-9077D627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8A44-9DA0-4EB8-AF0C-BAE2024B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0D6-4133-49B7-93CA-B126F085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53A-F0C6-4820-91B6-992D807F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307-9546-4069-8BA3-503118FB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2E94-711D-4832-96D3-D820250B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F1B-6670-4F27-A29A-FCF827C8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0E0A-5B4D-4914-A786-E07CDB3A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2A58-1489-4EE4-B80B-E6A5D071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B152-A95F-42F5-A53F-256A7E5E9D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720" y="2209680"/>
            <a:ext cx="66135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tiologic 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e701"/>
                </a:solidFill>
                <a:latin typeface="Arial"/>
              </a:rPr>
              <a:t>Alternative Formul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20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129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362320" y="2666880"/>
            <a:ext cx="39621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38880" cy="101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76520" y="2743200"/>
            <a:ext cx="5790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71600" y="3048120"/>
            <a:ext cx="6553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696440" cy="12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3124080"/>
            <a:ext cx="6934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305560" cy="5410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4120" y="4495680"/>
            <a:ext cx="2895480" cy="1524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077320" y="4648320"/>
            <a:ext cx="761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867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781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9:44Z</dcterms:modified>
  <cp:revision>207</cp:revision>
  <dc:subject/>
  <dc:title>Slide 1</dc:title>
</cp:coreProperties>
</file>