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804-D82A-4EBC-8909-CB92E7D9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EBF-69C6-4ECF-A7DF-41B19FEB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E88-6B83-4B9E-B54E-92EC9786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E0A-24B6-4798-A6BD-F898D3FB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483-293C-4B31-B882-21AF0974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6B7-61A2-457B-9957-0179DA94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40D-DD48-4AEB-9A67-CD6C3301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316-AC46-4F9B-8E91-0FDF9F97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0DD-7F04-4688-A690-123E99AD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534-2EC8-449A-BBDB-EE47480F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066-B5CE-4F9D-A865-727D6DEE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809-DF98-4F60-AD3D-1DF23841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077D-FF24-4659-AD89-F673AFBECA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2520" y="2362320"/>
            <a:ext cx="53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400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696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20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76201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5438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43800" cy="167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5438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848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784872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9:53Z</dcterms:modified>
  <cp:revision>212</cp:revision>
  <dc:subject/>
  <dc:title>Slide 1</dc:title>
</cp:coreProperties>
</file>