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A1A-8C7F-4B9C-9CBE-D11AFD90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09F-B421-4646-B040-CBE79E15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CBA-5F3D-4F88-8E3D-6ABCCA07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448-6B0B-47A2-8AB6-49FCE73B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D53-BB89-4096-A81D-95D69BCA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EED-07EC-491D-BAC0-C7E1D959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928-F869-4114-B744-7EC964EE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665-7201-42A3-8378-CEB7E481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3B2-8224-4FCD-A61F-CBC7262B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4AC-2AF9-4FC8-A7C1-B3285B3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5D3-D8E9-4F0A-B53A-0F1429F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537-7294-46F7-903F-7BE394ED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17E4-8C1D-4787-9ADD-7195A3DFD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INTRODUCTION</a:t>
            </a:r>
            <a:br>
              <a:rPr sz="5400"/>
            </a:b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TO</a:t>
            </a:r>
            <a:br>
              <a:rPr sz="5400"/>
            </a:b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EPI STUDY DESIGN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760" y="3576600"/>
            <a:ext cx="693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Experimental versus Observation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irectionality of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iming of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Clinical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Overview of observational designs</a:t>
            </a:r>
            <a:r>
              <a:rPr b="0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6212"/>
          <a:stretch/>
        </p:blipFill>
        <p:spPr>
          <a:xfrm>
            <a:off x="762120" y="18288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61979" r="0" b="8447"/>
          <a:stretch/>
        </p:blipFill>
        <p:spPr>
          <a:xfrm>
            <a:off x="762120" y="3657600"/>
            <a:ext cx="7315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73911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7391160" cy="289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637080" y="2209680"/>
            <a:ext cx="1600200" cy="1535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95480" y="2133720"/>
            <a:ext cx="546120" cy="76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237280" y="2438280"/>
            <a:ext cx="1562040" cy="117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010280" y="2209680"/>
            <a:ext cx="927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9784" t="0" r="0" b="81844"/>
          <a:stretch/>
        </p:blipFill>
        <p:spPr>
          <a:xfrm>
            <a:off x="1143000" y="914400"/>
            <a:ext cx="70102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28796" r="35878" b="0"/>
          <a:stretch/>
        </p:blipFill>
        <p:spPr>
          <a:xfrm>
            <a:off x="1143000" y="1828800"/>
            <a:ext cx="701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2336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391520" cy="181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0" t="64714" r="0" b="0"/>
          <a:stretch/>
        </p:blipFill>
        <p:spPr>
          <a:xfrm>
            <a:off x="914400" y="525780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358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55085" r="-1069" b="0"/>
          <a:stretch/>
        </p:blipFill>
        <p:spPr>
          <a:xfrm>
            <a:off x="838080" y="3962520"/>
            <a:ext cx="7696440" cy="259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54843" t="24647" r="0" b="53559"/>
          <a:stretch/>
        </p:blipFill>
        <p:spPr>
          <a:xfrm>
            <a:off x="4800600" y="152388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54843" t="35544" r="0" b="53559"/>
          <a:stretch/>
        </p:blipFill>
        <p:spPr>
          <a:xfrm>
            <a:off x="4800600" y="3124080"/>
            <a:ext cx="3200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48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5280" y="495288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049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Observational Study De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1430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here are three general categories of observational desig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Basic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ohort, Case-Control, Cross-S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Hybrid Designs: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ase-Cohort, Nested Case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Incomplete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Ecologic,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47:45Z</dcterms:modified>
  <cp:revision>108</cp:revision>
  <dc:subject/>
  <dc:title>Intro to Epi Study Designs</dc:title>
</cp:coreProperties>
</file>