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wmf" ContentType="image/x-wmf"/>
  <Override PartName="/ppt/media/image45.png" ContentType="image/png"/>
  <Override PartName="/ppt/media/image10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EF6D-54CE-4226-AB75-F6CDE88CC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F763-DB3D-4682-A483-0D042245F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00D4-0FC5-424B-A69E-A5B259B0E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A4D3-2D97-4D9D-85E4-065F0133D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2468-FB99-4B45-B765-9BEF38CDC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654E-E892-4F7A-AEAB-7820664A1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A05F-BE9D-4B64-8055-C5946A6A0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3CB9-6660-41AE-8851-696C4A916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6600-7E33-4ED3-9090-6492213FB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B963-0382-4600-893C-E5891524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4749-E22D-4680-852C-FFBF2E5BB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4D17-74FE-4F4E-9DDD-7DA8D68D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8AEE2-7ACD-403F-BABA-F98FFF0FA2D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2057400"/>
            <a:ext cx="838188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Measures of </a:t>
            </a:r>
            <a:br>
              <a:rPr sz="6000"/>
            </a:b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Disease Frequency-</a:t>
            </a:r>
            <a:br>
              <a:rPr sz="6000"/>
            </a:b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Risk</a:t>
            </a:r>
            <a:br>
              <a:rPr sz="6000"/>
            </a:br>
            <a:endParaRPr b="0" lang="en-US" sz="6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391160" cy="2362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990720" y="3200400"/>
            <a:ext cx="73911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467840" cy="2057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38080" y="2968560"/>
            <a:ext cx="746784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4674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372680" y="2438280"/>
            <a:ext cx="5897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Estimating Risk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086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3915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7162920" cy="396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988920" y="5181480"/>
            <a:ext cx="773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echnically, CI is not equivalent to Individual Risk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but these two terms are often used interchangeabl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467480" cy="4876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867280" y="4038480"/>
            <a:ext cx="21337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828800" y="3352680"/>
            <a:ext cx="5562720" cy="2438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523880" y="990720"/>
            <a:ext cx="61722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4674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315200" cy="5029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523880" y="4038480"/>
            <a:ext cx="17528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16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5438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696440" cy="53337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066680" y="5867280"/>
            <a:ext cx="69343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915120" y="2362320"/>
            <a:ext cx="707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Shifting the Cohor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701028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7162920" cy="44989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767160" y="5257800"/>
            <a:ext cx="7808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hat if we allow subjects to enter the cohor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afterthe start of the stud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905120"/>
            <a:ext cx="175248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7086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3152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7162560" cy="49528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029200" y="990720"/>
            <a:ext cx="60948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467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620120" cy="53337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962520" y="2666880"/>
            <a:ext cx="2593800" cy="12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1629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72388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238880" cy="25146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990720" y="3429000"/>
            <a:ext cx="72388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73152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143000" y="762120"/>
            <a:ext cx="7315200" cy="33526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143000" y="4114800"/>
            <a:ext cx="73152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467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467480" cy="2689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990720" y="3048120"/>
            <a:ext cx="746748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238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umulative Incidenc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I = # of new cases during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N = # of disease-free subjects at start of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Measures the frequency of addition of new cases of  disease and is always calculated for a given period of ti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276720" y="1219320"/>
            <a:ext cx="2514600" cy="19018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2518920"/>
            <a:ext cx="4038480" cy="2692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5859360" y="3941280"/>
            <a:ext cx="3284640" cy="218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2388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umulative Incidenc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Most common way to estimate ris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Always a propor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Assumes a fixed coh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For brief specified periods of time, e.g. an outbreak, commonly called an Attack “Rat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eware of attr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Formula does not reflect continually changing population size for dynamic cohor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Does not allow subjects to be followed for different time perio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4674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6705360" cy="2819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219320" y="3962520"/>
            <a:ext cx="670536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315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1629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3152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02T17:26:53Z</dcterms:modified>
  <cp:revision>177</cp:revision>
  <dc:subject/>
  <dc:title>Slide 1</dc:title>
</cp:coreProperties>
</file>