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C079-B039-49BB-9E54-51D65E709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0ADF-A351-4218-B7D9-6FE44F58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51FB-812A-4F8E-8BFD-D687DEA06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F3D5-6E12-48FF-A7E2-EE3E4EC3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9D49-920F-4B14-8749-0CF29BDA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0CD9-00D6-4976-9DD0-594F59E7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4F11-149F-4AFC-A2A0-26A0881F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940A-1229-4CFE-8025-A4E3A414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DA35-19E0-48D6-BAE5-6D2703C6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0AD8-DBB5-4C44-81AC-182D96CD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4066-B48F-42AB-A653-BBCDABD4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B11E-2D96-49AE-BFD0-32EFEF89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BB16-9186-4107-A5D3-334C65A443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06600" y="1828800"/>
            <a:ext cx="6314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Large-sampl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Interval Estim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I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Stratified Analysi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762120" y="533520"/>
            <a:ext cx="7772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11904"/>
          <a:stretch/>
        </p:blipFill>
        <p:spPr>
          <a:xfrm>
            <a:off x="685800" y="457200"/>
            <a:ext cx="7848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15997"/>
          <a:stretch/>
        </p:blipFill>
        <p:spPr>
          <a:xfrm>
            <a:off x="762120" y="533520"/>
            <a:ext cx="7696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36087"/>
          <a:stretch/>
        </p:blipFill>
        <p:spPr>
          <a:xfrm>
            <a:off x="762120" y="533520"/>
            <a:ext cx="7696080" cy="2666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0" t="63925" r="0" b="15997"/>
          <a:stretch/>
        </p:blipFill>
        <p:spPr>
          <a:xfrm>
            <a:off x="762120" y="3200400"/>
            <a:ext cx="7696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13093"/>
          <a:stretch/>
        </p:blipFill>
        <p:spPr>
          <a:xfrm>
            <a:off x="762120" y="457200"/>
            <a:ext cx="7772400" cy="5867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705720" y="6095880"/>
            <a:ext cx="167616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40831"/>
          <a:stretch/>
        </p:blipFill>
        <p:spPr>
          <a:xfrm>
            <a:off x="762120" y="457200"/>
            <a:ext cx="7772400" cy="2666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0" t="65941" r="0" b="18851"/>
          <a:stretch/>
        </p:blipFill>
        <p:spPr>
          <a:xfrm>
            <a:off x="762120" y="3124080"/>
            <a:ext cx="77724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40831"/>
          <a:stretch/>
        </p:blipFill>
        <p:spPr>
          <a:xfrm>
            <a:off x="762120" y="457200"/>
            <a:ext cx="7772400" cy="2666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0" t="80486" r="0" b="14169"/>
          <a:stretch/>
        </p:blipFill>
        <p:spPr>
          <a:xfrm>
            <a:off x="762120" y="3124080"/>
            <a:ext cx="7772400" cy="533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705720" y="3048120"/>
            <a:ext cx="167616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7060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162920" y="5791320"/>
            <a:ext cx="144756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54938"/>
          <a:stretch/>
        </p:blipFill>
        <p:spPr>
          <a:xfrm>
            <a:off x="914400" y="838080"/>
            <a:ext cx="7696080" cy="4038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0" t="52660" r="0" b="23507"/>
          <a:stretch/>
        </p:blipFill>
        <p:spPr>
          <a:xfrm>
            <a:off x="914400" y="4876920"/>
            <a:ext cx="7696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58280" r="0" b="15233"/>
          <a:stretch/>
        </p:blipFill>
        <p:spPr>
          <a:xfrm>
            <a:off x="914400" y="3962520"/>
            <a:ext cx="7620120" cy="1676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0" t="0" r="0" b="56703"/>
          <a:stretch/>
        </p:blipFill>
        <p:spPr>
          <a:xfrm>
            <a:off x="914400" y="762120"/>
            <a:ext cx="7620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18838"/>
          <a:stretch/>
        </p:blipFill>
        <p:spPr>
          <a:xfrm>
            <a:off x="990720" y="685800"/>
            <a:ext cx="7391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7950"/>
          <a:stretch/>
        </p:blipFill>
        <p:spPr>
          <a:xfrm>
            <a:off x="762120" y="60948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11691"/>
          <a:stretch/>
        </p:blipFill>
        <p:spPr>
          <a:xfrm>
            <a:off x="762120" y="609480"/>
            <a:ext cx="74674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41107"/>
          <a:stretch/>
        </p:blipFill>
        <p:spPr>
          <a:xfrm>
            <a:off x="685800" y="1219320"/>
            <a:ext cx="76201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10001"/>
          <a:stretch/>
        </p:blipFill>
        <p:spPr>
          <a:xfrm>
            <a:off x="609480" y="762120"/>
            <a:ext cx="7925040" cy="5486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13320" y="419112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Times New Roman"/>
              </a:rPr>
              <a:t>Difference measur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48006" t="56628" r="12002" b="18213"/>
          <a:stretch/>
        </p:blipFill>
        <p:spPr>
          <a:xfrm>
            <a:off x="4648320" y="4724280"/>
            <a:ext cx="3200400" cy="1524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48680" y="4267080"/>
            <a:ext cx="22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Times New Roman"/>
              </a:rPr>
              <a:t>Ratio measur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13156"/>
          <a:stretch/>
        </p:blipFill>
        <p:spPr>
          <a:xfrm>
            <a:off x="609480" y="609480"/>
            <a:ext cx="78487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07T20:50:59Z</dcterms:modified>
  <cp:revision>217</cp:revision>
  <dc:subject/>
  <dc:title>Slide 1</dc:title>
</cp:coreProperties>
</file>