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890-FA17-4F00-817F-0874C2F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BFC-62E8-4869-B12A-7CC6908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1DC-E286-4D72-BD99-8870FEC4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FA5-3BD7-4110-90E3-5A1AAAC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F18-9AF1-4719-8282-83F44BC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095-FCC0-46DF-B269-0AEFBF4D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1F0-408A-40CF-93EC-815DA4B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AF8-D826-4BA5-9559-EC7F5C81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EBC-5A38-4DCF-850B-A318EE6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C9D-E7B7-4AD9-AF34-334744C4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BA6-0FC2-4360-AACB-670AC09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25A-7918-4A06-B83F-560335E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5E4-F9E0-426A-86C8-6DB7CB381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5160" y="2209680"/>
            <a:ext cx="69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600280"/>
            <a:ext cx="769608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1480" y="838080"/>
            <a:ext cx="4861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lgebra,  can go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360" y="2427120"/>
            <a:ext cx="515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05520" y="4648320"/>
            <a:ext cx="2819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7150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41Z</dcterms:modified>
  <cp:revision>210</cp:revision>
  <dc:subject/>
  <dc:title>Slide 1</dc:title>
</cp:coreProperties>
</file>