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510-1B7B-42E9-9933-DB10ECF5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FDA-9560-4084-B8D9-1CF3E46C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D3A-DCD9-4792-ACAE-4AC846D7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0C8-1F08-49F8-A87B-4638BF84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FEC-CE27-4BA2-8BED-B79E20D1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345-67A2-42BF-9C65-91293C2B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A34-DF51-48F3-9EBA-70F725FB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930-C214-48EC-8349-A5080562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C9D-2C9E-4321-BD3B-9EE4C7BF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556-160E-47FF-A890-1FE941FF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EDC-FD2B-40E4-A061-2E7209C4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B49-FAB7-4706-A29C-2DB823B3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2959-1451-43D6-9A5F-2F538E752E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003" t="2316" r="2003" b="16623"/>
          <a:stretch/>
        </p:blipFill>
        <p:spPr>
          <a:xfrm>
            <a:off x="1447920" y="137160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2003" t="2316" r="2003" b="54775"/>
          <a:stretch/>
        </p:blipFill>
        <p:spPr>
          <a:xfrm>
            <a:off x="1447920" y="1371600"/>
            <a:ext cx="609588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47920" y="3429000"/>
            <a:ext cx="6095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003" t="42058" r="2003" b="16623"/>
          <a:stretch/>
        </p:blipFill>
        <p:spPr>
          <a:xfrm>
            <a:off x="1447920" y="1371600"/>
            <a:ext cx="609588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352680"/>
            <a:ext cx="60958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 Rati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 Rati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2003" t="45237" r="2003" b="40468"/>
          <a:stretch/>
        </p:blipFill>
        <p:spPr>
          <a:xfrm>
            <a:off x="1447920" y="3429000"/>
            <a:ext cx="609588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rcRect l="2003" t="61134" r="2003" b="7610"/>
          <a:stretch/>
        </p:blipFill>
        <p:spPr>
          <a:xfrm>
            <a:off x="1447920" y="4191120"/>
            <a:ext cx="6095880" cy="149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rcRect l="2003" t="73852" r="2003" b="7610"/>
          <a:stretch/>
        </p:blipFill>
        <p:spPr>
          <a:xfrm>
            <a:off x="1447920" y="4800600"/>
            <a:ext cx="60958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 Rati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sis of Matched Dat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R-to-1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R-to-1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R-to-1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dividual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alyzing Frequency Matched Dat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alyzing Frequency Matched Dat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alyzing Frequency Matched Dat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alyzing Frequency Matched Dat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dividual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quency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quency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2003" t="2316" r="2003" b="16623"/>
          <a:stretch/>
        </p:blipFill>
        <p:spPr>
          <a:xfrm>
            <a:off x="1447920" y="137160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quency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003" t="2316" r="2003" b="27751"/>
          <a:stretch/>
        </p:blipFill>
        <p:spPr>
          <a:xfrm>
            <a:off x="1447920" y="1371600"/>
            <a:ext cx="609588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4724280"/>
            <a:ext cx="609588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quency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003" t="2316" r="2003" b="16623"/>
          <a:stretch/>
        </p:blipFill>
        <p:spPr>
          <a:xfrm>
            <a:off x="1447920" y="1371600"/>
            <a:ext cx="609588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47920" y="5257800"/>
            <a:ext cx="609588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18:28:24Z</dcterms:created>
  <dc:creator>Nancy Barker</dc:creator>
  <dc:description/>
  <dc:language>en-US</dc:language>
  <cp:lastModifiedBy>Nancy Barker</cp:lastModifiedBy>
  <dcterms:modified xsi:type="dcterms:W3CDTF">2004-02-23T05:15:50Z</dcterms:modified>
  <cp:revision>69</cp:revision>
  <dc:subject/>
  <dc:title>Slide 1</dc:title>
</cp:coreProperties>
</file>