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C4F-B00A-44F5-B130-EFB64658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E71-B5D6-4C83-B6ED-7C91D485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27C-A563-4AF4-8128-F856FA9D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3D5-B953-487F-A2A5-A7DF5752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AEF-96AD-482E-9855-8A9C75BF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54A-E0B6-4392-A24A-ABB89CF4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5F5-5E2F-4DD5-997A-3661CF47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2B8-1ED8-4AB9-BF91-DD7EC882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A19-B5BE-487F-B399-AC904388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570-4911-4D87-A1C1-90003861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80D-99A6-4CC7-B491-ECED8C9F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A83-91F2-4EBF-AD34-5F23F005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B44F-9FA3-4EE9-A039-77508FED0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760" y="2057400"/>
            <a:ext cx="704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91120" y="4038480"/>
            <a:ext cx="99036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848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16292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708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34320" y="571500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403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4320" y="411480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391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57913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3:44:33Z</dcterms:modified>
  <cp:revision>217</cp:revision>
  <dc:subject/>
  <dc:title>Slide 1</dc:title>
</cp:coreProperties>
</file>