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B6D5-51FE-4429-B329-AC9FB4BC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4A98-3067-4A79-A3C0-24F55DB8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CBBF-CE91-4263-8A88-DF56C735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ED5-F42B-49F5-B9A2-00830669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9F4A-69A7-4A24-A9B3-4BA82CA7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D12-EA14-428B-A972-9B248D98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0C8-1B79-4DF2-8606-8A2EA0AD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2E64-45D7-44E3-B0EA-1D0F8DD1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C11-019D-4447-B87F-2994802C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7102-41EC-42A7-B617-8AE2D8CC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517-A434-45C8-9486-D8A8DE5F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34E-B7E5-4796-B877-6872BBBE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8D3C-6134-4D6B-A7CC-5F534BE9E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Statistical Inference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8380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460"/>
          <a:stretch/>
        </p:blipFill>
        <p:spPr>
          <a:xfrm>
            <a:off x="914400" y="91440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90720" y="68580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90720" y="457200"/>
            <a:ext cx="7238880" cy="4038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6680" y="4572000"/>
            <a:ext cx="7086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990720" y="68580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762120"/>
            <a:ext cx="7315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14400" y="838080"/>
            <a:ext cx="73915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143000" y="914400"/>
            <a:ext cx="7162920" cy="5105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705720" y="57150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295280" y="762120"/>
            <a:ext cx="662940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371600" y="4343400"/>
            <a:ext cx="6477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32695"/>
          <a:stretch/>
        </p:blipFill>
        <p:spPr>
          <a:xfrm>
            <a:off x="1600200" y="838080"/>
            <a:ext cx="6400800" cy="327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80911" r="0" b="10264"/>
          <a:stretch/>
        </p:blipFill>
        <p:spPr>
          <a:xfrm>
            <a:off x="1600200" y="4114800"/>
            <a:ext cx="6400800" cy="600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3886200"/>
            <a:ext cx="15242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4343400"/>
            <a:ext cx="12956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676520" y="4724280"/>
            <a:ext cx="6248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066680" y="7621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56252"/>
          <a:stretch/>
        </p:blipFill>
        <p:spPr>
          <a:xfrm>
            <a:off x="914400" y="762120"/>
            <a:ext cx="7467480" cy="2724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0" t="62511" r="0" b="8336"/>
          <a:stretch/>
        </p:blipFill>
        <p:spPr>
          <a:xfrm>
            <a:off x="914400" y="3429000"/>
            <a:ext cx="7467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50332" r="0" b="12918"/>
          <a:stretch/>
        </p:blipFill>
        <p:spPr>
          <a:xfrm>
            <a:off x="1295280" y="2514600"/>
            <a:ext cx="685800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0" t="0" r="0" b="68219"/>
          <a:stretch/>
        </p:blipFill>
        <p:spPr>
          <a:xfrm>
            <a:off x="1295280" y="1219320"/>
            <a:ext cx="6858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76255" r="0" b="12918"/>
          <a:stretch/>
        </p:blipFill>
        <p:spPr>
          <a:xfrm>
            <a:off x="1143000" y="4648320"/>
            <a:ext cx="6781680" cy="838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50332" r="0" b="12918"/>
          <a:stretch/>
        </p:blipFill>
        <p:spPr>
          <a:xfrm>
            <a:off x="1143000" y="2209680"/>
            <a:ext cx="678168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rcRect l="0" t="0" r="0" b="68219"/>
          <a:stretch/>
        </p:blipFill>
        <p:spPr>
          <a:xfrm>
            <a:off x="1143000" y="914400"/>
            <a:ext cx="6781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55301" r="0" b="10264"/>
          <a:stretch/>
        </p:blipFill>
        <p:spPr>
          <a:xfrm>
            <a:off x="1219320" y="990720"/>
            <a:ext cx="6858000" cy="228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0" t="57955" r="0" b="10264"/>
          <a:stretch/>
        </p:blipFill>
        <p:spPr>
          <a:xfrm>
            <a:off x="1295280" y="3657600"/>
            <a:ext cx="6782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838080"/>
            <a:ext cx="7010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609480"/>
            <a:ext cx="77724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7798"/>
          <a:stretch/>
        </p:blipFill>
        <p:spPr>
          <a:xfrm>
            <a:off x="1066680" y="609480"/>
            <a:ext cx="7239240" cy="5410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51880" y="914400"/>
            <a:ext cx="63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e Incident:  The Sinking of the Tit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25836"/>
          <a:stretch/>
        </p:blipFill>
        <p:spPr>
          <a:xfrm>
            <a:off x="838080" y="533520"/>
            <a:ext cx="739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8380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52660"/>
          <a:stretch/>
        </p:blipFill>
        <p:spPr>
          <a:xfrm>
            <a:off x="1066680" y="1371600"/>
            <a:ext cx="6858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55301"/>
          <a:stretch/>
        </p:blipFill>
        <p:spPr>
          <a:xfrm>
            <a:off x="1295280" y="1295280"/>
            <a:ext cx="6782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44711"/>
          <a:stretch/>
        </p:blipFill>
        <p:spPr>
          <a:xfrm>
            <a:off x="1219320" y="1143000"/>
            <a:ext cx="6858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143000" y="91440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0-31T02:28:36Z</dcterms:modified>
  <cp:revision>44</cp:revision>
  <dc:subject/>
  <dc:title>PowerPoint Presentation</dc:title>
</cp:coreProperties>
</file>