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431-29B0-4176-AB80-1551D539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A52-04B2-47FB-BC62-C5550EE2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71E-4C4C-48F2-BC3C-AFDDFC44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B68-4ADE-4DE3-A33C-49459E09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93B-CB04-44C1-87F3-333910D4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63A-5228-47A3-A59B-88C047A3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CB6-0D34-4897-AEEC-11B73020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374-411D-4759-937E-2CD30CFA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67F-9C58-405F-8FC8-4335B5E6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F60-A379-424D-96C7-1B9B6F4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7ED-0139-433A-96C1-18493108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14A-2149-43E3-BA90-F6E63E1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6492-94BA-4444-AE19-2C431AE7F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Logistic Regression Analysis of 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Data-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rt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77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543800" cy="495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TATA’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GI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DURE TO CARRY OU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ML ESTIMATION OF MATCHED DATA USING LOGISTIC REGRE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9800" y="565200"/>
            <a:ext cx="82044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9484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82296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57913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gall  [fweight=wgt],  strata(strat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7360" y="1295280"/>
            <a:ext cx="836928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744480"/>
            <a:ext cx="8382240" cy="63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3301920" cy="93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1066680"/>
            <a:ext cx="6781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gall   [fweight=wgt],  strata(stratum) 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35640" y="457200"/>
            <a:ext cx="522504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W LOGISTIC MODEL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458200" cy="193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E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6705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04040" cy="4648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5257800"/>
            <a:ext cx="7924680" cy="84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7240" y="1447920"/>
            <a:ext cx="5231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[fweight=wgt],  strata(strat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1520" y="1143000"/>
            <a:ext cx="7860960" cy="449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5562720"/>
            <a:ext cx="7925040" cy="847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9480" y="277920"/>
            <a:ext cx="7848720" cy="91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57800" y="1676520"/>
            <a:ext cx="26668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1066680"/>
            <a:ext cx="556272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[fweight=wgt],  strata(stratum) 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423720"/>
            <a:ext cx="800100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SS does not perform conditional logistic regression except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there is only one case per stratum, with one or more contro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SS survival analysis procedure COXREG can be used to obtain coefficient estimates equivalent to running a conditional logistic regress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is similar to that demonstrated for SAS with PROC PHREG and the GALL dataset, although SAS is not limited to the special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990720"/>
            <a:ext cx="8077320" cy="44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SAS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must be created in the data, coded to indicate that all cases had the event at the same time, and all controls were censored at a later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GALL dataset, t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s nam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SPSS dataset I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ll.sav.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229600" cy="606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en-US" sz="2400" spc="-1" strike="noStrike">
                <a:solidFill>
                  <a:srgbClr val="000000"/>
                </a:solidFill>
                <a:latin typeface="SAS Monospace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code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ll.s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set (assuming one line of data for each subject, I.e., no weight variabl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S Monospace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FILE='A:gall.sav'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COX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survt  /STATUS=case(1)  /STRATA=str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/METHOD=ENTER  est  g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/CRITERIA=PIN(.05) POUT(.10) ITERATE(20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statement contains the time variabl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llowed by a backslash and the case status variabl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the value for ca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arenth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762120"/>
            <a:ext cx="7467480" cy="5257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AS’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E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DURE TO CARRY OU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ML ESTIMATION OF MATCHED DATA USING LOGISTIC REGRE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7-03T15:05:41Z</cp:lastPrinted>
  <dcterms:modified xsi:type="dcterms:W3CDTF">2002-07-03T15:24:32Z</dcterms:modified>
  <cp:revision>107</cp:revision>
  <dc:subject/>
  <dc:title>The Art in the State of the Art</dc:title>
</cp:coreProperties>
</file>