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7E3-8F22-4D42-9407-CFA07AA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BED-1AEF-457F-946A-F2FB4FFF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8B0-1D39-4189-BBF4-791668B8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0AB-1F09-4A1B-9AB2-1825CFF0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9B4-248D-49C2-9E78-0717F06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54D-BA78-4A9D-9179-80BDF20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94C-3473-4BB1-B4F6-E7777450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920-9FD7-4822-9B80-D70D6CFE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0ED-709E-42B1-A64D-88828C2C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C5D-0BEF-4359-8CC9-843760C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201-DDDD-4B93-9CA6-316260C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768-C8A5-4701-BD29-2715520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8FA8-F21E-4FE5-BD65-BF8A17E4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asures of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Disease Freq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54Z</dcterms:modified>
  <cp:revision>105</cp:revision>
  <dc:subject/>
  <dc:title>The Art in the State of the Art</dc:title>
</cp:coreProperties>
</file>