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F4C7-F7C2-498F-A055-FEC8F0CDD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92DF-9D08-4391-A36F-623071A4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8B0F-1C22-4F31-9370-0E786312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4D29-35C0-4900-94CB-D8BAFBC51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75E6-81C4-4ADB-AC2C-E8A25DB1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7D3D-A6D3-48D0-90AD-071764FE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4CD8-D723-4ECB-844C-37CFC0C7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6D2D-796C-4464-88E2-3216B2B9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31EA-2596-45E4-8866-FFD8182C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C76D-600C-47DE-9384-16E93102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4E69-8E8A-49D2-9931-6DCD4EC6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08E4-8B0C-4F62-AD8C-205BBE72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6A9E-7EFC-42A9-8B73-919DBE4CD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Pooling Matched </a:t>
            </a:r>
            <a:br>
              <a:rPr sz="6000"/>
            </a:b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Case-Control D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2520" y="281952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8001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7925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6248520" cy="2743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09480" y="685800"/>
            <a:ext cx="7848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8487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391160" cy="3917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7848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3059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153280" cy="3886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" y="5105520"/>
            <a:ext cx="7620120" cy="787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981080" y="380880"/>
            <a:ext cx="373392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6964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848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696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3962520"/>
            <a:ext cx="2284560" cy="2209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7696080" cy="2895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038480" y="4191120"/>
            <a:ext cx="4191120" cy="1981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895480" y="4800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Symbol"/>
              </a:rPr>
              <a:t>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Symbol"/>
              <a:ea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305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5438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0769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2-07-02T17:12:34Z</dcterms:modified>
  <cp:revision>77</cp:revision>
  <dc:subject/>
  <dc:title>The Art in the State of the Art</dc:title>
</cp:coreProperties>
</file>