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AAA-F791-4E2C-A469-36B94C8B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78F-10DF-414B-B05F-AAA25AA2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4EF-BDD2-411C-8203-FBCB8825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28B-AE98-4D9B-A98B-B3EFEB0D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125-87B9-4C9C-8E4B-B4E8DC81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D77-18BB-4FBD-87B1-E5AC70D7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12F-A5F8-4708-A74C-B173EFA6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8A5-12F3-49F7-9066-D75D69B1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B99-D9EC-4B36-BD67-1EBC1264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117-7A1A-4C6A-A792-BD844AE1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495-8474-4D91-8066-5DDF5E55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B17-37DD-4916-854C-B2C3FEA0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A5A6-312D-4ED7-AFD4-773035B692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640" y="1371600"/>
            <a:ext cx="610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Ratio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obabilit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61976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81680" y="4038480"/>
            <a:ext cx="15717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761976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761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620120" cy="251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0" y="3657600"/>
            <a:ext cx="15717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62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2819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81680" y="3602160"/>
            <a:ext cx="1571760" cy="51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7619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635960" cy="2209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950160" y="223056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30240" y="2611440"/>
            <a:ext cx="7620120" cy="1066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30240" y="3678120"/>
            <a:ext cx="76201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331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7467840" cy="2666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05720" y="571500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2666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629400" y="281952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2120" y="3330720"/>
            <a:ext cx="7467480" cy="707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9880" y="320040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3200400"/>
            <a:ext cx="6094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7467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467480" cy="638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467480" cy="2666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629400" y="259092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7467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7467480" cy="930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7467480" cy="2666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553080" y="365760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11480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4191120"/>
            <a:ext cx="9907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467840" cy="93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467840" cy="2666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705720" y="251460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97180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3048120"/>
            <a:ext cx="9903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39152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739152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05720" y="5562720"/>
            <a:ext cx="15238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20:38Z</dcterms:modified>
  <cp:revision>212</cp:revision>
  <dc:subject/>
  <dc:title>Slide 1</dc:title>
</cp:coreProperties>
</file>