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2CF3-ADBC-4263-9AB7-E708EC1A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71EC-A82A-4027-BF0A-B2D037EB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DD8-1949-4C35-9F47-D6B3C79E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54C1-ABD5-4F54-A7C8-0647D9E6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14C3-8EC8-4699-9026-9B26FBB7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46C4-BC26-4B41-BFC3-026D4DF9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8FD-326E-445B-8B5D-544EBE9F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4796-413B-40D2-84C8-05446002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A56-A18D-4C05-BB5E-1815EA78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ABA-7653-40D6-AEB5-D7AD65E3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F422-E3E7-485E-8CF6-CDACB7D7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851D-13CF-4258-AB30-2B0CDE5E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6075-0E80-46BD-AB12-46E5DC7A4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DIRECTIONALIT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10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858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15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86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10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10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086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3:16Z</dcterms:modified>
  <cp:revision>99</cp:revision>
  <dc:subject/>
  <dc:title>The Art in the State of the Art</dc:title>
</cp:coreProperties>
</file>