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C645-CBC1-4048-AE06-ABA816A8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A351-25D8-4A18-97FD-0323B445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1005-B773-4763-B9D0-9F808DBC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3D51-06CE-4992-A66B-8972D709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2A97-D39F-4705-A240-3056B5EE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9274-15A5-435C-9269-B4642752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EB9-1611-4EDB-B4C1-787429EA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8F43-AF77-41D4-8AEE-9A9CE585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79F1-95FD-4790-A3C4-03CCA245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382-1A88-4DBC-9617-583DE99A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BE6F-22B6-48A6-911A-B1D178CF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13A6-FF52-4362-B9C9-18DE4AB6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74B4-9326-4F4B-B292-F27AF4BC04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7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50080" y="1447920"/>
            <a:ext cx="6278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edictive Value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f 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agnostic Tes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75438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7543800" cy="3886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752480" y="5105520"/>
            <a:ext cx="54104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38080" y="2971800"/>
            <a:ext cx="7543800" cy="1066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143000" y="4267080"/>
            <a:ext cx="7238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38080" y="2971800"/>
            <a:ext cx="7543800" cy="762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91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8483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3962520"/>
            <a:ext cx="762012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7620120" cy="3200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162920" y="5791320"/>
            <a:ext cx="13716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620120" cy="3124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7620120" cy="457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057400" y="4648320"/>
            <a:ext cx="4343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620120" cy="3124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3429000"/>
            <a:ext cx="7620120" cy="914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086600" y="4038480"/>
            <a:ext cx="1447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90720" y="4495680"/>
            <a:ext cx="7543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43800" cy="3349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2120" y="4343400"/>
            <a:ext cx="75438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391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7543800" cy="685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14400" y="4343400"/>
            <a:ext cx="7467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467840" cy="4648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38080" y="649440"/>
            <a:ext cx="74678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other 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7620120" cy="2803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7620120" cy="2895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81680" y="5867280"/>
            <a:ext cx="15242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2895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7620120" cy="381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371600" y="4191120"/>
            <a:ext cx="6324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620120" cy="289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5800" y="3076560"/>
            <a:ext cx="7620120" cy="1343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62120" y="4495680"/>
            <a:ext cx="75438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620120" cy="2895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620120" cy="603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934320" y="4191120"/>
            <a:ext cx="1371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600200" y="4572000"/>
            <a:ext cx="5867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924680" cy="3946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4191120"/>
            <a:ext cx="7924680" cy="2209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162920" y="6095880"/>
            <a:ext cx="14475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924680" cy="2743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29000" y="2666880"/>
            <a:ext cx="24382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7924680" cy="1295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85800" y="4419720"/>
            <a:ext cx="79246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924680" cy="822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7924680" cy="2743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581280" y="2743200"/>
            <a:ext cx="23623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3505320"/>
            <a:ext cx="17524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62120" y="3962520"/>
            <a:ext cx="79246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925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077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77320" cy="4495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371600" y="4952880"/>
            <a:ext cx="71629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848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4267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080" y="5257800"/>
            <a:ext cx="7543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10T20:44:14Z</dcterms:modified>
  <cp:revision>217</cp:revision>
  <dc:subject/>
  <dc:title>Slide 1</dc:title>
</cp:coreProperties>
</file>