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C40-9F6B-4C81-BECB-DF4E23FC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1EC-71A7-453E-BC00-B0E1CE64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0729-8074-49CD-A541-78629AAA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B5C5-AF40-4101-8FFE-158BA1B7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71C8-3D87-4712-8666-93E4208C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5813-5038-40CF-85DC-DF65E12F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0FF-4856-4A04-AC6F-F9EBE52F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067F-4711-43A7-9FB4-79D66A39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437-DA45-4DF1-9188-93434551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FA3-2B2B-45DE-94A9-9DECAD38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5A5-AA39-4FC6-A6F2-FE88C921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0E69-884F-4C45-A42C-609C3DEA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20C9-84AA-461E-8B56-DF8EAE1718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2160" y="1447920"/>
            <a:ext cx="630252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Probabilitie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Sensitivity a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Specificit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620120" cy="4876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762120"/>
            <a:ext cx="7597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925040" cy="3209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7925040" cy="2133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0200" y="4114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59436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925040" cy="3209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7925040" cy="507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295280" y="4724280"/>
            <a:ext cx="62485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925040" cy="3209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7925040" cy="380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>
            <a:off x="5486040" y="41148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95280" y="4648320"/>
            <a:ext cx="60962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3209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7924680" cy="685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086600" y="41148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62120" y="4495680"/>
            <a:ext cx="784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34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7772400" cy="3048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77724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8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5410080"/>
            <a:ext cx="23623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153640" cy="5791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10280" y="5943600"/>
            <a:ext cx="1752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2286000"/>
            <a:ext cx="289584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16:38:23Z</dcterms:modified>
  <cp:revision>215</cp:revision>
  <dc:subject/>
  <dc:title>Slide 1</dc:title>
</cp:coreProperties>
</file>