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C50-5AC4-4A06-8353-2267798B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5B2-08FF-41F5-BD89-A7C4BAA4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993-01D6-444F-BB5A-90F7B023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A20-3AFE-4CC1-BD39-DC8A8F91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09F-B667-4C39-A958-F86A6CAE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A76-F1EB-4F20-804B-9AC5BE27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747-21B3-498A-A545-724E8E77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EF5-3367-4CEC-A663-97EB0CE4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84E-ABDD-4FE7-A5DD-507012DD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69D-97AC-4D63-8F0C-56EAFAD3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2D2-B7AA-414B-A6CC-3FC21C2D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64D-BC8C-4480-A353-FBA986E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AF55-ED8D-44C0-9286-E5D3C8F9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P-value for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One-Sided 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hi Square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161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010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3029040"/>
            <a:ext cx="7467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2040" y="1176480"/>
            <a:ext cx="543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Symbol"/>
                <a:ea typeface="Symbol"/>
              </a:rPr>
              <a:t>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752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Two-s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1828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One-s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543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3105000"/>
            <a:ext cx="7391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7:30:27Z</dcterms:modified>
  <cp:revision>41</cp:revision>
  <dc:subject/>
  <dc:title>PowerPoint Presentation</dc:title>
</cp:coreProperties>
</file>