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62BF-828E-47E3-9C6D-44EECA96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67AD-B2E0-444A-BB96-B92D74EE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7740-B1B6-4292-872A-746BF92C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311-D8F8-40BF-B3C3-2D9BF2DE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473-0562-4E97-BCCC-B71BC0E7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991-C0F1-4F4B-8E61-25A55769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41C-CAB3-40FF-AE9F-E39CE4CB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0B4-F712-41B9-9BE8-91433A11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48C-AB04-4784-A3A8-4974DBC2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984-7A85-4DC4-8066-AA260BC4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29A3-46A2-46FD-9FEB-67FB7109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A67-9B3E-428E-8126-6823B489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35F5-3CF2-4B19-ACF9-E7ACC7096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The Risk Function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Based on a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Logistic Mod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19760" cy="2057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58000" y="27432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74678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48720" cy="6019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0" y="609588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54380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0" y="2819520"/>
            <a:ext cx="16002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90720" y="3581280"/>
            <a:ext cx="73911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5438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3124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7391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1752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72388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1752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7239240" cy="1257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371600" y="4114800"/>
            <a:ext cx="6781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239240" cy="2057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7239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1752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723924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66680" y="3657600"/>
            <a:ext cx="7162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25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7010640" cy="1219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29400" y="4724280"/>
            <a:ext cx="14479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2590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2895480"/>
            <a:ext cx="7086600" cy="1063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553080" y="3584520"/>
            <a:ext cx="1524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708660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553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239240" cy="4876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8960" y="297180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e type of risk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86600" cy="3810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362320" y="5105520"/>
            <a:ext cx="4724280" cy="990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86200" y="4572000"/>
            <a:ext cx="22860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43000" y="502920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086600" y="51055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80720" y="838080"/>
            <a:ext cx="525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Numerical Example of a Risk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0" y="59436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6324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22:44:28Z</dcterms:modified>
  <cp:revision>43</cp:revision>
  <dc:subject/>
  <dc:title>PowerPoint Presentation</dc:title>
</cp:coreProperties>
</file>