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F6BC-6A54-463E-B96B-A2FF43E09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7040-20E5-4AEB-9563-45F7C4CA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5734-698F-4762-B701-C151C714A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2524-A030-46DF-AD2F-0C4DF37E5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EA7D-8DC9-4C0D-804C-A3AA7B1D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2C80-B6B1-4176-9A56-C130DC54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9E89-B002-4031-B8E0-58251FC4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F008-199B-4F5C-A4E3-9F775B44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32CF-3824-4D0E-BC67-8101BE29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CAA7-9150-45DD-BB99-7D920DE6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DD11-7BA6-4560-8A0E-9CE43398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94D5-48F0-42BC-98E7-DD095C12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6EE1-8B8D-4490-AE48-970553721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Large Sample Test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for OR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in Case-Control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Studi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66680" y="3048120"/>
            <a:ext cx="7010640" cy="2984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066680" y="762120"/>
            <a:ext cx="7010640" cy="1987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066680" y="2743200"/>
            <a:ext cx="701064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3915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391520" cy="2590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66680" y="3505320"/>
            <a:ext cx="7391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467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46784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38080" y="3581280"/>
            <a:ext cx="74678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6933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6933960" cy="1981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90720" y="3276720"/>
            <a:ext cx="68580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924680" cy="5943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010280" y="5943600"/>
            <a:ext cx="1600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91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86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467840" cy="2743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7467840" cy="2362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838080" y="3276720"/>
            <a:ext cx="7467840" cy="6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3581280"/>
            <a:ext cx="7696080" cy="2374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76960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3657600" cy="2133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495680" y="1219320"/>
            <a:ext cx="3810240" cy="2133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3810240" cy="2210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8080" y="3352680"/>
            <a:ext cx="36576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594360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523880" y="914400"/>
            <a:ext cx="5943600" cy="2133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172200" y="1828800"/>
            <a:ext cx="11430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934320" cy="1987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143000" y="2209680"/>
            <a:ext cx="6934320" cy="2210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143000" y="4419720"/>
            <a:ext cx="69343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3T22:14:17Z</dcterms:modified>
  <cp:revision>41</cp:revision>
  <dc:subject/>
  <dc:title>PowerPoint Presentation</dc:title>
</cp:coreProperties>
</file>