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656-D177-4114-80CC-EC054422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9D1-FAB3-4866-854E-9AFB4AE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CB0-30DA-46FA-912A-942E381E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AAA-A90D-4F2A-9B8A-61E4202F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A27-066D-4806-9AF5-3408E326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5A5-076C-4986-BD5E-6B5D056C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59C-5091-4A49-AD63-B8C986E0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7BA-897F-4E71-9E8A-6EFC39A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59B-7594-4BB1-AB10-7436FA8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07C-5A90-4A43-AF80-6D292BF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B53-AD16-4590-BA6F-3125288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E32-9B01-4FD1-B7A4-8054EDF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E72-F564-49CF-A1A4-8FB10498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MATCHED DATA OVER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9810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838080" y="685800"/>
            <a:ext cx="76201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60199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343400"/>
            <a:ext cx="76964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71600" y="3995640"/>
            <a:ext cx="4495680" cy="38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 flipV="1">
            <a:off x="3351960" y="5562720"/>
            <a:ext cx="54104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867280"/>
            <a:ext cx="24386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22440" y="311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37320" y="3035160"/>
            <a:ext cx="74872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97180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295280"/>
            <a:ext cx="76964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762120" y="914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8120" y="4140360"/>
            <a:ext cx="8483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BP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256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5880" y="46483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3808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914400" y="1143000"/>
            <a:ext cx="746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21240" y="3340080"/>
            <a:ext cx="101520" cy="17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37339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100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5:02:28Z</dcterms:modified>
  <cp:revision>90</cp:revision>
  <dc:subject/>
  <dc:title>The Art in the State of the Art</dc:title>
</cp:coreProperties>
</file>