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ABFD-75D7-4304-9E8F-F538238DE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7EC1-5664-44B9-B26D-65602F66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DA65-6D0D-43AC-803E-4AD7701E2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F8F6-82C5-4E0A-9FD3-6293EA136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0790-A97E-4981-AA94-FB853EDD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F394-1B5C-4813-887F-804780DA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2739-ED2C-4ED8-98C6-8ECD78C1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308C-02C6-4336-8C2A-1471FE6E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8FAB-47AB-411A-A532-3A429990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528E-D5E5-41F8-8946-3DE5B647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8F1A-F72E-484A-AA10-8F10EB94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B263-16F5-44F9-A857-139C9AD7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41D7-B572-4A4B-A9F8-260C2B051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MEASURING THE VARIABLE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4678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2392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816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6858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6858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391520" cy="1219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066680" y="2935440"/>
            <a:ext cx="693432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391520" cy="1371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90720" y="2890800"/>
            <a:ext cx="70866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6553080" cy="1092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371600" y="3094200"/>
            <a:ext cx="662940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9644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162920" cy="1384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143000" y="2795760"/>
            <a:ext cx="662940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5438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543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73320" y="1951200"/>
            <a:ext cx="478800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3915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1625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15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46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09-26T15:50:09Z</dcterms:modified>
  <cp:revision>95</cp:revision>
  <dc:subject/>
  <dc:title>The Art in the State of the Art</dc:title>
</cp:coreProperties>
</file>