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FB91-1CAF-4CEB-8F7D-2A778BCF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A839-76FF-4F8B-884C-D753D6B7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7C9D-1503-4A95-8B5F-444BAE88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FFE2-F7ED-4FF2-9934-23644A78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07EA-FD6E-496D-995C-91137C3F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C185-2135-4FB3-A278-76FCEF7D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B10B-4ABC-4B0B-82C0-CBFB4F9E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B6AA-ABCF-4542-BC7A-1D2999CC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8AD2-181B-42C0-A0CA-18DCCE25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3666-66D6-427A-AC55-9C8AC50F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8E5A-8201-49CF-A096-D937D1A0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8D76-DB6C-4652-84CE-CECE549E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AEC5-44B9-47E2-A8CA-29F446C439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0600" y="1371600"/>
            <a:ext cx="56671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orrecting f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Differenti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Misclassific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of Exposu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and/or Disea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68120" y="3525840"/>
            <a:ext cx="214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ply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uta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rr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mula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784872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7848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84836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7848360" cy="838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85800" y="3886200"/>
            <a:ext cx="7924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3657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3992400"/>
            <a:ext cx="7848720" cy="554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85800" y="4648320"/>
            <a:ext cx="7848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305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1532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848720" cy="5105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609480"/>
            <a:ext cx="78487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04f55"/>
                </a:solidFill>
                <a:latin typeface="Times New Roman"/>
              </a:rPr>
              <a:t>Differential Misclassification of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620120" cy="2892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5360" y="2514600"/>
            <a:ext cx="672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 now more realistically start with the observ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a and correct for misclassific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3276720"/>
            <a:ext cx="7620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2819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739152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7391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358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739152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05720" y="5334120"/>
            <a:ext cx="160020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391520" cy="3200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14400" y="3429000"/>
            <a:ext cx="7391520" cy="990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705720" y="411480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914400" y="4572000"/>
            <a:ext cx="7315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10T15:59:11Z</dcterms:modified>
  <cp:revision>216</cp:revision>
  <dc:subject/>
  <dc:title>Slide 1</dc:title>
</cp:coreProperties>
</file>