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8EC-B102-4A18-869E-FF83DC83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E88-0FBD-4A1E-BED9-56383B87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B3B-87D7-429E-B8EE-71346DCE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623-A25C-4A1F-976D-F7366519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3B9-079E-4F74-89CB-1D44A28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EC0-3DA6-4DDC-AEB9-6E1065F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11B-C16A-40AE-BD2E-74628FB8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9A0-AFCE-4C65-A28E-AF0A6A07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454-816F-4642-AE40-FCDF82C8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0D2-03C9-4C81-8019-CC10E98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D67-9044-4F41-AC87-227BC3FB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631-A89B-4BBA-83F0-F431ACF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537-4107-4A74-996F-01B3B223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003480"/>
            <a:ext cx="69343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66680" y="3035160"/>
            <a:ext cx="71629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9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7162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2997360"/>
            <a:ext cx="7162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52480" y="-476280"/>
            <a:ext cx="4851360" cy="95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715000"/>
            <a:ext cx="708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1320" y="40384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390840"/>
            <a:ext cx="7315200" cy="876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0481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hould be significant because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449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373392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Sided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657600"/>
            <a:ext cx="22096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negative values of the normal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13:12:04Z</dcterms:modified>
  <cp:revision>43</cp:revision>
  <dc:subject/>
  <dc:title>PowerPoint Presentation</dc:title>
</cp:coreProperties>
</file>