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05D6-9AD0-4209-BD58-34A662AB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6B24-FC60-4C11-942D-AEB40782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D3AC-DBAD-48CF-A52D-D3B16F0D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8C28-6222-45BE-B1B2-EC6F03F8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BD77-3C81-46E2-9CA3-DBBDB88D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4E0-6E1C-44E5-9664-04E0E7D7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83CC-B24F-429A-8966-F99DB486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FCFA-0381-470B-BF1E-B01F1F12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69F-4FB7-40D7-BC91-55665D57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5D5C-7B0C-4426-9E21-D9989DD4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1633-5496-4781-9786-5E929034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ADEC-DF3E-494E-A8FA-38303187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544B-A3DA-4983-A388-48734F66F9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840" y="2057400"/>
            <a:ext cx="827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ternal vs. Extern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alidit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69608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419720" y="2209680"/>
            <a:ext cx="36576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886200"/>
            <a:ext cx="2362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4343400"/>
            <a:ext cx="2743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69608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19720" y="3429000"/>
            <a:ext cx="3200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3886200"/>
            <a:ext cx="2362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4343400"/>
            <a:ext cx="2743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2743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7467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2012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7620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32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4038480"/>
            <a:ext cx="754380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7543800" cy="2793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543800" cy="2209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38080" y="2666880"/>
            <a:ext cx="754380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239240" cy="3886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72392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315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72520" y="105552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a41"/>
                </a:solidFill>
                <a:latin typeface="Arial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41:26Z</dcterms:modified>
  <cp:revision>211</cp:revision>
  <dc:subject/>
  <dc:title>Slide 1</dc:title>
</cp:coreProperties>
</file>