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7E5-CBFA-4C45-862E-8BB559C6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E0D-2A09-413D-984E-744B504D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9E2-2988-437A-A7D7-FF214546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72E-BE3A-4453-8C32-E2A3D1E4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CF2-5EDD-488D-85BD-1558208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22B-7E7E-4BBA-9DD5-871F87F6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54F-11BD-4CC0-AE01-72B2011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EDD-9F45-4BEC-B7CE-D67D1DD7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720-3EE2-4689-91FA-D5554DE2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116-33DB-4163-96E5-17C187F4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7BE-5581-4AD6-B680-1622E80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DAA-00A2-4DAC-AB81-BB015B3D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3861-26A9-43BA-9FF2-7ED8DECC91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1371600"/>
            <a:ext cx="699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ue 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appropri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hoice of Contro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57913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391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391520" cy="142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609588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315200" cy="18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7315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19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23888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43000" y="4724280"/>
            <a:ext cx="7238880" cy="1689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34320" y="4419720"/>
            <a:ext cx="1447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651040"/>
            <a:ext cx="7239240" cy="321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39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238880" cy="94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238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3706920" cy="4871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053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23888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7238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7239240" cy="94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7239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65760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54380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543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221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10280" y="34290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221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10280" y="27432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77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4:15Z</dcterms:modified>
  <cp:revision>212</cp:revision>
  <dc:subject/>
  <dc:title>Slide 1</dc:title>
</cp:coreProperties>
</file>