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1B9-2471-4B35-B616-8C62A0E7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DAD-EE2F-43DC-BB91-D865AB54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CFB-D61B-43FD-9C96-5CEDA0EB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6B5-260B-4072-9B0F-46A28402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2BA-34D3-452A-9A7B-1DD7DFF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1A7-1130-4072-97E7-BC9BB45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469-6F22-418C-8D87-11E5AEAD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E69-BCBA-4195-BAF9-8F44DB00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608-DD04-41AA-9944-3808B44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476-CACE-4F4C-AB34-99EC83D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3EA-2465-4622-9AE6-0EDA597F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19E-AECB-4D6B-A518-034E9AE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2D91-8B94-4158-B1D5-7E7914065C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200" y="1371600"/>
            <a:ext cx="538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ierarch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1520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315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315200" cy="77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5438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543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38680" y="3886200"/>
            <a:ext cx="27432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619760" cy="65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6197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848720" cy="91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784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7620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9608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5086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616120" cy="252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56960" y="3382920"/>
            <a:ext cx="6609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2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45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9246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190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546360"/>
            <a:ext cx="77724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39152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5438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33Z</dcterms:modified>
  <cp:revision>211</cp:revision>
  <dc:subject/>
  <dc:title>Slide 1</dc:title>
</cp:coreProperties>
</file>