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180-1004-4D97-88DE-9CC45027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D4A-8957-4DD7-9A61-00D9511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6C2-BE10-48D3-A37D-55750CB4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943-0270-4838-B44E-FA7A97E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D3A-1573-45AC-8AEF-112C36B6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061-B37A-4700-AB01-CB9A4BFF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57D-153A-400C-AEA5-9407F01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DF8-3B35-4F82-9399-D1910024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1B1-4956-430C-BE7A-0331407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A82-9299-4813-AB90-35069ED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7EF-1FA0-44BE-B6DB-71B849A2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D7C-9C78-4D59-921D-BC30C18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D57F-D815-4C74-9159-10C33505CB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362320"/>
            <a:ext cx="627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391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3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16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772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5680" y="5032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e- 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8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434340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586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09:28Z</dcterms:modified>
  <cp:revision>215</cp:revision>
  <dc:subject/>
  <dc:title>Slide 1</dc:title>
</cp:coreProperties>
</file>