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6CC-3812-476E-B7A0-9071C9CB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B04-A63C-447A-861D-B1C8C6F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481-D07A-492B-B62F-5B041A7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D52-6EDA-4621-97DD-56DB1D8D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859-C65A-48F0-844E-863EA74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95F-2843-4EE3-8C8B-D8290AD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E81-E8A0-407C-BAB2-F0D1123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023-7C6D-4E0D-878A-FF9FFC0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D85-871C-4506-9525-433379C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B76-0272-48DD-A21D-22E5168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826-C726-4CE1-8F20-B4519EFC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5E4-D0CC-4BA1-97BF-676B232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075-7F97-401F-8EB1-C1CED8BD2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7040" y="213372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4370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7120" y="59436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0004"/>
          <a:stretch/>
        </p:blipFill>
        <p:spPr>
          <a:xfrm>
            <a:off x="838080" y="30492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7002" t="52007" r="17001" b="26000"/>
          <a:stretch/>
        </p:blipFill>
        <p:spPr>
          <a:xfrm>
            <a:off x="838080" y="403848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2108"/>
          <a:stretch/>
        </p:blipFill>
        <p:spPr>
          <a:xfrm>
            <a:off x="838080" y="380880"/>
            <a:ext cx="74678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1003" t="58004" r="20001" b="27336"/>
          <a:stretch/>
        </p:blipFill>
        <p:spPr>
          <a:xfrm>
            <a:off x="914400" y="4191120"/>
            <a:ext cx="731520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69771" r="0" b="24909"/>
          <a:stretch/>
        </p:blipFill>
        <p:spPr>
          <a:xfrm>
            <a:off x="838080" y="3352680"/>
            <a:ext cx="7467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43485"/>
          <a:stretch/>
        </p:blipFill>
        <p:spPr>
          <a:xfrm>
            <a:off x="762120" y="762120"/>
            <a:ext cx="746748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7002" t="51339" r="17998" b="26000"/>
          <a:stretch/>
        </p:blipFill>
        <p:spPr>
          <a:xfrm>
            <a:off x="838080" y="36576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74077" r="0" b="16573"/>
          <a:stretch/>
        </p:blipFill>
        <p:spPr>
          <a:xfrm>
            <a:off x="762120" y="2895480"/>
            <a:ext cx="7467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8962"/>
          <a:stretch/>
        </p:blipFill>
        <p:spPr>
          <a:xfrm>
            <a:off x="6094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8563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76212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90720" y="91440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914400"/>
            <a:ext cx="7162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457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4560" y="762120"/>
            <a:ext cx="43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-Step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838080"/>
            <a:ext cx="7010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83808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33784"/>
          <a:stretch/>
        </p:blipFill>
        <p:spPr>
          <a:xfrm>
            <a:off x="685800" y="3808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37002" t="52668" r="17001" b="19335"/>
          <a:stretch/>
        </p:blipFill>
        <p:spPr>
          <a:xfrm>
            <a:off x="685800" y="373392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0270"/>
          <a:stretch/>
        </p:blipFill>
        <p:spPr>
          <a:xfrm>
            <a:off x="457200" y="76212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5233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45720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4572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20:26Z</dcterms:modified>
  <cp:revision>219</cp:revision>
  <dc:subject/>
  <dc:title>Slide 1</dc:title>
</cp:coreProperties>
</file>