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B496-8AE1-472D-80C1-CA8235074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E167-DB11-4AF5-B2E8-4E027BA20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8388-024A-445B-A964-C6CC0D327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D51C-A325-4556-902F-1453742CA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F768-DB4E-45FF-B40C-18A3A6713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2930-8995-4449-B112-1CAAFB6F3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F4A8-2C54-4E3D-867B-6B377AC22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0CD5-BDA0-4EC8-A351-BB0DF9078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0174-98E7-46EC-A556-7B0103082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EDD9-51BC-4962-A4A0-4D7B95319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99D7-B12A-4D6C-973D-8E3D636DD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212F-2C77-4DF5-A398-6EFFDBB8B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E3E84-F339-4B2B-BBDE-C1BFD590279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34440" y="1295280"/>
            <a:ext cx="433224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Differenc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versu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Ratio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Measur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848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701028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754380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219320" y="533520"/>
            <a:ext cx="6858000" cy="2514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219320" y="3048120"/>
            <a:ext cx="6858000" cy="14475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295280" y="4495680"/>
            <a:ext cx="68580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219320" y="533520"/>
            <a:ext cx="6781680" cy="2514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219320" y="3048120"/>
            <a:ext cx="6781680" cy="990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219320" y="4038480"/>
            <a:ext cx="67816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295280" y="457200"/>
            <a:ext cx="6782040" cy="20574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295280" y="2514600"/>
            <a:ext cx="6782040" cy="10666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1295280" y="3581280"/>
            <a:ext cx="678204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69608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68580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0866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3152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010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72388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69343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3152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447920" y="762120"/>
            <a:ext cx="670536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14T14:27:55Z</dcterms:modified>
  <cp:revision>206</cp:revision>
  <dc:subject/>
  <dc:title>Slide 1</dc:title>
</cp:coreProperties>
</file>