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B2C6-98A6-4BA2-A52E-31364025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EFE-2CCB-4F18-91EA-A2AB25E1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C033-EC22-4A7B-A799-721E8939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9C6-E735-492A-9B2D-222F2535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2A7C-F2A8-427F-98F0-C6E5B902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68C-67C2-4FD5-A593-46A7ABFE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527-960F-4C4B-9FE0-D19A5A77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29E-7694-455A-B554-F7303BBF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DE6-FF77-482E-8178-6B9A8CAB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790-619D-45B6-A61D-9980B719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AA9-6C6A-49F3-A4F5-0499E3E9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02B-C15A-4518-9335-EB7990D0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3933-D73C-43ED-954B-1A499FF2F1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3920" y="1447920"/>
            <a:ext cx="538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ssessm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Formula f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Ratio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3133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620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1752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761976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7619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3114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784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784872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09480" y="4343400"/>
            <a:ext cx="7848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84836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784836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7848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467480" cy="157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2514600"/>
            <a:ext cx="396252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267080" y="3809880"/>
            <a:ext cx="3962520" cy="1562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62120" y="2438280"/>
            <a:ext cx="35049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21:46Z</dcterms:modified>
  <cp:revision>212</cp:revision>
  <dc:subject/>
  <dc:title>Slide 1</dc:title>
</cp:coreProperties>
</file>