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8B7-17E0-40A0-82D0-6DFA52ED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B49-479B-4217-BD55-CD24EDBC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FC6-4D3E-4CBA-8BFD-B065A481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F88-F822-4AD6-8C19-7B1DB34C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F09-7F78-41A5-8233-DF968ED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965-4B43-4374-A455-DC95DB1B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8A4-48F5-43FA-BDEA-CEBDA51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4FC-5B3F-4611-A731-3422425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9B0-7573-4309-A376-4733A37C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D27-8338-413E-A0CA-460E3B5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BCF-A0A6-4A64-8565-684648AC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350-934F-415A-AADB-3176E3E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299C-D79F-4CD2-894A-C5DE3B204E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8600" y="1905120"/>
            <a:ext cx="543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efini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16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72400" cy="390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380880"/>
            <a:ext cx="2590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257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3311640"/>
            <a:ext cx="75438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257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754380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543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620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1629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1:49Z</dcterms:modified>
  <cp:revision>210</cp:revision>
  <dc:subject/>
  <dc:title>Slide 1</dc:title>
</cp:coreProperties>
</file>