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EF1-6F36-4DFB-9EDB-8A7721D3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4C6-6D3D-4282-8E30-19C947D4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95B-2C50-4244-A177-C7008BB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A8E-5C3A-452C-BD81-96C9C903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908-9922-4CD2-8DEF-97AA45E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F4F-36B2-4C11-ACD9-90202B4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6E8-A2B2-4C6A-9C66-5E54F8D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DB6-3FB0-4427-81FB-22E7218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A69-30C1-4FB3-A082-52539E67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E3E-DD9C-4B5A-BA64-5B7319D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837-2777-45F1-A541-59831C7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C29-20A4-4DD9-B4BA-0E027DC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B9D-A6A4-4C69-BFA8-F39C43256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600200"/>
            <a:ext cx="627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ias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1500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30556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11480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00:48:16Z</dcterms:modified>
  <cp:revision>216</cp:revision>
  <dc:subject/>
  <dc:title>Slide 1</dc:title>
</cp:coreProperties>
</file>