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6E1-6B32-4F24-ABA8-64225127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BAF-2985-47FE-8214-FA2D386A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5FD-B3AB-4020-ABDB-1F5E77FA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24E-8151-4F38-B45B-86F72234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664-0ACC-4278-9721-E0A2380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33F-52A1-46D4-AB19-04D7FA6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FA4-5950-4B01-8F20-12E08F1B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673-2D20-4A1D-8B23-2B8BB4C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A97-C6CE-48E6-A2ED-D61015F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6BE-4D4C-4CCC-8FBC-519F330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20F-5279-417D-901E-ED1C65C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70E-A926-4C1E-AEC5-275A7C12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36F6-206E-40EC-9651-E8542DB26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ROSS-SECTIONA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59Z</dcterms:modified>
  <cp:revision>106</cp:revision>
  <dc:subject/>
  <dc:title>The Art in the State of the Art</dc:title>
</cp:coreProperties>
</file>