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1CA-65E5-44A3-84D4-BA0A2BA9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BE9-1C8E-4D80-9E8C-0ACD0FBF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048-A67B-44F4-9294-B6836BE4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D80-94C3-4E25-9AE2-EBEAF759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0A7-3813-4205-A016-2FF4F07D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C3B-CBD7-4D31-A221-EC104CDD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4AD-2DCA-4BDF-AA14-A12A225E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FD5-A158-4A0D-8CAE-E7C6B848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BB9-7704-48B6-89EB-72E9EBBD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34F-342E-4B36-97CE-4231B7B0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BAF-958F-4C53-A73B-031667D9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013-F53D-40B1-86F7-D84C67F3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9187-5636-48D4-BCF3-AC123C07D7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5160" y="1447920"/>
            <a:ext cx="4243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705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248520" cy="118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6248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1244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172200" cy="1222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6095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55308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01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553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1:51Z</dcterms:modified>
  <cp:revision>208</cp:revision>
  <dc:subject/>
  <dc:title>Slide 1</dc:title>
</cp:coreProperties>
</file>