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CD25-2FE8-44D9-B4EC-72A21361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9BA-6FDB-4580-A175-850E2118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CD2-38FD-422E-8DB1-FB68BCFC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0DB-7936-43F3-89BF-6A5412D3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D85-AB92-429E-BAB3-50999B57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8C7-D330-4179-973A-66D497B2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D1EA-3F5E-41F9-B8E3-1563DE64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7F35-CC04-4DDA-B345-9AE4BCC2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573F-8CAA-4FA8-A48C-E688DF4A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196-74AA-4BE9-A174-2F9D5C23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13F-8A4A-4E5A-813C-3865052B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74D-6340-4C94-8787-2A22B005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3DEC-514E-4374-85A9-959A476402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1120" y="1752480"/>
            <a:ext cx="631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otterdam Stud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315200" cy="4953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5257800"/>
            <a:ext cx="7315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2581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467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467480" cy="4953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5181480"/>
            <a:ext cx="74674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33:39Z</dcterms:modified>
  <cp:revision>211</cp:revision>
  <dc:subject/>
  <dc:title>Slide 1</dc:title>
</cp:coreProperties>
</file>