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384-0DCA-4B01-A9A3-546BA9BE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D73-7C92-47E2-A5C3-276AF25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DAF-202D-4842-88E4-6AFA5014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7EB-C7ED-45E2-8C2A-C7796AB6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609-A504-4397-9EC7-5DD9186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846-DF0E-4CAA-8DE5-658D7D0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CE5-072B-4C1B-8FFF-1173E1CC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429-494C-4290-B733-CD8C8587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9DB-B68F-48ED-AA19-9E2ADCC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217-04AF-47EE-BD4D-3EBCEFD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A9F-85B6-4CE7-BB80-8EE1CCE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025-A667-4A83-9404-C9F7D45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323B-D10B-4125-87BD-54D0843B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6172200" cy="183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ate rati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/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density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162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716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657600"/>
            <a:ext cx="4572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911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71625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01028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6705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51439"/>
          <a:stretch/>
        </p:blipFill>
        <p:spPr>
          <a:xfrm>
            <a:off x="990720" y="17524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9720" y="2362320"/>
            <a:ext cx="42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3800" y="5029200"/>
            <a:ext cx="7145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3276720"/>
            <a:ext cx="76176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276720"/>
            <a:ext cx="76212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181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ebff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457200"/>
            <a:ext cx="70866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e2dc"/>
                </a:solidFill>
                <a:latin typeface="Arial"/>
              </a:rPr>
              <a:t>Quantify relationship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Measure of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5410080"/>
            <a:ext cx="6477120" cy="64260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02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