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D31-FB6E-4EE4-872B-2D98637C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AEF-199B-47A0-9171-DB64EF8D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B15-8994-4BCC-9B4B-78E9E161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059-A96D-4A7B-B997-FF3A80F8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7B5-4A60-40CC-BB01-C3FB9637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1C1-A26F-4CCF-8C3D-26608223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AF5-48F8-42D1-8010-61AA7ECA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078-4495-401B-AFCD-A3A594F1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C71-356F-40BF-AA92-8F93BE09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E4C-0CE6-40FC-A205-D6ED8181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E8D-5FF1-4DCC-970B-C69EAAD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CDA-1D27-4C80-8642-1BAE31E4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B30B-EC88-4DDE-9D94-C88D35F74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0574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atching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ypes &amp; Rati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391520" cy="2210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327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3059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239240" cy="373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403200"/>
            <a:ext cx="81532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5257800"/>
            <a:ext cx="784872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7848360" cy="127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533520"/>
            <a:ext cx="807732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520" y="2819520"/>
            <a:ext cx="78483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00200"/>
            <a:ext cx="762012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MATCHING - 2 TY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8483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924680" cy="3092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7772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7238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ING RAT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620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78483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57400" y="4724280"/>
            <a:ext cx="4495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3032280"/>
            <a:ext cx="7925040" cy="100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784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3166920"/>
            <a:ext cx="7848720" cy="795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181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4610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7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2286000" cy="5105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57600" y="2057400"/>
            <a:ext cx="4572000" cy="396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4343400" cy="838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029200" y="380880"/>
            <a:ext cx="3809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851200"/>
            <a:ext cx="7696080" cy="301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3T13:40:09Z</dcterms:modified>
  <cp:revision>109</cp:revision>
  <dc:subject/>
  <dc:title>The Art in the State of the Art</dc:title>
</cp:coreProperties>
</file>