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CF30-4D1A-417C-8A55-FF1DCA12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D73-5685-4643-920F-C99DAB43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0B1-2D4C-4ED3-823C-17C69261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192-BC1E-476C-9E9A-C420B290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8BD-7A3D-483E-8874-E9687C1C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A6D-C759-4352-89FE-ED90D956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C35-8499-4124-9AE5-5DDA3410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154-490C-4F73-A84B-50F0D9B4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A76-2B86-4682-BDF8-C06B236F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C26-DDBF-496D-B9A5-06112DF0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932-698D-4AAB-829E-67AFC3C6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0B2-D53A-4A49-9A56-9CA554B8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DFD8-ECEE-4C0F-AEA9-1DCD94873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ASE-CONTROL STUDIE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2006640" cy="2210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200400" y="24382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943600" y="25146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2133720" y="4648320"/>
            <a:ext cx="464796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200400" y="1828800"/>
            <a:ext cx="2819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4724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5638680"/>
            <a:ext cx="3733560" cy="457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52880" y="5638680"/>
            <a:ext cx="32004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638680"/>
            <a:ext cx="304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495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990720"/>
            <a:ext cx="19605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990720"/>
            <a:ext cx="54864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52480" y="4724280"/>
            <a:ext cx="5105520" cy="1155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31520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080" y="4724280"/>
            <a:ext cx="9907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4724280"/>
            <a:ext cx="12193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2336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64008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676520" y="4419720"/>
            <a:ext cx="6400800" cy="685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43000" y="3505320"/>
            <a:ext cx="53352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43000" y="5715000"/>
            <a:ext cx="6934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162920" cy="1625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4114800" cy="2158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3840" y="4419720"/>
            <a:ext cx="44204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CHILD’S MEDICA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.g., aspiri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4419720"/>
            <a:ext cx="27432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7010280" cy="1828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49680" y="1828800"/>
            <a:ext cx="3833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828800"/>
            <a:ext cx="15238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182880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1028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76720" y="4114800"/>
            <a:ext cx="2819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10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51:23Z</dcterms:modified>
  <cp:revision>108</cp:revision>
  <dc:subject/>
  <dc:title>The Art in the State of the Art</dc:title>
</cp:coreProperties>
</file>