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174-AB4B-48A0-862B-375B35D7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8C9-2B95-4C2B-AAE5-0539E2E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71D-39ED-4B3D-AE27-FD449174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99F-1C2A-4088-8145-8358D58D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754-C6BB-4D76-8F3B-3F99D29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3FB-432B-4171-B362-D14B0463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265-F2A9-4619-9866-74F530CB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977-D74E-43A2-B301-50CF7ED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828-40A8-46F9-A8DD-B63EC3F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BBF-56F5-4E1D-B9DF-2BD2E68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A5D-DF32-4EEB-8F7C-2A7105B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917-9FB2-4AF7-B2BC-87F9255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20E-52FF-4126-8EA9-FE77F959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  QUESTION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5T14:17:13Z</dcterms:modified>
  <cp:revision>94</cp:revision>
  <dc:subject/>
  <dc:title>The Art in the State of the Art</dc:title>
</cp:coreProperties>
</file>