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67A-1184-4C92-B7F6-BBC2568D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320-990C-48C5-8065-40CFBE0B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198-DA12-44D7-8947-D20EB1A3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270-147D-416C-9057-336AA8AA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27A-CBDE-4621-9458-BB868D43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BA5-794B-4957-9DCF-E2E9ACA5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548-2BB8-4538-90CC-8E4F337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E4C-3708-41AA-A596-ABF9A52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8E2-59ED-448B-96B1-E6E91EE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410-ABF8-4CAE-87A6-342B085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EF1-DB3B-45C1-9F1B-1151DB3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4CF-D534-4963-87C8-41B0E5B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BBE-F0DF-44CF-A851-151C5111A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8280" y="1447920"/>
            <a:ext cx="682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 Tr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5322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236"/>
          <a:stretch/>
        </p:blipFill>
        <p:spPr>
          <a:xfrm>
            <a:off x="53352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68580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0270" r="0" b="10990"/>
          <a:stretch/>
        </p:blipFill>
        <p:spPr>
          <a:xfrm>
            <a:off x="762120" y="2819520"/>
            <a:ext cx="746748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77120" y="53341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0270" r="0" b="24997"/>
          <a:stretch/>
        </p:blipFill>
        <p:spPr>
          <a:xfrm>
            <a:off x="762120" y="281952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75016" r="0" b="19840"/>
          <a:stretch/>
        </p:blipFill>
        <p:spPr>
          <a:xfrm>
            <a:off x="762120" y="3124080"/>
            <a:ext cx="746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536" r="0" b="11416"/>
          <a:stretch/>
        </p:blipFill>
        <p:spPr>
          <a:xfrm>
            <a:off x="762120" y="312408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358128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318"/>
          <a:stretch/>
        </p:blipFill>
        <p:spPr>
          <a:xfrm>
            <a:off x="914400" y="9907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15555" t="38853" r="17775" b="50056"/>
          <a:stretch/>
        </p:blipFill>
        <p:spPr>
          <a:xfrm>
            <a:off x="3581280" y="2590920"/>
            <a:ext cx="3886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685800" y="685800"/>
            <a:ext cx="8001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6504" r="0" b="24021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797"/>
          <a:stretch/>
        </p:blipFill>
        <p:spPr>
          <a:xfrm>
            <a:off x="1143000" y="762120"/>
            <a:ext cx="7162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76781" r="0" b="13744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419720"/>
            <a:ext cx="17524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27275"/>
          <a:stretch/>
        </p:blipFill>
        <p:spPr>
          <a:xfrm>
            <a:off x="685800" y="3808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7724"/>
          <a:stretch/>
        </p:blipFill>
        <p:spPr>
          <a:xfrm>
            <a:off x="990720" y="685800"/>
            <a:ext cx="7391160" cy="350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82288" r="0" b="6997"/>
          <a:stretch/>
        </p:blipFill>
        <p:spPr>
          <a:xfrm>
            <a:off x="990720" y="4191120"/>
            <a:ext cx="739116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5257800"/>
            <a:ext cx="73152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each stratum, the CHD risk decreases a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lesterol level de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83808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300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457200" y="53352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76212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2:33:11Z</dcterms:modified>
  <cp:revision>217</cp:revision>
  <dc:subject/>
  <dc:title>Slide 1</dc:title>
</cp:coreProperties>
</file>