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10B-037C-44B1-9906-409E47E5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B64-2052-4340-BF3C-5F3C924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CCA-6D6B-49CB-A15E-B98E949F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C32-2B27-4974-9D19-0F0444DC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4D9-FA15-484D-91BD-32BE51F7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D66-1A2E-4904-9F61-67E75D0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545-619E-4987-B510-5DA63E2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0C9-D4F5-4486-9F81-B5B420B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7B4-752B-4817-A143-DCD42494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AB7-1655-4398-A68B-50EAB2E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3B3-F88B-490C-9FF3-9CFA704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F85-F3C4-41C6-9FCA-744EF381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877B-F70A-4FE9-8BDA-19D879668E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239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5:23Z</dcterms:modified>
  <cp:revision>206</cp:revision>
  <dc:subject/>
  <dc:title>Slide 1</dc:title>
</cp:coreProperties>
</file>