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9AD5-A836-44C7-8D88-B991FA35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8581-2B4C-4B69-8A3F-500987AA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70A8-3F7C-4632-A016-3276E110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192E-DFE1-402E-985F-73BAD911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238B-AD03-4C07-9CE0-44EE899A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0E56-1B91-46BB-94D9-2A278F35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F1F-792F-4CD8-B220-6E7CB3F4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9AD2-358F-4582-90AD-2055D457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C35-0B28-4EB4-BA6C-A4CA25AA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B8DB-54D7-46A2-ABC5-4E7481FE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7AE2-CAB4-4E49-806A-AF8CC462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A5F-7128-4CFF-A807-8FE47A33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6427-D4E2-4A31-8C50-D6098B1AF6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3920" y="914400"/>
            <a:ext cx="5388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Hospital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ase-Contro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udie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7238880" cy="99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90720" y="4267080"/>
            <a:ext cx="7238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3733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5181480"/>
            <a:ext cx="72392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23888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23888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7238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38880" cy="3276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238880" cy="609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657600" y="4419720"/>
            <a:ext cx="380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239240" cy="3276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66680" y="3809880"/>
            <a:ext cx="7239240" cy="609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9880" y="3733920"/>
            <a:ext cx="3812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066680" y="4419720"/>
            <a:ext cx="72392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34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7238880" cy="990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05720" y="495288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23924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7239240" cy="990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781680" y="3657600"/>
            <a:ext cx="1524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66680" y="4038480"/>
            <a:ext cx="7239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238880" cy="45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723888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238880" cy="3657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723888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391520" cy="6172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66880" y="4876920"/>
            <a:ext cx="1828800" cy="3808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90720" y="3581280"/>
            <a:ext cx="7238880" cy="520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723888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7162920" cy="1435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934320" y="5410080"/>
            <a:ext cx="1371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716292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0" y="3581280"/>
            <a:ext cx="13716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7239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16292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66680" y="4572000"/>
            <a:ext cx="7162920" cy="609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8800" y="4419720"/>
            <a:ext cx="304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2514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7162920" cy="609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828800" y="3048120"/>
            <a:ext cx="304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66680" y="3809880"/>
            <a:ext cx="7162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3352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7162920" cy="990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48320" y="4495680"/>
            <a:ext cx="35812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162920" cy="2743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7162920" cy="990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648320" y="3657600"/>
            <a:ext cx="35812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66680" y="4191120"/>
            <a:ext cx="7162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162920" cy="3353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066680" y="4648320"/>
            <a:ext cx="71629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7162560" cy="2514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7162560" cy="507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219320" y="3809880"/>
            <a:ext cx="71625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162920" cy="3886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43000" y="4876920"/>
            <a:ext cx="71629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7162560" cy="2971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7162560" cy="533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19320" y="3886200"/>
            <a:ext cx="7162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4448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95320" y="5145120"/>
            <a:ext cx="79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s who are both smokers and have cancer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-represented in a hospital study population w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d to the community pop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678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2388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09:49Z</dcterms:modified>
  <cp:revision>212</cp:revision>
  <dc:subject/>
  <dc:title>Slide 1</dc:title>
</cp:coreProperties>
</file>