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9E3-B42B-4C04-B621-FEC673BD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C4D-3F2B-4A6A-9C83-81312810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8F0-E1AF-4D2E-9D1B-C62494FB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7D5-506C-47BF-BEE3-E717A522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9BD-DBB4-4E06-A461-94743A8A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DEA-0E09-4B13-B2B6-89842B04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0FF-163E-4844-9847-B9284D44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CF1-9F7B-42B9-A20B-3E06AC60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1A5-85C8-4F78-A625-0F336377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6CB-6760-4354-B5C2-BBF5D9FB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026-7CCE-4312-9133-32F9020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8CF-A424-483A-89AF-4B813D8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7D6D-BF5B-4C98-BA81-5DAB00D78E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1080" y="1828800"/>
            <a:ext cx="678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mOR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8576"/>
          <a:stretch/>
        </p:blipFill>
        <p:spPr>
          <a:xfrm>
            <a:off x="457200" y="6858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24797"/>
          <a:stretch/>
        </p:blipFill>
        <p:spPr>
          <a:xfrm>
            <a:off x="609480" y="457200"/>
            <a:ext cx="8077320" cy="441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75216" r="0" b="12267"/>
          <a:stretch/>
        </p:blipFill>
        <p:spPr>
          <a:xfrm>
            <a:off x="609480" y="4876920"/>
            <a:ext cx="8077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25973"/>
          <a:stretch/>
        </p:blipFill>
        <p:spPr>
          <a:xfrm>
            <a:off x="609480" y="106668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7147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7598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914400" y="5335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9638"/>
          <a:stretch/>
        </p:blipFill>
        <p:spPr>
          <a:xfrm>
            <a:off x="990720" y="380880"/>
            <a:ext cx="7391160" cy="541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5791320"/>
            <a:ext cx="7315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action? Can’t tell.    Confounding?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39442"/>
          <a:stretch/>
        </p:blipFill>
        <p:spPr>
          <a:xfrm>
            <a:off x="685800" y="121932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39442"/>
          <a:stretch/>
        </p:blipFill>
        <p:spPr>
          <a:xfrm>
            <a:off x="685800" y="3808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3418"/>
          <a:stretch/>
        </p:blipFill>
        <p:spPr>
          <a:xfrm>
            <a:off x="99072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11253"/>
          <a:stretch/>
        </p:blipFill>
        <p:spPr>
          <a:xfrm>
            <a:off x="9144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914400" y="53352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5078"/>
          <a:stretch/>
        </p:blipFill>
        <p:spPr>
          <a:xfrm>
            <a:off x="762120" y="12952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2971800"/>
            <a:ext cx="769608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297180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49528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5078"/>
          <a:stretch/>
        </p:blipFill>
        <p:spPr>
          <a:xfrm>
            <a:off x="609480" y="457200"/>
            <a:ext cx="76964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609480" y="2133720"/>
            <a:ext cx="769644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2133720"/>
            <a:ext cx="35816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3505320"/>
            <a:ext cx="16761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4934" r="0" b="61472"/>
          <a:stretch/>
        </p:blipFill>
        <p:spPr>
          <a:xfrm>
            <a:off x="762120" y="1752480"/>
            <a:ext cx="76960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2895480"/>
            <a:ext cx="7696080" cy="198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289548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42670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4934" r="0" b="61472"/>
          <a:stretch/>
        </p:blipFill>
        <p:spPr>
          <a:xfrm>
            <a:off x="685800" y="762120"/>
            <a:ext cx="7696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685800" y="190512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190512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2767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8540" r="0" b="51496"/>
          <a:stretch/>
        </p:blipFill>
        <p:spPr>
          <a:xfrm>
            <a:off x="914400" y="167652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914400" y="2514600"/>
            <a:ext cx="769608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2514600"/>
            <a:ext cx="3809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43434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228600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38540" r="0" b="51496"/>
          <a:stretch/>
        </p:blipFill>
        <p:spPr>
          <a:xfrm>
            <a:off x="762120" y="91440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1752480"/>
            <a:ext cx="7696080" cy="236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752480"/>
            <a:ext cx="3810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3581280"/>
            <a:ext cx="1676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52388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0:12:57Z</dcterms:modified>
  <cp:revision>217</cp:revision>
  <dc:subject/>
  <dc:title>Slide 1</dc:title>
</cp:coreProperties>
</file>