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DEB-9290-45FA-A49F-6732DD74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593-A3DD-48AB-A360-A6D46053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849-E593-42BC-93D0-D917FD95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222-17ED-4BDC-8E34-1DDD58C7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095-67E2-445A-8501-D4BF2737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213-7FBA-4CF0-A23F-4ADCC9C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B76-C040-473D-99ED-CB136093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BE0-FA78-4D45-A899-E296561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EC4-0C7E-4A99-A36D-54F38F69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D51-7AC8-4937-BB27-639F9C10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4B9-C5DF-44BA-96AF-2BC2901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FDD-0F22-4309-B8BA-0CF50D38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14DE-BF31-43C7-91CF-85D2EC9F8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400" y="914400"/>
            <a:ext cx="6022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Ma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hind the Ra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1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10280" y="57913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2:10Z</dcterms:modified>
  <cp:revision>218</cp:revision>
  <dc:subject/>
  <dc:title>Slide 1</dc:title>
</cp:coreProperties>
</file>