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630-B4BE-4471-AE93-2DF8B201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C9D-20DC-4ECD-B65B-47A46285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906-0A71-454D-8B15-072201D7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B1B-F81D-4106-8DA7-6D6FC1B5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68F-7C28-490E-B3DA-6084710D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05B-18E9-4975-B178-D2186DCA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943-C813-4D1C-A6D1-EF9D4DCE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57F-71A0-465E-B531-769E0A64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5DB-16CE-4FF3-A0D4-752DB2A9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6A0-6420-4812-94F0-2094DB1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6ED-F058-4B50-9523-C34B6BC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FDF-C123-4AB1-8ED2-488A83FD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F943-96C8-4CC4-A126-E4176C0D38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61624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Example- part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with Sever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trol Variab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685800" y="30492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19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5335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8989"/>
          <a:stretch/>
        </p:blipFill>
        <p:spPr>
          <a:xfrm>
            <a:off x="457200" y="457200"/>
            <a:ext cx="807732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792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685800" y="304920"/>
            <a:ext cx="792468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609480"/>
            <a:ext cx="7391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533520" y="304920"/>
            <a:ext cx="800100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7848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9146"/>
          <a:stretch/>
        </p:blipFill>
        <p:spPr>
          <a:xfrm>
            <a:off x="457200" y="228600"/>
            <a:ext cx="815328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153280" cy="271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429000"/>
            <a:ext cx="815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79146"/>
          <a:stretch/>
        </p:blipFill>
        <p:spPr>
          <a:xfrm>
            <a:off x="990720" y="914400"/>
            <a:ext cx="731520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34447" r="0" b="20866"/>
          <a:stretch/>
        </p:blipFill>
        <p:spPr>
          <a:xfrm>
            <a:off x="990720" y="1981080"/>
            <a:ext cx="7315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42584" r="0" b="47928"/>
          <a:stretch/>
        </p:blipFill>
        <p:spPr>
          <a:xfrm>
            <a:off x="533520" y="2514600"/>
            <a:ext cx="792468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0" r="0" b="79146"/>
          <a:stretch/>
        </p:blipFill>
        <p:spPr>
          <a:xfrm>
            <a:off x="533520" y="1143000"/>
            <a:ext cx="79246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71600" y="3505320"/>
            <a:ext cx="62485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76212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52084" r="0" b="38415"/>
          <a:stretch/>
        </p:blipFill>
        <p:spPr>
          <a:xfrm>
            <a:off x="457200" y="2590920"/>
            <a:ext cx="784872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0" r="0" b="79146"/>
          <a:stretch/>
        </p:blipFill>
        <p:spPr>
          <a:xfrm>
            <a:off x="457200" y="1143000"/>
            <a:ext cx="784872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7620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62236" r="0" b="27638"/>
          <a:stretch/>
        </p:blipFill>
        <p:spPr>
          <a:xfrm>
            <a:off x="762120" y="12952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0" b="79146"/>
          <a:stretch/>
        </p:blipFill>
        <p:spPr>
          <a:xfrm>
            <a:off x="762120" y="3049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746748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2565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76720" y="4191120"/>
            <a:ext cx="246384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6095880" y="4191120"/>
            <a:ext cx="245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19239"/>
          <a:stretch/>
        </p:blipFill>
        <p:spPr>
          <a:xfrm>
            <a:off x="1219320" y="533520"/>
            <a:ext cx="6933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19239"/>
          <a:stretch/>
        </p:blipFill>
        <p:spPr>
          <a:xfrm>
            <a:off x="609480" y="304920"/>
            <a:ext cx="784872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34320" y="5638680"/>
            <a:ext cx="1295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0996"/>
          <a:stretch/>
        </p:blipFill>
        <p:spPr>
          <a:xfrm>
            <a:off x="914400" y="838080"/>
            <a:ext cx="73152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46564" r="0" b="15697"/>
          <a:stretch/>
        </p:blipFill>
        <p:spPr>
          <a:xfrm>
            <a:off x="914400" y="3200400"/>
            <a:ext cx="731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56465" r="0" b="32257"/>
          <a:stretch/>
        </p:blipFill>
        <p:spPr>
          <a:xfrm>
            <a:off x="533520" y="3733920"/>
            <a:ext cx="761976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0" r="0" b="61422"/>
          <a:stretch/>
        </p:blipFill>
        <p:spPr>
          <a:xfrm>
            <a:off x="533520" y="685800"/>
            <a:ext cx="761976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68031" r="0" b="21167"/>
          <a:stretch/>
        </p:blipFill>
        <p:spPr>
          <a:xfrm>
            <a:off x="685800" y="3124080"/>
            <a:ext cx="762012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0" b="61422"/>
          <a:stretch/>
        </p:blipFill>
        <p:spPr>
          <a:xfrm>
            <a:off x="685800" y="380880"/>
            <a:ext cx="762012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38703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685800" y="685800"/>
            <a:ext cx="792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09480" y="304920"/>
            <a:ext cx="792504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7925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06668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2:26:12Z</dcterms:modified>
  <cp:revision>219</cp:revision>
  <dc:subject/>
  <dc:title>Slide 1</dc:title>
</cp:coreProperties>
</file>