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2.png" ContentType="image/png"/>
  <Override PartName="/ppt/media/image36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657-D349-4907-95A7-74A5694A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B17-D4CE-4B93-A171-00BED970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C22-ECFB-4542-BB0E-53977153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2ED-39D3-46F2-8EBF-CBC727B6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047-F265-48F5-AEE5-DF468254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E52-8C21-42F3-B8FB-2CDCD9D0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FC5-E359-4BED-9E7A-9FDC04EA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6D3-C387-4AAC-AD12-8EA34B11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1D9-149C-47BF-A38B-7D32F89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438-50CA-4E34-84FD-68DDF2E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3FA-817E-4655-96AF-09F475CD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C44-8CEA-44DE-BD64-86383C3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6B45-78DB-4B0F-97BF-F587EA03F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isease Frequency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560" y="3962520"/>
            <a:ext cx="452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s, Ratios, and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versu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versu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/Rat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581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3440" y="5450040"/>
            <a:ext cx="66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uests arrive 2 per day and stay 5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many guests in the house afte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: 10 (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=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I=2, 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D=5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obabilit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cc33"/>
                </a:solidFill>
                <a:uFillTx/>
                <a:latin typeface="Arial"/>
              </a:rPr>
              <a:t>Assumes: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have disease at start of follow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die from other cause during follow-up</a:t>
            </a:r>
            <a:r>
              <a:rPr b="1" lang="en-US" sz="26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 ≤ RISK≤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% ≤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rcentag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685800" y="1295280"/>
            <a:ext cx="7772400" cy="3364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st common way to estimat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ways a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umes a fixed co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ware of at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es not allow subjects to be followed for different time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30162" r="0" b="0"/>
          <a:stretch/>
        </p:blipFill>
        <p:spPr>
          <a:xfrm>
            <a:off x="1143000" y="2438280"/>
            <a:ext cx="7086600" cy="335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1143000" y="137160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28584" r="0" b="0"/>
          <a:stretch/>
        </p:blipFill>
        <p:spPr>
          <a:xfrm>
            <a:off x="609480" y="1981080"/>
            <a:ext cx="8001000" cy="381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609480" y="914400"/>
            <a:ext cx="8001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23948" r="0" b="0"/>
          <a:stretch/>
        </p:blipFill>
        <p:spPr>
          <a:xfrm>
            <a:off x="762120" y="205740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762120" y="9907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Interpre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3317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T = total time that disease–free individuals in the cohort are observed over the study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ynonym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195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ample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467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467480" cy="8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90720" y="5105520"/>
            <a:ext cx="7467480" cy="69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4267080"/>
            <a:ext cx="3048120" cy="83844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term “Rate” is often been used incorrectly to describe a measure of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.g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ttack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Case-Fatality Ra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2286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3526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 = size of the population for this same time peri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35816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6668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25146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ten used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elat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number of ca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isease or health outcome to the size of the source pop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which they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620120" cy="335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05720" y="1828800"/>
            <a:ext cx="1752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1371600" y="12952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762120" y="914400"/>
            <a:ext cx="75438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304920"/>
            <a:ext cx="7924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umber of stillbirths per thousand live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fetal deaths out of the total number of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new cases of Parkinson’s disease which develops per 1,000 person-years of follow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ime, place and population must be specified for each type of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(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that develop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at a particular point in time or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n be viewed as describing a pool of disease in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Inci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the input flow of new cases into th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atality and recovery reflects the output flow from the p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5:51Z</dcterms:modified>
  <cp:revision>1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