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7D6-B4E4-4B7B-862F-2F9B8F40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02B-27A5-4BAD-9680-8A93875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4A2-F9C0-447D-8634-1D1DB259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0E5-4E1F-42F4-AE07-7AA32CA1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B49-7FF1-4560-B6EA-3C9A378D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806-0C19-4F28-AA7C-1281B2E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07E-8AF1-484B-A7B2-D34C3D5C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061-4B5F-4E82-A506-675A70C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095-D3F7-49F6-9350-4273E267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EAA-9BC2-4AAB-BF5B-323AB4C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4DE-8326-429B-A7BB-7C68430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D74-81E2-4C45-A9CD-AE21B15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F5A-F706-40F9-875A-AD8EF45BB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676520"/>
            <a:ext cx="6172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371600"/>
            <a:ext cx="5867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828800" y="1387440"/>
            <a:ext cx="59436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4479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420920"/>
            <a:ext cx="6248160" cy="423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541008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7:00Z</dcterms:modified>
  <cp:revision>218</cp:revision>
  <dc:subject/>
  <dc:title>Slide 1</dc:title>
</cp:coreProperties>
</file>