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8EA-52F5-47E7-8CA5-D6DBBD55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627-4BAB-4A78-9BE8-ED60EF5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316-2E4E-4CE6-B50A-5BBC6C2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5DB-0612-400D-963E-87661754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A4F-2EF2-4F9C-AADF-2BEE4EE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EA0-E3ED-45AE-B8F2-516D70D8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27F-3A16-43EE-9CE2-B2DF598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FFC-7B92-493B-88E4-B9251719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B9D-1B06-4F13-9C23-1A4B021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10D-FBC8-4793-B210-8E8C23D9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232-EFCE-41E7-82F7-1396FB3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2AF-17C6-442E-8D5D-2A00874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E15-EEA5-45C5-AAF0-DE555E7A3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idemiologic Study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rganize and summarize data according to time, place, and person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natural history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t of public health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opulations at great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health ca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 hypothesis about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ssociation between an exposure (E) and a health outcome (D), and to test hypotheses about causal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control group (base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hypotheses abou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ny research field involving the conduct of scientific investigations and the analysis of data derived from such investigations to test etiologic hypotheses, the assessment of causality is a complicated 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particular, the ability to make causal inferences in the health sciences typically depends on synthesizing results from several studies, both epidemiologic and non-epidemiologic (e.g., laboratory or clinical finding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es 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andomization – investigator can only account for variables measu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Observational Study Desig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4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046" t="7012" r="6040" b="12012"/>
          <a:stretch/>
        </p:blipFill>
        <p:spPr>
          <a:xfrm>
            <a:off x="3505320" y="1523880"/>
            <a:ext cx="1676160" cy="14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7171" t="4512" r="10707" b="14634"/>
          <a:stretch/>
        </p:blipFill>
        <p:spPr>
          <a:xfrm>
            <a:off x="3429000" y="4343400"/>
            <a:ext cx="1676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exposure variable is observed relative in time to when the health outcome is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79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15238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438280" y="1752480"/>
            <a:ext cx="4191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demiologic Study Design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 of an empirical investigation to assess an E – D relationship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ham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alth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057400" y="1676520"/>
            <a:ext cx="426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concerns whether the health outcome of interest, and therefore all study events, has already occurred before the study actually be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966" t="29440" r="1966" b="38691"/>
          <a:stretch/>
        </p:blipFill>
        <p:spPr>
          <a:xfrm>
            <a:off x="2819520" y="3657600"/>
            <a:ext cx="373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419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209680" y="1600200"/>
            <a:ext cx="43434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 or 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133720" y="1523880"/>
            <a:ext cx="4419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ity:  Always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:  Prospective or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209680" y="1371600"/>
            <a:ext cx="4267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ynony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 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ingham Heart Study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DTs and spontaneous abor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xposure Variable in Cohort Stud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common, sample from large population, then divide into E and not 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rare, sample E from special population, then sample not E from external comparison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:  Healthy work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 of Epidemiologic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:  Randomization to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:  No random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re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of certa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i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less prone to obtaining incorrec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tu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for examin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study is low-cost and quick, e.g., occupatio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sp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 is costly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ubjects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gration, lack of participation, withdrawal and de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ads to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ly and practical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effic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rare diseases with long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osed may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llowed more clos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e un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Ratio (Cumulative incidence –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Ratio (Incidence density – 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2743200"/>
            <a:ext cx="3200400" cy="241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3997" t="12580" r="2003" b="79484"/>
          <a:stretch/>
        </p:blipFill>
        <p:spPr>
          <a:xfrm>
            <a:off x="2362320" y="5105520"/>
            <a:ext cx="3200400" cy="37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2703" t="53348" r="2703" b="11829"/>
          <a:stretch/>
        </p:blipFill>
        <p:spPr>
          <a:xfrm>
            <a:off x="2362320" y="5410080"/>
            <a:ext cx="3200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408" t="1865" r="1408" b="8587"/>
          <a:stretch/>
        </p:blipFill>
        <p:spPr>
          <a:xfrm>
            <a:off x="2514600" y="1295280"/>
            <a:ext cx="411480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back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ies of aspirin and Reye's syndrom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 of animal food products and Creutzfeldt-Jakob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r, qui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icient number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ample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ety of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llow several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of disease cannot be estimat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or rare expo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 popul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which the cases der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ulation-bas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ases and controls come from the same source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spital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asily accessible, tend to be cooperative, and are in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ot usually representative of the source population and may represent an illness caused by the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3142" r="3997" b="27988"/>
          <a:stretch/>
        </p:blipFill>
        <p:spPr>
          <a:xfrm>
            <a:off x="2895480" y="2438280"/>
            <a:ext cx="3810240" cy="287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003" t="54976" r="2003" b="18551"/>
          <a:stretch/>
        </p:blipFill>
        <p:spPr>
          <a:xfrm>
            <a:off x="2895480" y="5257800"/>
            <a:ext cx="3810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003" t="3142" r="2003" b="6784"/>
          <a:stretch/>
        </p:blipFill>
        <p:spPr>
          <a:xfrm>
            <a:off x="2438280" y="1295280"/>
            <a:ext cx="3886200" cy="2934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Non-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1549" r="0" b="0"/>
          <a:stretch/>
        </p:blipFill>
        <p:spPr>
          <a:xfrm>
            <a:off x="2286000" y="1523880"/>
            <a:ext cx="4495680" cy="2324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stigator through randomization allocates subjects to different categories of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 allocation procedure that assigns subjects into (one of the) exposure groups being compared so that each subject has the same probability of being in one group as in any o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ient and in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sider several exposures and several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nerat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presents the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not establish whether the exposure preceded disease or disease influenced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dentify only prevalent cases rather than incident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bias since only survivors are available fo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nder-represent diseases with short 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 of Smoking and Peripheral Vascular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ratio (P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odds ratio (P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54" t="1890" r="1427" b="7298"/>
          <a:stretch/>
        </p:blipFill>
        <p:spPr>
          <a:xfrm>
            <a:off x="2209680" y="3200400"/>
            <a:ext cx="4419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brid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the elements of at least two basic designs, or extend the strategy of one basic design through repet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h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sted 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omplet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 which information is missing on one or more relevant f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les of Epidemiology; CDC Self-Study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in Medicine; Hennekens, B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in Public Health: Quantitative Approaches to Public Health Problems; Stroup, Teut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-Control Studies; Schlesse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nds  to make demographic, behavioral, genetic, and other characteristics of the comparison groups similar except for their exposure statu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 the study finds any difference in health outcome between the comparison groups, that difference can only be attributable to their difference in exposure statu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391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ation – unmeasured variables evenly distributed among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bias is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od for rare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54343" r="0" b="0"/>
          <a:stretch/>
        </p:blipFill>
        <p:spPr>
          <a:xfrm>
            <a:off x="1981080" y="137160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or observes the exposure and outcome status of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pidemiologic studies ar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41:09Z</dcterms:created>
  <dc:creator>Nancy Barker</dc:creator>
  <dc:description/>
  <dc:language>en-US</dc:language>
  <cp:lastModifiedBy>Nancy Barker</cp:lastModifiedBy>
  <dcterms:modified xsi:type="dcterms:W3CDTF">2004-06-12T12:41:04Z</dcterms:modified>
  <cp:revision>116</cp:revision>
  <dc:subject/>
  <dc:title>Epidemiologic Study Designs</dc:title>
</cp:coreProperties>
</file>