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1A70-33E6-4D96-BBB5-8AF74E56A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2C7E-302A-4E29-8088-8ACF5429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2D9D-8C9D-4DB0-ACC0-8B7F5FC44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6A37-E934-4B7D-A52D-1C4ECADBB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ECBA-5C9C-4E49-AAF8-4EE38DB8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A678-8783-4BEB-9395-044AA35C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6837-D95D-492B-8BA6-9D047807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21D3-BDE6-4615-8E49-64CB5569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6F67-F25B-4C90-A70D-27A2A158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0D21-FB4A-4C58-9152-D5F7C532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22BC-BEF5-4FCB-96B7-719637C6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4CC7-8FDA-4A26-AD3D-68F592F4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5283-B618-4758-97C6-3420909EC1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1280" y="1371600"/>
            <a:ext cx="597960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R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pproxima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o RR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e701"/>
                </a:solidFill>
                <a:latin typeface="Arial"/>
              </a:rPr>
              <a:t>(Case-Control Stud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181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58000" y="5638680"/>
            <a:ext cx="14479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10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152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3152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4674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4771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6934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781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629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238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7816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152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21:28Z</dcterms:modified>
  <cp:revision>216</cp:revision>
  <dc:subject/>
  <dc:title>Slide 1</dc:title>
</cp:coreProperties>
</file>