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FF5-AEEB-4333-860A-558376D9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47A-BBCC-4A56-95CE-36F8F8E6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3B1-BBB8-4E36-BEA4-6C5CF07D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575-4FA0-451D-9C44-656248B4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620-A7A4-43AE-A470-0E724F20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86B-8DA8-4785-BCD0-9FF226A5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F2D-DC40-42F9-B4BB-4D992A7C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FEB-1CB4-491A-A4D6-A7C3B3D9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F93-A890-460B-8D96-508B74D3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87F-6FEB-4DB6-BFF0-5F51D743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B33-41E6-46F9-B2F1-60CD2529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32C-A3BF-4A28-B0B3-A453FF60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A1A7-A89E-4388-8BCC-1B8A3D362C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360" y="1676520"/>
            <a:ext cx="678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 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erson-Time Dat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1028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693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86600" cy="99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08660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6934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4800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467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31520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373392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76520" y="3733920"/>
            <a:ext cx="6400800" cy="2603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 rot="10800000">
            <a:off x="1143000" y="205704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flipH="1" rot="10800000">
            <a:off x="6705720" y="205704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 flipH="1" rot="10800000">
            <a:off x="1143000" y="3657600"/>
            <a:ext cx="5335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 flipH="1" rot="10800000">
            <a:off x="8001000" y="3657600"/>
            <a:ext cx="457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693396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5105160" cy="2667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flipH="1" rot="10800000">
            <a:off x="6934320" y="3505320"/>
            <a:ext cx="9903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flipH="1" rot="10800000">
            <a:off x="990720" y="3505320"/>
            <a:ext cx="914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172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739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69608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69608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396252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696080" y="83808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 flipH="1" rot="10800000">
            <a:off x="5943600" y="1904760"/>
            <a:ext cx="2666880" cy="144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 flipH="1" rot="10800000">
            <a:off x="914400" y="1676160"/>
            <a:ext cx="1143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7086600" cy="2666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3505320"/>
            <a:ext cx="9903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670572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 flipH="1" rot="10800000">
            <a:off x="7620120" y="762120"/>
            <a:ext cx="609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14:10:43Z</dcterms:modified>
  <cp:revision>217</cp:revision>
  <dc:subject/>
  <dc:title>Slide 1</dc:title>
</cp:coreProperties>
</file>