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779-E129-4D1C-82E6-4D4C39D6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2C6-24F3-4251-BFA5-377CCAB3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7F9-CF78-4D34-A2D1-D15EE024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16A-3BFF-4D32-BE9A-E7D21F22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2F0-8D2D-496F-905D-1C22B596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493-E03B-4352-B5BE-A868C10F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807-9A42-4F4A-BA00-E9111E3A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749-14D4-4A1C-B3C9-0B6AB74D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FF4-307C-4F5A-B250-FD6478CF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B26-3D6A-4200-A3EA-3C3D546F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8ED-3A75-4174-A4FF-817505DF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C0C-EEA3-4F4E-9344-FFFB4917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3E45-31E8-473A-9FD0-4E9A93093F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ID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7772400" cy="232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80560" y="29718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924680" cy="5638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8680" y="2995560"/>
            <a:ext cx="22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7070"/>
                </a:solidFill>
                <a:latin typeface="Times New Roman"/>
              </a:rPr>
              <a:t>Sourc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58680" y="3124080"/>
            <a:ext cx="22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7070"/>
                </a:solidFill>
                <a:latin typeface="Times New Roman"/>
              </a:rPr>
              <a:t>Sourc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658680" y="3124080"/>
            <a:ext cx="22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7070"/>
                </a:solidFill>
                <a:latin typeface="Times New Roman"/>
              </a:rPr>
              <a:t>Sourc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9144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086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3581280" cy="121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693432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3733920"/>
            <a:ext cx="698688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* = size of source population in stead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 = time length of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5867640" cy="200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77240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24480" y="419112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148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772400" cy="241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4:03Z</dcterms:modified>
  <cp:revision>218</cp:revision>
  <dc:subject/>
  <dc:title>Slide 1</dc:title>
</cp:coreProperties>
</file>