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AB1-1C56-4402-A213-2998205F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7F7-FEEB-4299-8A5A-18851C14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2E9-E651-4FD9-834E-43932E21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0A1-1071-41D2-9F47-0835AE04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E22-7966-4E26-AC91-C374D07D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B79-38C3-4EFE-BFE1-5938D936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25A-0438-43F7-A996-63AE52FD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B9E-ACD8-49C9-8A39-76170C16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549-E40F-4FAE-8238-9C1093D7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147-8B2F-45FA-B7CC-52A2BAC7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09F-341C-4ACB-B215-A809705F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999-E70B-4E6B-8CD4-253F23C3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ABC0-BD34-4360-9026-D351E568EA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9360" y="1295280"/>
            <a:ext cx="608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Both Exposur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And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620120" cy="990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3886200"/>
            <a:ext cx="15238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267080"/>
            <a:ext cx="7467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7620120" cy="221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2619360"/>
            <a:ext cx="7620120" cy="80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14400" y="3505320"/>
            <a:ext cx="762012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543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340320" cy="548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10280" y="2438280"/>
            <a:ext cx="129564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010280" y="457200"/>
            <a:ext cx="12956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4648320"/>
            <a:ext cx="129564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620120" cy="158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219320" y="4800600"/>
            <a:ext cx="6553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238880" cy="2587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4267080"/>
            <a:ext cx="2806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3336840"/>
            <a:ext cx="7925040" cy="39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92504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925040" cy="327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4390920"/>
            <a:ext cx="7925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9246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2562120"/>
            <a:ext cx="7924680" cy="714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3504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79250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92504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777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02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8229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925040" cy="29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20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76201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620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543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620120" cy="99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34320" y="4952880"/>
            <a:ext cx="15238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5:11:11Z</dcterms:modified>
  <cp:revision>215</cp:revision>
  <dc:subject/>
  <dc:title>Slide 1</dc:title>
</cp:coreProperties>
</file>