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855-548C-4E99-9B20-05C70D1C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A8F-E9FD-4F2B-A66C-9C42BD2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825-5802-4907-A7C2-3E217C25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9A9-5458-464B-8175-8A33628F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538-31D3-444A-B4B7-BFC78EC9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B0C-C9B5-49A7-9715-5F26D6E3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A97-7C6B-4293-9676-F2F3CC0D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539-9E39-4B0F-A3B7-8BAE13B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321-7D26-407D-ACC3-4706ABE9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5E6-3340-4263-BCE9-39ED730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5E5-8274-4A81-A7DC-3A45C5E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E21-776B-4C5E-8161-122B790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918E-1C2D-4938-BF3A-D52768DDCF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1219320"/>
                <a:ext cx="289584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00200" y="4724280"/>
                <a:ext cx="56386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0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9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52680" y="2895480"/>
                <a:ext cx="43434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81280" y="5562720"/>
                <a:ext cx="42674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propor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proportion: 0.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1447920"/>
                <a:ext cx="350532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3520" y="4800600"/>
                <a:ext cx="81532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95% 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between propor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715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I for difference between propor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65760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3657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pretation of 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1911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a Taylor Series approximation for th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312408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3733920" cy="72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31240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s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181480" cy="1609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8862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37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Density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876920" cy="120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2971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7242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perties of Confidence Interva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der the CI, the less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narrow the CI, the more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Note:  The confidence interval does not address the issue of b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ffects the Confidence Interv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of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R, OR, IDR, the strength of the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imila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formulas, (approximate and exa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ther account for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ly equivalent (Theoretically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same information as a statistical test, plu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reminds reader of var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range of compatible values (interval estim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more clearly shows influence of sampl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3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40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8, 61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, 1.0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7, 0.9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5, 0.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&lt;0.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4, 17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9, 16.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01, 15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, 8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0958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6390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evidence that the population parameter, e.g.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D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fferent from the null val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determine the precision of the point estimate by accounting for sampling variabi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ample information to compute two numbers,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bout which we can claim with a certain amount of confidence, say 95%, that they surround the true value of the par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l CI Formul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ve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*Note:  The variance in this formula refers 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variance [ln (point estimate)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2362320"/>
                <a:ext cx="7162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int estimate 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standard normal deviate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880" y="4114800"/>
                <a:ext cx="8534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standard normal deviate 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iance</m:t>
                            </m:r>
                          </m:e>
                          <m:sup/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8120" y="1447920"/>
                <a:ext cx="28954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9" name=""/>
          <p:cNvGraphicFramePr/>
          <p:nvPr/>
        </p:nvGraphicFramePr>
        <p:xfrm>
          <a:off x="2743200" y="3886200"/>
          <a:ext cx="3962520" cy="1765440"/>
        </p:xfrm>
        <a:graphic>
          <a:graphicData uri="http://schemas.openxmlformats.org/drawingml/2006/table">
            <a:tbl>
              <a:tblPr/>
              <a:tblGrid>
                <a:gridCol w="2168640"/>
                <a:gridCol w="179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onfidence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Z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4:13:38Z</dcterms:created>
  <dc:creator>Nancy Barker</dc:creator>
  <dc:description/>
  <dc:language>en-US</dc:language>
  <cp:lastModifiedBy>Nancy Barker</cp:lastModifiedBy>
  <dcterms:modified xsi:type="dcterms:W3CDTF">2004-11-08T18:25:16Z</dcterms:modified>
  <cp:revision>50</cp:revision>
  <dc:subject/>
  <dc:title>Confidence Intervals</dc:title>
</cp:coreProperties>
</file>