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5EF-4C1D-4B53-B047-D85223D2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F84-DF51-483F-94DC-C18040E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1BC-1125-460F-BEC1-51CC9D16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9E1-BA79-478F-88B6-7AC2DDEB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5F0-C5A1-4365-B13A-ED7720EE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3A1-E024-48F4-B204-6F0100E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703-4557-4414-B012-9991D442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9E0-6393-4217-9577-B9B7E151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524-9599-4676-9E8D-9191EA5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55C-D470-44EE-9C55-CF82658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2AC-E04B-4BD5-A1AE-83601EF5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38D-32FE-4411-B614-6477205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6AD5-4E1A-4A6A-B58D-666FDE6B4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BI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31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32Z</dcterms:modified>
  <cp:revision>95</cp:revision>
  <dc:subject/>
  <dc:title>The Art in the State of the Art</dc:title>
</cp:coreProperties>
</file>