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A711-E1D4-44DF-BE48-74B718D5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6936-5F70-4985-9742-1F8DCF6E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A0F1-FD73-4A0C-A2CE-E10E3070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8615-40D2-4B65-8351-CFA1BEC5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F64C-46B4-491E-9F78-E0F1D903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BB36-0089-4571-9904-24C8C044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118F-89D9-4C95-A497-650F07E5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B523-1E96-4196-BDFC-3F2178E9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2C1F-0996-427D-8F25-BE66A16E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D3CE-3A51-4513-A9CB-BD78278C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DB20-061C-4165-AAD3-A1546567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6A6F-2746-4114-B43D-8C972437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E3FC-48EA-4F4B-9238-20A912953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Stratified Analysi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543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85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467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4572000"/>
            <a:ext cx="7467840" cy="129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8080" y="1143000"/>
            <a:ext cx="7467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3809880"/>
            <a:ext cx="7467480" cy="1150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14400" y="770040"/>
            <a:ext cx="7467480" cy="3047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209680" y="5029200"/>
            <a:ext cx="42674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467840" cy="381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080" y="5029200"/>
            <a:ext cx="746784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705720" y="540216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586728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467480" cy="2895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7467480" cy="914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0" y="364968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411480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74674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18:56:14Z</dcterms:modified>
  <cp:revision>43</cp:revision>
  <dc:subject/>
  <dc:title>PowerPoint Presentation</dc:title>
</cp:coreProperties>
</file>