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872-98A0-4E00-97DA-5B6414E7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E90-F2C3-4C5B-8754-2BD1921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365-9D5C-49B8-9EE0-7F5BFF6F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2B3-196C-41AB-9DF8-81F1FDD8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400-EE0C-4000-9C2A-5CF3622E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160-99C2-4632-9FDC-DD570D3C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A28-5CF3-4885-B32F-8D134B0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CDC-68BB-44A6-A185-FA776058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431-CC43-4AAB-8513-7E274A0F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8F2-CA03-4347-BA72-CCAE61EA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B2C-C9B6-4F56-A5BF-C8DAFF2A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DA5-A1FA-445D-B46E-F0BAE87F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7FE3-A4B6-41EF-B8F1-63D34B35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confo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to assess confo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riori criteria for conf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289"/>
          <a:stretch/>
        </p:blipFill>
        <p:spPr>
          <a:xfrm>
            <a:off x="685800" y="45720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5320" y="1905120"/>
            <a:ext cx="62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How do 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valu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066680" y="990720"/>
            <a:ext cx="723924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0" y="4648320"/>
            <a:ext cx="42148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RR’s over different st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09480" y="1143000"/>
            <a:ext cx="7848720" cy="5181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50332" r="0" b="29128"/>
          <a:stretch/>
        </p:blipFill>
        <p:spPr>
          <a:xfrm>
            <a:off x="609480" y="380880"/>
            <a:ext cx="7848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2483"/>
          <a:stretch/>
        </p:blipFill>
        <p:spPr>
          <a:xfrm>
            <a:off x="838080" y="457200"/>
            <a:ext cx="7696440" cy="297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59219" r="0" b="12029"/>
          <a:stretch/>
        </p:blipFill>
        <p:spPr>
          <a:xfrm>
            <a:off x="838080" y="3352680"/>
            <a:ext cx="7696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5432" r="0" b="7610"/>
          <a:stretch/>
        </p:blipFill>
        <p:spPr>
          <a:xfrm>
            <a:off x="685800" y="68580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-2958" t="76806" r="0" b="13631"/>
          <a:stretch/>
        </p:blipFill>
        <p:spPr>
          <a:xfrm>
            <a:off x="457200" y="5791320"/>
            <a:ext cx="7772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68580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096" t="13193" r="4394" b="70872"/>
          <a:stretch/>
        </p:blipFill>
        <p:spPr>
          <a:xfrm>
            <a:off x="1295280" y="3429000"/>
            <a:ext cx="678204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77640" y="2249640"/>
            <a:ext cx="682092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quently used approach for deciding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meaningful difference when ass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990720" y="380880"/>
            <a:ext cx="70866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2178" r="0" b="25247"/>
          <a:stretch/>
        </p:blipFill>
        <p:spPr>
          <a:xfrm>
            <a:off x="990720" y="182880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1600200"/>
            <a:ext cx="1295640" cy="368280"/>
          </a:xfrm>
          <a:prstGeom prst="rect">
            <a:avLst/>
          </a:prstGeom>
          <a:solidFill>
            <a:srgbClr val="85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ypic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8580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762120" y="457200"/>
            <a:ext cx="761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60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Characteris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Of Adjusted Estim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31356" r="1238" b="31669"/>
          <a:stretch/>
        </p:blipFill>
        <p:spPr>
          <a:xfrm>
            <a:off x="1295280" y="990720"/>
            <a:ext cx="678204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6840" y="4038480"/>
            <a:ext cx="4757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ypically, a weighted averag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947" t="0" r="10679" b="35374"/>
          <a:stretch/>
        </p:blipFill>
        <p:spPr>
          <a:xfrm>
            <a:off x="1066680" y="1600200"/>
            <a:ext cx="7315200" cy="4495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1947" t="50332" r="10679" b="29128"/>
          <a:stretch/>
        </p:blipFill>
        <p:spPr>
          <a:xfrm>
            <a:off x="1066680" y="609480"/>
            <a:ext cx="7315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60183"/>
          <a:stretch/>
        </p:blipFill>
        <p:spPr>
          <a:xfrm>
            <a:off x="762120" y="533520"/>
            <a:ext cx="7619760" cy="287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4440" y="3809880"/>
            <a:ext cx="7910280" cy="1557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re complicated version of a weighted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 typically used for adjusted risk ratio and od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estimates is called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ION-BASED ADJUSTED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858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68580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33308"/>
          <a:stretch/>
        </p:blipFill>
        <p:spPr>
          <a:xfrm>
            <a:off x="762120" y="762120"/>
            <a:ext cx="7924680" cy="4190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78200" y="38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7200" y="5181480"/>
            <a:ext cx="8235000" cy="11912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ample size in stratum 1 was 10 times high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vious example, would an arithmetic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appropriate?   Answer: 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5335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609480" y="38088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83600" y="2362320"/>
            <a:ext cx="491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riteria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62912"/>
          <a:stretch/>
        </p:blipFill>
        <p:spPr>
          <a:xfrm>
            <a:off x="762120" y="838080"/>
            <a:ext cx="7772400" cy="2667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12918" r="0" b="59144"/>
          <a:stretch/>
        </p:blipFill>
        <p:spPr>
          <a:xfrm>
            <a:off x="762120" y="350532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39930"/>
          <a:stretch/>
        </p:blipFill>
        <p:spPr>
          <a:xfrm>
            <a:off x="914400" y="762120"/>
            <a:ext cx="739152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2133720"/>
            <a:ext cx="68580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1066680"/>
            <a:ext cx="69343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457200" y="304920"/>
            <a:ext cx="8153280" cy="601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75904" r="0" b="7610"/>
          <a:stretch/>
        </p:blipFill>
        <p:spPr>
          <a:xfrm>
            <a:off x="457200" y="5486400"/>
            <a:ext cx="8153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7621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7400" y="4952880"/>
            <a:ext cx="44146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you control for 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6094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0680" y="5373720"/>
            <a:ext cx="757512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f these criteria must be satisfied for a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considered a confou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609480" y="1523880"/>
            <a:ext cx="7848720" cy="480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50332" r="0" b="29128"/>
          <a:stretch/>
        </p:blipFill>
        <p:spPr>
          <a:xfrm>
            <a:off x="609480" y="53352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58720" y="1981080"/>
            <a:ext cx="79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Confounding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Different Study Desig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09480" y="68580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81680" y="5867280"/>
            <a:ext cx="1752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457200" y="380880"/>
            <a:ext cx="83059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43660" r="0" b="10264"/>
          <a:stretch/>
        </p:blipFill>
        <p:spPr>
          <a:xfrm>
            <a:off x="685800" y="243828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3240" y="5297400"/>
            <a:ext cx="606168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we are “controlling for smok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moking is a “control vari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-2416" r="0" b="66754"/>
          <a:stretch/>
        </p:blipFill>
        <p:spPr>
          <a:xfrm>
            <a:off x="685800" y="457200"/>
            <a:ext cx="769608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36638" t="33258" r="39605" b="54863"/>
          <a:stretch/>
        </p:blipFill>
        <p:spPr>
          <a:xfrm>
            <a:off x="6629400" y="137160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3247" r="0" b="8336"/>
          <a:stretch/>
        </p:blipFill>
        <p:spPr>
          <a:xfrm>
            <a:off x="685800" y="2438280"/>
            <a:ext cx="8001000" cy="307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14720" r="0" b="71911"/>
          <a:stretch/>
        </p:blipFill>
        <p:spPr>
          <a:xfrm>
            <a:off x="685800" y="5410080"/>
            <a:ext cx="8001000" cy="10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-2416" r="0" b="66754"/>
          <a:stretch/>
        </p:blipFill>
        <p:spPr>
          <a:xfrm>
            <a:off x="685800" y="457200"/>
            <a:ext cx="800100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36638" t="33258" r="39605" b="54863"/>
          <a:stretch/>
        </p:blipFill>
        <p:spPr>
          <a:xfrm>
            <a:off x="6858000" y="137160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2505" r="0" b="72963"/>
          <a:stretch/>
        </p:blipFill>
        <p:spPr>
          <a:xfrm>
            <a:off x="914400" y="281952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43072" r="0" b="13193"/>
          <a:stretch/>
        </p:blipFill>
        <p:spPr>
          <a:xfrm>
            <a:off x="914400" y="609480"/>
            <a:ext cx="7543800" cy="2229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47003" t="56669" r="14002" b="22000"/>
          <a:stretch/>
        </p:blipFill>
        <p:spPr>
          <a:xfrm>
            <a:off x="914400" y="3733920"/>
            <a:ext cx="7543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002" t="17887" r="1918" b="7948"/>
          <a:stretch/>
        </p:blipFill>
        <p:spPr>
          <a:xfrm>
            <a:off x="762120" y="457200"/>
            <a:ext cx="746748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71135"/>
          <a:stretch/>
        </p:blipFill>
        <p:spPr>
          <a:xfrm>
            <a:off x="762120" y="4724280"/>
            <a:ext cx="746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5T18:31:32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