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BBB6-2F96-4FD3-8191-AB68E9AF3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DB47-5CB0-46AF-98D4-8BB51860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13E4-DE92-4D69-BD14-E311C5B87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7BF8-1BB1-4569-9C5F-771DA1045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C1AC-F18D-4716-81E5-F89789F1F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7489-265F-4E7E-965A-A661F5672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9197-5727-4717-8FB9-13651D56A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8D75-9498-4A46-B7D9-BD03A647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E7CC-CCA2-43EC-BC9D-A14B89AB5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8150-8557-4DBF-86E1-5C120DF8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200A-1882-4ED2-A049-D9FCD1A1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D9C8-D1F9-4DA6-A549-A131D4C7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277D2-309C-4344-8EE0-25EF0FCE5D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TYPES OF EPI STUDIE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315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1629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010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866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315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3152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4678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39152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106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1625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086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238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238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09-29T14:52:58Z</dcterms:modified>
  <cp:revision>96</cp:revision>
  <dc:subject/>
  <dc:title>The Art in the State of the Art</dc:title>
</cp:coreProperties>
</file>