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7D7-27E0-4888-9765-974D0C03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B72-D6D9-407A-8E73-084683E2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FAD-FF1B-4883-9A9B-FB955BE7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E01-91BE-45C9-8E43-13308AD0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5E21-2E38-4181-8919-BB90169E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7AC-D9F2-4CCA-A641-2F62E0AA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C102-B5A9-4730-B8CA-360CDC92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0F9-5201-4D23-9C8F-EF19BF19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AB1-A2A5-4352-AD17-FC8A2DBB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4355-4C03-476F-8C6A-ADF9EC20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EEF-11B8-4A72-9FD2-E9E56B82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DE75-C7CB-4A6A-8661-6BBFB45A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A9B4-2D99-494A-A532-AD4EFB4AC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Mantel-Haenszel Test-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arge Sample Version of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isher’s Exact Te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162920" cy="3505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295280" y="4876920"/>
            <a:ext cx="6858000" cy="1600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895480" y="5105520"/>
            <a:ext cx="533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162920" cy="3048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43000" y="3505320"/>
            <a:ext cx="7162920" cy="838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7086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162920" cy="3048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716292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66680" y="4648320"/>
            <a:ext cx="716292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848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248160" cy="2362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0" y="3200400"/>
            <a:ext cx="4267080" cy="838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00400" y="4038480"/>
            <a:ext cx="2514600" cy="68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828800" y="4724280"/>
            <a:ext cx="548640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447920" y="32004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447920" y="3962520"/>
            <a:ext cx="1828800" cy="76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6553080" y="32004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638680" y="3962520"/>
            <a:ext cx="2057400" cy="761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447920" y="4724280"/>
            <a:ext cx="46980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7238880" y="4724280"/>
            <a:ext cx="457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58000" cy="4267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808200"/>
            <a:ext cx="6858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ternative to large sample t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238880" cy="358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9320" y="351000"/>
            <a:ext cx="7238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ternative to large sample t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594360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58000" y="449568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248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238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81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86400" y="4876920"/>
            <a:ext cx="289548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dcdc"/>
                </a:solidFill>
                <a:latin typeface="Times New Roman"/>
              </a:rPr>
              <a:t>(Previous L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dcdc"/>
                </a:solidFill>
                <a:latin typeface="Times New Roman"/>
              </a:rPr>
              <a:t>Sample Form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20:38:39Z</dcterms:modified>
  <cp:revision>41</cp:revision>
  <dc:subject/>
  <dc:title>PowerPoint Presentation</dc:title>
</cp:coreProperties>
</file>