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ct" ContentType="image/x-pict"/>
  <Override PartName="/ppt/media/image11.png" ContentType="image/png"/>
  <Override PartName="/ppt/media/image6.pct" ContentType="image/x-pict"/>
  <Override PartName="/ppt/media/image17.pct" ContentType="image/x-pict"/>
  <Override PartName="/ppt/media/image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F54-6F0E-4B88-8E34-328915C8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965-FCC6-4A29-9B53-5B688536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97F-7827-4FC8-99EA-09115B71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527-CCE4-4C48-8FD0-45154C8E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A6A-966A-4402-8CF8-CCB3C276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ADD-B505-4870-9FC7-4BB6C1EF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86C-3657-4E11-A626-438F8D2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01E-C911-43D5-A92C-FCE07C62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93E-CDE8-43F3-900B-C1B534D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5FD-72B5-471D-8587-BD4221BB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7B3-0334-40E1-8113-EF874BA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2D4-C5CC-4670-A053-36959A1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A635-0B08-4386-AD0E-D21D77135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838188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160405000"/>
          <a:stretch/>
        </p:blipFill>
        <p:spPr>
          <a:xfrm>
            <a:off x="380880" y="1447920"/>
            <a:ext cx="8458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478320"/>
            <a:ext cx="8305920" cy="2590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305920" cy="9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3505320"/>
            <a:ext cx="16765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4742667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4280" y="2286000"/>
            <a:ext cx="564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wo Importan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rincip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1095667"/>
          <a:stretch/>
        </p:blipFill>
        <p:spPr>
          <a:xfrm>
            <a:off x="533520" y="749160"/>
            <a:ext cx="79246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9862000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9646000"/>
          <a:stretch/>
        </p:blipFill>
        <p:spPr>
          <a:xfrm>
            <a:off x="609480" y="762120"/>
            <a:ext cx="8001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9247000"/>
          <a:stretch/>
        </p:blipFill>
        <p:spPr>
          <a:xfrm>
            <a:off x="380880" y="457200"/>
            <a:ext cx="83059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549667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676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5:01Z</dcterms:created>
  <dc:creator>david g. kleinbaum</dc:creator>
  <dc:description/>
  <dc:language>en-US</dc:language>
  <cp:lastModifiedBy>david g kleinbaum</cp:lastModifiedBy>
  <dcterms:modified xsi:type="dcterms:W3CDTF">2003-10-28T04:08:00Z</dcterms:modified>
  <cp:revision>22</cp:revision>
  <dc:subject/>
  <dc:title>PowerPoint Presentation</dc:title>
</cp:coreProperties>
</file>