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57F-86C2-4214-9CDE-09CDDB59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F30-A47A-4769-B322-01E7D222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179-B230-4EF9-96BD-8A78577E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5A3-521E-46B6-9828-1993B157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0D7-D370-4373-ABD2-651BE76A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1CD-AEA6-4364-B2AF-107627B5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4C8-8FB5-4253-AB31-39CC90DB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D72-0A64-4047-955E-F1489718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85D-1E0F-4FE3-A77B-3E5810D2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637-8DEC-4406-BA1A-79A42298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15A-3E0B-4A38-8AA2-08C783A1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B5C-FCA4-4A6D-AEC9-45D76EB1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48DC-0ACB-4CEF-9BAC-414D597FB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xercise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n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founding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Mod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1028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70102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543800" cy="2638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7772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419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7315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24696"/>
          <a:stretch/>
        </p:blipFill>
        <p:spPr>
          <a:xfrm>
            <a:off x="1371600" y="1828800"/>
            <a:ext cx="6477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447920"/>
            <a:ext cx="6400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143000" y="1676520"/>
            <a:ext cx="670572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5486400"/>
            <a:ext cx="6629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95280" y="1447920"/>
            <a:ext cx="64771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19320" y="1371600"/>
            <a:ext cx="670536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00800" y="5105520"/>
            <a:ext cx="1143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4280"/>
            <a:ext cx="647712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960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371600"/>
            <a:ext cx="60199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58920"/>
            <a:ext cx="624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1066680" y="12952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838080" y="685800"/>
            <a:ext cx="7162920" cy="4221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59129" t="52668" r="26000" b="41700"/>
          <a:stretch/>
        </p:blipFill>
        <p:spPr>
          <a:xfrm>
            <a:off x="3048120" y="5105520"/>
            <a:ext cx="259056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914400" y="480060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914400" y="13716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762120"/>
            <a:ext cx="6858000" cy="3047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59252" t="52668" r="26000" b="41334"/>
          <a:stretch/>
        </p:blipFill>
        <p:spPr>
          <a:xfrm>
            <a:off x="2819520" y="4572000"/>
            <a:ext cx="350496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066680" y="4191120"/>
            <a:ext cx="6858000" cy="761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066680" y="1143000"/>
            <a:ext cx="6858000" cy="304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67057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58864" t="53556" r="24730" b="42002"/>
          <a:stretch/>
        </p:blipFill>
        <p:spPr>
          <a:xfrm>
            <a:off x="2971800" y="5105520"/>
            <a:ext cx="320040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219320" y="4343400"/>
            <a:ext cx="670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143000" y="3809880"/>
            <a:ext cx="68580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629400" y="40384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6705360" cy="495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76920" y="3657600"/>
            <a:ext cx="2209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219320" y="297180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219320" y="30492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81680" y="33526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rcRect l="51004" t="47338" r="4001" b="23335"/>
          <a:stretch/>
        </p:blipFill>
        <p:spPr>
          <a:xfrm>
            <a:off x="1295280" y="3657600"/>
            <a:ext cx="67057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495680" y="2819520"/>
            <a:ext cx="2590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9718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43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7848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4448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7543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96080" cy="472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5257800"/>
            <a:ext cx="6858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24680" cy="4495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7239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7T22:31:22Z</dcterms:modified>
  <cp:revision>1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