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E6A-4D29-4417-BC16-5BFEC862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462-43F5-4802-8EB0-A16EC128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B9A-E25D-4891-A2C5-08580543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C63-53A5-4C57-ADF8-3EDDF2F4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689-E7CF-4E3C-95B6-BA666F6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2B1-9182-4CA4-A178-B1962057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57C-98E3-42F8-A694-87BC32D8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D34-3C95-48D0-9161-868BF360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485-07C4-4B56-B9A8-4543DDA4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0F6-849F-4B6F-B44C-1F63677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A59-CA33-4948-9B8D-E195C41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BF0-B4E9-4663-9C73-EC33655E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C536-37DE-4959-8831-0337FDF64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 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86200"/>
            <a:ext cx="843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Symbol"/>
                <a:ea typeface="Symbol"/>
              </a:rPr>
              <a:t>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What is epidemi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Symbol"/>
                <a:ea typeface="Symbol"/>
              </a:rPr>
              <a:t>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verview of epi methodolog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Sydney Beach Users Study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ntroduction to ActivE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HE SYDNEY BEACH USERS STU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1200" y="1736640"/>
            <a:ext cx="797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s the study of health and ill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human or other (e.g., veterinar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pul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523880"/>
            <a:ext cx="8229600" cy="312444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648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733920" cy="5181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3504960" cy="510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41520" y="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111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543800" cy="3783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5029200"/>
            <a:ext cx="3049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981080"/>
            <a:ext cx="99036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54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54840" y="5105520"/>
            <a:ext cx="23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1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2084400"/>
            <a:ext cx="7619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383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8153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7640" y="182880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59092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A CD-ROM MULTIMED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LEARNER-INTERACTIVE COURS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FUNDAMENTALS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fa62a"/>
                </a:solidFill>
                <a:latin typeface="Arial"/>
              </a:rPr>
              <a:t>(FOR WINDOWS AND 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6720" y="685800"/>
            <a:ext cx="85446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Initially,  study and control of epi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Now,  much broader in scop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cute and infectious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quality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ental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ccupational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io-terror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3120" y="167652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WHO DEVELOP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438280"/>
            <a:ext cx="7010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DAVID G. KLEINBAUM- AUTHO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DATA DESCRIPTION (Ithaca, NY)-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MEDIA  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SPRINGER-VERLAG- PUBLIS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20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Course outline covers topics in most      intro epi texts </a:t>
            </a: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Chapter Topics </a:t>
            </a: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(e.g., Measures of Effect, Confounding)</a:t>
            </a: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 are called “Less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15 Lessons, each with several “Activ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3480" y="1143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W ORGANIZ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Video and/or Animated Ex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Narrated Instructional Exposition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Study and/or Multiple-Choice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Interactively-designed Short Quizze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Computer Exercise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Linkage to World Wide 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720" y="1523880"/>
            <a:ext cx="69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LESSON COMPONENTS (“ACTIVITI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543800" cy="2226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ologic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test hypo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planatory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8c11ae"/>
                </a:solidFill>
                <a:latin typeface="Times New Roman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Variables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8c11ae"/>
                </a:solidFill>
                <a:latin typeface="Times New Roman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200" y="1676520"/>
            <a:ext cx="7511040" cy="2244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8a4b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estimate disease frequency and time tren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generate etiologic hypotheses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solidFill>
            <a:srgbClr val="eeb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56840" y="230040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6f1"/>
                </a:solidFill>
                <a:latin typeface="Times New Roman"/>
              </a:rPr>
              <a:t>Key Challenges in etiologic 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OLOGIC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ISSUES IN EPI ?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153280" cy="563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1800" y="3032280"/>
            <a:ext cx="369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= exposur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c6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8dc6ff"/>
                </a:solidFill>
                <a:latin typeface="Times New Roman"/>
              </a:rPr>
              <a:t> = contro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720" y="2895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11ae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5:28Z</dcterms:modified>
  <cp:revision>103</cp:revision>
  <dc:subject/>
  <dc:title>The Art in the State of the Art</dc:title>
</cp:coreProperties>
</file>