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C8D08-61E6-401B-BD77-0406207DB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ECB9E-184B-4A8B-A235-459BA88D3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638A1-F01D-4B49-A70A-2AFC96392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E956D-88F4-4ACA-B5F6-03884F033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D63F3-07D8-4213-AC18-2E61FEF00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A0B1B-B302-40FF-B7C7-A3F837925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4A0F1-2506-46D3-AD73-C9012CEF6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82890-FEFC-4364-AEC8-4CCF9D070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BBE3C-C5D0-49B1-85D2-C576E2EBC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C51E6-4E7B-4090-8338-BFDF6B804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2C8C0-4421-4C3C-AF27-147EEA199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0ADF2-FA4B-4A4E-9722-F90DE39BE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E6100-5AE1-4AC9-BEAD-6619043595E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3000" y="1523880"/>
            <a:ext cx="68709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   </a:t>
            </a: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General Formula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For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Precision- based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aRR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rcRect l="0" t="0" r="0" b="14282"/>
          <a:stretch/>
        </p:blipFill>
        <p:spPr>
          <a:xfrm>
            <a:off x="838080" y="1066680"/>
            <a:ext cx="723924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rcRect l="0" t="0" r="0" b="15947"/>
          <a:stretch/>
        </p:blipFill>
        <p:spPr>
          <a:xfrm>
            <a:off x="990720" y="762120"/>
            <a:ext cx="72388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rcRect l="0" t="0" r="0" b="41920"/>
          <a:stretch/>
        </p:blipFill>
        <p:spPr>
          <a:xfrm>
            <a:off x="838080" y="762120"/>
            <a:ext cx="739152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rcRect l="0" t="0" r="0" b="44711"/>
          <a:stretch/>
        </p:blipFill>
        <p:spPr>
          <a:xfrm>
            <a:off x="838080" y="685800"/>
            <a:ext cx="7315200" cy="289548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rcRect l="0" t="18551" r="0" b="44374"/>
          <a:stretch/>
        </p:blipFill>
        <p:spPr>
          <a:xfrm>
            <a:off x="838080" y="3581280"/>
            <a:ext cx="7315200" cy="22100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990720" y="1752480"/>
            <a:ext cx="169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wo strata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90720" y="3276720"/>
            <a:ext cx="136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G strata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rcRect l="0" t="0" r="0" b="14996"/>
          <a:stretch/>
        </p:blipFill>
        <p:spPr>
          <a:xfrm>
            <a:off x="838080" y="762120"/>
            <a:ext cx="75438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rcRect l="0" t="0" r="0" b="46163"/>
          <a:stretch/>
        </p:blipFill>
        <p:spPr>
          <a:xfrm>
            <a:off x="990720" y="533520"/>
            <a:ext cx="7238880" cy="54100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rcRect l="0" t="18551" r="0" b="44374"/>
          <a:stretch/>
        </p:blipFill>
        <p:spPr>
          <a:xfrm>
            <a:off x="990720" y="1752480"/>
            <a:ext cx="6858000" cy="18288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295280" y="3962520"/>
            <a:ext cx="914400" cy="1218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696080" y="1600200"/>
            <a:ext cx="2286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rcRect l="0" t="0" r="0" b="42859"/>
          <a:stretch/>
        </p:blipFill>
        <p:spPr>
          <a:xfrm>
            <a:off x="609480" y="990720"/>
            <a:ext cx="792504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rcRect l="0" t="0" r="0" b="20003"/>
          <a:stretch/>
        </p:blipFill>
        <p:spPr>
          <a:xfrm>
            <a:off x="1066680" y="685800"/>
            <a:ext cx="716292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0" t="0" r="0" b="20003"/>
          <a:stretch/>
        </p:blipFill>
        <p:spPr>
          <a:xfrm>
            <a:off x="762120" y="609480"/>
            <a:ext cx="7696080" cy="40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rcRect l="0" t="0" r="0" b="19277"/>
          <a:stretch/>
        </p:blipFill>
        <p:spPr>
          <a:xfrm>
            <a:off x="685800" y="533520"/>
            <a:ext cx="7543800" cy="55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rcRect l="0" t="0" r="0" b="39079"/>
          <a:stretch/>
        </p:blipFill>
        <p:spPr>
          <a:xfrm>
            <a:off x="762120" y="380880"/>
            <a:ext cx="7467480" cy="3886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rcRect l="0" t="61071" r="0" b="28477"/>
          <a:stretch/>
        </p:blipFill>
        <p:spPr>
          <a:xfrm>
            <a:off x="762120" y="4267080"/>
            <a:ext cx="7467480" cy="1143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4343400" y="4114800"/>
            <a:ext cx="60948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3"/>
          <a:srcRect l="0" t="71536" r="0" b="18726"/>
          <a:stretch/>
        </p:blipFill>
        <p:spPr>
          <a:xfrm>
            <a:off x="762120" y="5334120"/>
            <a:ext cx="746748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6T01:37:56Z</dcterms:created>
  <dc:creator>david g. kleinbaum</dc:creator>
  <dc:description/>
  <dc:language>en-US</dc:language>
  <cp:lastModifiedBy>dkleinb</cp:lastModifiedBy>
  <dcterms:modified xsi:type="dcterms:W3CDTF">2003-11-07T16:47:54Z</dcterms:modified>
  <cp:revision>218</cp:revision>
  <dc:subject/>
  <dc:title>Slide 1</dc:title>
</cp:coreProperties>
</file>