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525-6768-4C1B-9A80-2DE85EC1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B58-FE04-41BF-8984-229BEA87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24C-2886-4768-B69D-3551AF67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1B1-0933-4080-B209-FD8FAC7F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A72-5C46-4026-A6D6-C14BC426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B0D-C37D-45D1-AB98-3B0A0F04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49A-1C7E-4F9C-9201-47F31A96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F29-307C-4058-A908-5E32A704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E96-28BC-4C89-B66E-7DDF2028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F25-5DF1-4865-B7EA-CD70126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3CB-B256-48E9-A151-38BD39F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B93-2394-4773-B847-1D7F68B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8F0-87FA-4B76-849F-3A39E0173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for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648320"/>
            <a:ext cx="3810240" cy="1252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alysis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atifi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705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924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9246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43000" y="1371600"/>
            <a:ext cx="7162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nother Analysis 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7162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724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40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16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14400" y="276876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467480" cy="11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117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3124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924680" cy="281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19920" y="5486400"/>
            <a:ext cx="2006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924680" cy="30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924680" cy="365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6T16:05:41Z</dcterms:modified>
  <cp:revision>109</cp:revision>
  <dc:subject/>
  <dc:title>The Art in the State of the Art</dc:title>
</cp:coreProperties>
</file>