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5532-F52F-4729-8421-D6D3FA26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B236-A16D-4902-8750-799A5D07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DCAA-40B8-4AE0-8E68-3AA431BD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2A75-E538-45ED-8D84-61985FDC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401C-4FB2-4851-9F62-AD13B8A1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599A-354E-4AF1-8637-52F70DE0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565C-9214-416C-BCD0-30676078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9F05-9884-4840-B619-A0E81021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769D-0984-4E29-AC36-8FBBADDF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DCCA-B8F8-42DC-90FC-34BEE9BD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D684-EB7E-4AD1-8A15-E4B9BC35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3AEC-1ECD-4781-96C6-B32021F1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002D-A561-4059-9FD8-F35A2FD8B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Large Sample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Z Test for RR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rom 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hort Studi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391520" cy="3581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905120" y="4114800"/>
            <a:ext cx="586728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1067040" cy="2133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696080" y="4114800"/>
            <a:ext cx="533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201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162560" cy="3124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71625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7772400" cy="3124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90720" y="457200"/>
            <a:ext cx="7772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3276360" cy="762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7772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2666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3962520"/>
            <a:ext cx="4267080" cy="2133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3505320" cy="2895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336920" y="3200400"/>
            <a:ext cx="4121280" cy="838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 flipH="1" rot="10800000">
            <a:off x="4267080" y="3886200"/>
            <a:ext cx="304920" cy="2209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 flipH="1" rot="10800000">
            <a:off x="8381880" y="533160"/>
            <a:ext cx="45720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914400" y="4419720"/>
            <a:ext cx="4572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943600" cy="3168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76520" y="1187280"/>
            <a:ext cx="59436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3T04:23:59Z</dcterms:modified>
  <cp:revision>42</cp:revision>
  <dc:subject/>
  <dc:title>PowerPoint Presentation</dc:title>
</cp:coreProperties>
</file>