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FF5B-591D-45C8-BDF9-20F8DA48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F839-8D50-47AA-A7F8-3A6ABC55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3426-211B-4A71-AA7E-FFA1B64B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4927-4FC2-421F-9D41-EA3C82F0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2386-1326-4314-8D11-F44D18FB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8AAC-3F4A-4AF2-958F-A0DEA096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B5A3-E11D-46DD-927A-EAF2CE32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39A4-F24B-400B-8EF2-C099CA58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4609-5E32-4847-BB86-5552F904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0BE0-CF94-4FD5-A456-9CB2C553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31F6-094E-43BE-89DB-10ADA11E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9488-C28C-4606-ABB8-C08E99B3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6468-8CA6-452B-806B-F601026D6B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7080" y="2133720"/>
            <a:ext cx="712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rude vs Adjusted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stimat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600200" y="1428840"/>
            <a:ext cx="62485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371600" y="1600200"/>
            <a:ext cx="6477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600200" y="1523880"/>
            <a:ext cx="6248520" cy="3857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05120" y="3429000"/>
            <a:ext cx="5638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17887"/>
          <a:stretch/>
        </p:blipFill>
        <p:spPr>
          <a:xfrm>
            <a:off x="1371600" y="1752480"/>
            <a:ext cx="6324480" cy="392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76520" y="3657600"/>
            <a:ext cx="56386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523880" y="1371600"/>
            <a:ext cx="67820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600200" y="1295280"/>
            <a:ext cx="640080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447920" y="1523880"/>
            <a:ext cx="60195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600200" y="1447920"/>
            <a:ext cx="601992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828800" y="1501920"/>
            <a:ext cx="609588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70872"/>
          <a:stretch/>
        </p:blipFill>
        <p:spPr>
          <a:xfrm>
            <a:off x="1905120" y="2362320"/>
            <a:ext cx="571500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8449"/>
          <a:stretch/>
        </p:blipFill>
        <p:spPr>
          <a:xfrm>
            <a:off x="1752480" y="1295280"/>
            <a:ext cx="563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42721"/>
          <a:stretch/>
        </p:blipFill>
        <p:spPr>
          <a:xfrm>
            <a:off x="1752480" y="3200400"/>
            <a:ext cx="5639040" cy="2438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0" r="0" b="70872"/>
          <a:stretch/>
        </p:blipFill>
        <p:spPr>
          <a:xfrm>
            <a:off x="1752480" y="1447920"/>
            <a:ext cx="563904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70872"/>
          <a:stretch/>
        </p:blipFill>
        <p:spPr>
          <a:xfrm>
            <a:off x="1523880" y="1219320"/>
            <a:ext cx="5715000" cy="1257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2178" r="0" b="15233"/>
          <a:stretch/>
        </p:blipFill>
        <p:spPr>
          <a:xfrm>
            <a:off x="1523880" y="2438280"/>
            <a:ext cx="5715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23507"/>
          <a:stretch/>
        </p:blipFill>
        <p:spPr>
          <a:xfrm>
            <a:off x="1447920" y="1676520"/>
            <a:ext cx="60958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00200" y="1341360"/>
            <a:ext cx="57913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1600200" y="1447920"/>
            <a:ext cx="6095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19320" y="1143000"/>
            <a:ext cx="67816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1066680" y="1295280"/>
            <a:ext cx="723924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371600" y="1290600"/>
            <a:ext cx="632448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95280" y="1447920"/>
            <a:ext cx="64008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219320" y="1447920"/>
            <a:ext cx="647676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295280"/>
            <a:ext cx="6248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95280" y="1295280"/>
            <a:ext cx="6400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8T17:37:18Z</dcterms:modified>
  <cp:revision>216</cp:revision>
  <dc:subject/>
  <dc:title>Slide 1</dc:title>
</cp:coreProperties>
</file>