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21F-38D9-43DD-BD57-94275EC1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A5F-8835-46A8-A085-AAE08580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AC9-8CE0-431A-919A-998C9FEC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00F-A9F4-40A9-86AC-F6CD8474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3420-682D-4DB0-9C72-7B831DB7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92E6-A3EE-4603-80D2-DB10A75A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1F9-EF46-4819-A130-66B2FFB0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5196-248F-44D5-A496-2C9F87A4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DD2-C752-4C7F-B337-1C98308B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103-9781-4FAA-813E-B584FC6B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0EE-0B11-4E6B-9C25-DCA4CC6D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D30D-CA57-4616-8CF0-7A4B3FD7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20BB-D8F2-41D6-8F1F-BBAF3AD58A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520" y="1447920"/>
            <a:ext cx="6025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isclassify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Both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posure 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seas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7619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3317760"/>
            <a:ext cx="7391520" cy="568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114800"/>
            <a:ext cx="6781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3336840"/>
            <a:ext cx="7162920" cy="397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162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3349800"/>
            <a:ext cx="716292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238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2514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14400" y="3235320"/>
            <a:ext cx="7162920" cy="727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7086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2911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467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467480" cy="2911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895480" y="3809880"/>
            <a:ext cx="242568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62120" y="3809880"/>
            <a:ext cx="219708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257800" y="31240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8660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3429000"/>
            <a:ext cx="7086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467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96080" cy="5638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19520" y="4419720"/>
            <a:ext cx="914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4419720"/>
            <a:ext cx="914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181480"/>
            <a:ext cx="914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5181480"/>
            <a:ext cx="914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16:02:45Z</dcterms:modified>
  <cp:revision>215</cp:revision>
  <dc:subject/>
  <dc:title>Slide 1</dc:title>
</cp:coreProperties>
</file>