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1F5-C46E-4E68-AA4F-7227B479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7F3-3DBE-4A9E-BC44-61B95D16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A1D-F66D-4025-9A2D-BEA7F5DA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988-A818-47E4-83CC-F68EB28B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678-9600-42C0-8F0C-075596FD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8F5-DA3F-4232-9D0A-7DECFA68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F14-93EB-489E-B0BE-A7E734EB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B2A-DBED-454C-B689-CF0CC72D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132-F664-4CBB-B80B-1CC80F3E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E0C-47A0-45EE-9D6A-A93D1F27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BF0-C3BB-4C59-AA26-0B32454A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79D-0422-47A6-8D12-F2880E0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57D4-5125-4A55-BC7B-18788D3A77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840" y="1447920"/>
            <a:ext cx="720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litative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144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7848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2575080"/>
            <a:ext cx="7467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03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00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619760" cy="108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7619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61976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6019920"/>
            <a:ext cx="1447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915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315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1:11Z</dcterms:modified>
  <cp:revision>213</cp:revision>
  <dc:subject/>
  <dc:title>Slide 1</dc:title>
</cp:coreProperties>
</file>