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D59-014C-4F30-BB11-4E12638C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586-3AF2-40A6-A7B6-B188B74D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927-E51F-4909-A910-C7F6570C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478-CA37-4569-92C7-7FE81940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06B-483B-4027-B227-B9D1C49C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E0D-F521-4E65-848A-CFF9A625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EF5-27C7-4F3F-818F-91FCECB1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9E5-DC53-4219-9EFF-CD0C79DE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D02-9F16-4335-99A8-FC330141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09B-EE2C-48EB-BAF9-2C5CF0A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295-C874-43E5-8415-AEBB44CE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C10-E9ED-4230-BFAE-8134517F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507F-F891-424D-AD7E-8FA1D996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IMING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010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3:47Z</dcterms:modified>
  <cp:revision>100</cp:revision>
  <dc:subject/>
  <dc:title>The Art in the State of the Art</dc:title>
</cp:coreProperties>
</file>