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D5B-CEB2-4D1D-8A26-FEDCB80E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030-2450-4061-84D4-877D415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521-F320-437C-AA06-E4657E09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843-4EF7-48CC-A0C9-A689E87F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901-1750-4566-A14B-1B8363B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17D-1B65-4B9C-B158-D763D99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8DD-6D0F-485D-9A50-AC38324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D48-6E51-49A1-98E3-1822082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462-8F84-4706-926A-165A2D7F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B62-B098-4FFF-B59F-4FEE568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82E-88FA-4164-B885-04609BB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089-2C9C-4BE1-9639-634B038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5A68-ABC9-4369-8274-6618BD9DD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63760"/>
            <a:ext cx="7467840" cy="19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64771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041720"/>
            <a:ext cx="1066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39152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22:00Z</dcterms:modified>
  <cp:revision>41</cp:revision>
  <dc:subject/>
  <dc:title>PowerPoint Presentation</dc:title>
</cp:coreProperties>
</file>