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E00-3754-4814-A513-419ABA84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E33-15E6-4C78-A8DE-B07DF815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0B7-9F00-4F34-B5F5-741A864A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C35-3926-49ED-9CE0-1E17E967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3CA-E735-4D26-ABA9-92DDBC85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F5E-AD37-4CDD-8EB1-93B61018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15B-1E33-4774-AA32-84D0DCE9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42E-4936-49E5-BD59-EE9E5AF5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2AA-E274-4A23-8463-58E95BB3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8B2-26F1-45FF-A315-C205A7AF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36C-6289-4603-B0B1-F064A2E6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4AD-7C8C-4DE1-BCD2-45F8B40C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51F0-8618-437F-A43F-CBA2B90633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440" y="1676520"/>
            <a:ext cx="43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g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djust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1143000" y="8380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838080" y="838080"/>
            <a:ext cx="739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066680" y="1371600"/>
            <a:ext cx="7239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6094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7621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114300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14633"/>
          <a:stretch/>
        </p:blipFill>
        <p:spPr>
          <a:xfrm>
            <a:off x="685800" y="6094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7499"/>
          <a:stretch/>
        </p:blipFill>
        <p:spPr>
          <a:xfrm>
            <a:off x="762120" y="533520"/>
            <a:ext cx="7619760" cy="5790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666880" y="2895480"/>
            <a:ext cx="3810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85017"/>
          <a:stretch/>
        </p:blipFill>
        <p:spPr>
          <a:xfrm>
            <a:off x="990720" y="228600"/>
            <a:ext cx="761976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39642" r="0" b="17499"/>
          <a:stretch/>
        </p:blipFill>
        <p:spPr>
          <a:xfrm>
            <a:off x="990720" y="1600200"/>
            <a:ext cx="761976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619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39642" r="0" b="17499"/>
          <a:stretch/>
        </p:blipFill>
        <p:spPr>
          <a:xfrm>
            <a:off x="838080" y="1447920"/>
            <a:ext cx="7620120" cy="3047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13932" r="0" b="75366"/>
          <a:stretch/>
        </p:blipFill>
        <p:spPr>
          <a:xfrm>
            <a:off x="838080" y="380880"/>
            <a:ext cx="762012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46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39642" r="0" b="17499"/>
          <a:stretch/>
        </p:blipFill>
        <p:spPr>
          <a:xfrm>
            <a:off x="914400" y="1600200"/>
            <a:ext cx="7620120" cy="3048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24646" r="0" b="66329"/>
          <a:stretch/>
        </p:blipFill>
        <p:spPr>
          <a:xfrm>
            <a:off x="914400" y="609480"/>
            <a:ext cx="762012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90720" y="4648320"/>
            <a:ext cx="746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19752"/>
          <a:stretch/>
        </p:blipFill>
        <p:spPr>
          <a:xfrm>
            <a:off x="685800" y="68580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6923"/>
          <a:stretch/>
        </p:blipFill>
        <p:spPr>
          <a:xfrm>
            <a:off x="762120" y="533520"/>
            <a:ext cx="7924680" cy="5333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777240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86600" y="6095880"/>
            <a:ext cx="1447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396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23924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175248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4082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05720" y="5715000"/>
            <a:ext cx="16761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5715000"/>
            <a:ext cx="74674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5384"/>
          <a:stretch/>
        </p:blipFill>
        <p:spPr>
          <a:xfrm>
            <a:off x="685800" y="914400"/>
            <a:ext cx="7848720" cy="434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7619760" cy="99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05720" y="525780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619760" cy="3353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619760" cy="99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0" y="137160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36713"/>
          <a:stretch/>
        </p:blipFill>
        <p:spPr>
          <a:xfrm>
            <a:off x="838080" y="1219320"/>
            <a:ext cx="76964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29:20Z</dcterms:modified>
  <cp:revision>201</cp:revision>
  <dc:subject/>
  <dc:title>Slide 1</dc:title>
</cp:coreProperties>
</file>