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B7B-8AB5-49CF-9A9D-57468E02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A2F-BCF5-4AB4-91DD-FC37B93E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DF0-62B9-4D06-B388-C2937057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5A0-8A61-46E0-9C3E-5F211E8E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5DF1-07EE-4329-B2AE-6D1354E1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03B-1319-4BB6-A936-0430B9FB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586-3F95-44AC-A7F1-ED47D834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281-1017-4F3E-81A1-AB251BBB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BB33-3EDE-451F-8C9C-64E32852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0C7-0C6F-4353-9DDA-AA575B80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13B-A816-44C4-ADEE-00121CB8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F02C-EF7D-4295-BA11-2D4AA3FA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9236-D9D0-4D30-8AAE-40FF55CD2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ontrol of Extraneous Factor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? Why? How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18c6"/>
                </a:solidFill>
                <a:latin typeface="Times New Roman"/>
              </a:rPr>
              <a:t>Nancy D. Bar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618c6"/>
                </a:solidFill>
                <a:uFillTx/>
                <a:latin typeface="Times New Roman"/>
              </a:rPr>
              <a:t>How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 do we control for extraneous factor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Options – prior to 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Options – after 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Design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618c6"/>
                </a:solidFill>
                <a:uFillTx/>
                <a:latin typeface="Times New Roman"/>
              </a:rPr>
              <a:t>What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 does it mean to control for extraneous factor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ake into account other known factors that may influence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003" t="2316" r="2003" b="23670"/>
          <a:stretch/>
        </p:blipFill>
        <p:spPr>
          <a:xfrm>
            <a:off x="1981080" y="1752480"/>
            <a:ext cx="510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81080" y="4724280"/>
            <a:ext cx="5105520" cy="1051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2003" t="2316" r="2003" b="23670"/>
          <a:stretch/>
        </p:blipFill>
        <p:spPr>
          <a:xfrm>
            <a:off x="1981080" y="1752480"/>
            <a:ext cx="510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2003" t="2316" r="2003" b="12279"/>
          <a:stretch/>
        </p:blipFill>
        <p:spPr>
          <a:xfrm>
            <a:off x="1981080" y="1752480"/>
            <a:ext cx="51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81080" y="5181480"/>
            <a:ext cx="5105520" cy="1484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2003" t="2316" r="2003" b="12279"/>
          <a:stretch/>
        </p:blipFill>
        <p:spPr>
          <a:xfrm>
            <a:off x="1981080" y="1752480"/>
            <a:ext cx="51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003" t="2316" r="2003" b="50244"/>
          <a:stretch/>
        </p:blipFill>
        <p:spPr>
          <a:xfrm>
            <a:off x="1981080" y="1752480"/>
            <a:ext cx="5105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003" t="2641" r="2003" b="10227"/>
          <a:stretch/>
        </p:blipFill>
        <p:spPr>
          <a:xfrm>
            <a:off x="1981080" y="1752480"/>
            <a:ext cx="51055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81080" y="3657600"/>
            <a:ext cx="5105520" cy="1001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2003" t="2316" r="2003" b="50244"/>
          <a:stretch/>
        </p:blipFill>
        <p:spPr>
          <a:xfrm>
            <a:off x="1981080" y="1752480"/>
            <a:ext cx="5105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2003" t="2316" r="2003" b="40756"/>
          <a:stretch/>
        </p:blipFill>
        <p:spPr>
          <a:xfrm>
            <a:off x="1981080" y="1752480"/>
            <a:ext cx="5105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2003" t="2316" r="2003" b="40756"/>
          <a:stretch/>
        </p:blipFill>
        <p:spPr>
          <a:xfrm>
            <a:off x="1981080" y="1752480"/>
            <a:ext cx="510552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510552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003" t="2316" r="2003" b="35061"/>
          <a:stretch/>
        </p:blipFill>
        <p:spPr>
          <a:xfrm>
            <a:off x="1981080" y="1752480"/>
            <a:ext cx="5105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003" t="2316" r="2003" b="35061"/>
          <a:stretch/>
        </p:blipFill>
        <p:spPr>
          <a:xfrm>
            <a:off x="1981080" y="1752480"/>
            <a:ext cx="510552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81080" y="4267080"/>
            <a:ext cx="51055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003" t="2316" r="2003" b="29365"/>
          <a:stretch/>
        </p:blipFill>
        <p:spPr>
          <a:xfrm>
            <a:off x="1981080" y="1752480"/>
            <a:ext cx="5105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2003" t="2316" r="2003" b="29365"/>
          <a:stretch/>
        </p:blipFill>
        <p:spPr>
          <a:xfrm>
            <a:off x="1981080" y="1752480"/>
            <a:ext cx="5105520" cy="2743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981080" y="4495680"/>
            <a:ext cx="510552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Analysis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ifi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2003" t="2316" r="2003" b="74916"/>
          <a:stretch/>
        </p:blipFill>
        <p:spPr>
          <a:xfrm>
            <a:off x="1981080" y="1752480"/>
            <a:ext cx="5105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003" t="2316" r="2003" b="74916"/>
          <a:stretch/>
        </p:blipFill>
        <p:spPr>
          <a:xfrm>
            <a:off x="1981080" y="1752480"/>
            <a:ext cx="510552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81080" y="2666880"/>
            <a:ext cx="5105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2003" t="2316" r="2003" b="65427"/>
          <a:stretch/>
        </p:blipFill>
        <p:spPr>
          <a:xfrm>
            <a:off x="1981080" y="1752480"/>
            <a:ext cx="5105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03" t="2316" r="2003" b="65427"/>
          <a:stretch/>
        </p:blipFill>
        <p:spPr>
          <a:xfrm>
            <a:off x="1981080" y="1752480"/>
            <a:ext cx="5105520" cy="1295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0552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2003" t="34585" r="2003" b="50244"/>
          <a:stretch/>
        </p:blipFill>
        <p:spPr>
          <a:xfrm>
            <a:off x="1981080" y="3429000"/>
            <a:ext cx="5105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2003" t="34585" r="2003" b="50244"/>
          <a:stretch/>
        </p:blipFill>
        <p:spPr>
          <a:xfrm>
            <a:off x="1981080" y="3429000"/>
            <a:ext cx="5105520" cy="609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981080" y="4038480"/>
            <a:ext cx="51055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2003" t="47866" r="2003" b="35061"/>
          <a:stretch/>
        </p:blipFill>
        <p:spPr>
          <a:xfrm>
            <a:off x="1981080" y="3429000"/>
            <a:ext cx="5105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18c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81080" y="1219320"/>
            <a:ext cx="510552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at we typically think of when we control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 form st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2003" t="47866" r="2003" b="35061"/>
          <a:stretch/>
        </p:blipFill>
        <p:spPr>
          <a:xfrm>
            <a:off x="1981080" y="3429000"/>
            <a:ext cx="5105520" cy="685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981080" y="4114800"/>
            <a:ext cx="51055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2003" t="61159" r="2003" b="21767"/>
          <a:stretch/>
        </p:blipFill>
        <p:spPr>
          <a:xfrm>
            <a:off x="1981080" y="3429000"/>
            <a:ext cx="5105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2003" t="61159" r="2003" b="21767"/>
          <a:stretch/>
        </p:blipFill>
        <p:spPr>
          <a:xfrm>
            <a:off x="1981080" y="3429000"/>
            <a:ext cx="5105520" cy="685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981080" y="4114800"/>
            <a:ext cx="51055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2003" t="40280" r="2003" b="48341"/>
          <a:stretch/>
        </p:blipFill>
        <p:spPr>
          <a:xfrm>
            <a:off x="1981080" y="3962520"/>
            <a:ext cx="5105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2003" t="2316" r="2003" b="65427"/>
          <a:stretch/>
        </p:blipFill>
        <p:spPr>
          <a:xfrm>
            <a:off x="1981080" y="1752480"/>
            <a:ext cx="5105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2003" t="2316" r="2003" b="65427"/>
          <a:stretch/>
        </p:blipFill>
        <p:spPr>
          <a:xfrm>
            <a:off x="1981080" y="1752480"/>
            <a:ext cx="5105520" cy="1295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0552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1055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105520" cy="542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981080" y="3962520"/>
            <a:ext cx="51055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618c6"/>
                </a:solidFill>
                <a:uFillTx/>
                <a:latin typeface="Times New Roman"/>
              </a:rPr>
              <a:t>Why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 do we control for extraneous variabl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ou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2003" t="2316" r="2003" b="46451"/>
          <a:stretch/>
        </p:blipFill>
        <p:spPr>
          <a:xfrm>
            <a:off x="1981080" y="1752480"/>
            <a:ext cx="5105520" cy="2057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981080" y="3809880"/>
            <a:ext cx="51055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03" t="2316" r="2003" b="46451"/>
          <a:stretch/>
        </p:blipFill>
        <p:spPr>
          <a:xfrm>
            <a:off x="1981080" y="1752480"/>
            <a:ext cx="510552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81080" y="3809880"/>
            <a:ext cx="5105520" cy="885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981080" y="4648320"/>
            <a:ext cx="51055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003" t="53561" r="2003" b="17975"/>
          <a:stretch/>
        </p:blipFill>
        <p:spPr>
          <a:xfrm>
            <a:off x="1981080" y="1752480"/>
            <a:ext cx="5105520" cy="114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510552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Nancy Barker</cp:lastModifiedBy>
  <dcterms:modified xsi:type="dcterms:W3CDTF">2004-02-17T15:20:51Z</dcterms:modified>
  <cp:revision>244</cp:revision>
  <dc:subject/>
  <dc:title>The Art in the State of the Art</dc:title>
</cp:coreProperties>
</file>