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DCF-DC84-4C62-AB95-B9364EA2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15A-0F62-4A87-96EA-AB4796F3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6E8-F3C1-4ED3-AA05-62CE0B8E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8ED-4CC9-49D2-818B-56A394EC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AAD-B5E5-42B8-B2EB-6B173A1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190-86D3-4F97-8D79-8174D00C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390-DCEB-4B15-978F-9F923432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EEB-83A9-4C25-A3A2-DF3809D6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FEA-1B87-49AA-8D3A-A0B479F8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85C-B88A-46E7-8E11-7687CC2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2FB-593F-49B7-A9A6-EB2E873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A54-B429-4808-9794-23ADEEA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2C7-44E2-4EAB-8C71-8B5E7E8B6A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1560" y="1981080"/>
            <a:ext cx="716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w Can 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 Misclassified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19920" y="22096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2209680"/>
            <a:ext cx="304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47242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47242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990720"/>
            <a:ext cx="7924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classifying Disease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2822400"/>
            <a:ext cx="7543800" cy="327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898720"/>
            <a:ext cx="6933960" cy="327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70866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8880" y="609480"/>
            <a:ext cx="1600200" cy="556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13320" y="3581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369720" cy="41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315200" y="4572000"/>
            <a:ext cx="1828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828800" y="5486400"/>
            <a:ext cx="17524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3:43:41Z</dcterms:modified>
  <cp:revision>216</cp:revision>
  <dc:subject/>
  <dc:title>Slide 1</dc:title>
</cp:coreProperties>
</file>