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76C-6019-4698-98A3-99FEBE0A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20A-01D5-4D96-B9DF-672AD6A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65B-C084-48D6-91BE-1A0A507D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E6D-F4FF-43C0-A3E5-ECDA693F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D8A-DE8F-4523-837B-B34D5A98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0B1-68C6-4A86-BBCD-8F018B5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42F-B5E4-4CDB-A4F9-388A4A7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DA7-581D-480E-8B2A-7908F23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BE0-91B6-410C-8C50-5C4EB94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E8-ACA9-4509-B9AC-A8F5986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8E6-1DEA-4463-8713-6989B2B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306-27C7-453C-A1A7-25C33F7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9EA-7D3D-492C-94C9-FFC40513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5200" y="510552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15T20:56:44Z</dcterms:modified>
  <cp:revision>97</cp:revision>
  <dc:subject/>
  <dc:title>The Art in the State of the Art</dc:title>
</cp:coreProperties>
</file>