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C50-5917-4454-B441-CD2E2157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F5C-98D4-4035-9D28-A321B478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D09-A0A3-4F5C-B678-3351878B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6B2-A1D9-451D-92BA-937DBBE0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9ED-094B-402D-8B64-9FC9D400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252-650F-4CDB-A059-AD878C0C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E8E-3233-41BC-8448-322F597A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5CB-567E-4A59-A511-C79F0D90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422-E867-41F9-A69A-248DB650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D9A-4ADF-46E4-A381-5DFD77E4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D5A-A472-4FEC-BC00-271CD54A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319-EAF3-4633-854C-1D33686E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7266-1C21-456B-AF82-0EB30E76E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63.png"/><Relationship Id="rId3" Type="http://schemas.openxmlformats.org/officeDocument/2006/relationships/image" Target="../media/image65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Regressi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Techniqu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4343400"/>
            <a:ext cx="3886200" cy="1587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hematic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ine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gist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2210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685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68580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6781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Expected Value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in a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Linear Mod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46583" r="0" b="0"/>
          <a:stretch/>
        </p:blipFill>
        <p:spPr>
          <a:xfrm>
            <a:off x="990720" y="2590920"/>
            <a:ext cx="7391160" cy="3657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53432"/>
          <a:stretch/>
        </p:blipFill>
        <p:spPr>
          <a:xfrm>
            <a:off x="990720" y="609480"/>
            <a:ext cx="7391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10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230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2392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7238880" cy="2362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18946" t="0" r="0" b="77180"/>
          <a:stretch/>
        </p:blipFill>
        <p:spPr>
          <a:xfrm>
            <a:off x="1447920" y="5410080"/>
            <a:ext cx="6629400" cy="609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rcRect l="13686" t="20022" r="68428" b="65734"/>
          <a:stretch/>
        </p:blipFill>
        <p:spPr>
          <a:xfrm>
            <a:off x="6934320" y="5486400"/>
            <a:ext cx="1295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05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08660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7086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16292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213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16256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52480" y="4038480"/>
            <a:ext cx="5029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467840" cy="939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4400" y="40384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4572000"/>
            <a:ext cx="9907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467840" cy="939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350532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4038480"/>
            <a:ext cx="9907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286000" y="4648320"/>
            <a:ext cx="4419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618c6"/>
                </a:solidFill>
                <a:latin typeface="Arial"/>
              </a:rPr>
              <a:t>The Logistic 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23428" r="0" b="0"/>
          <a:stretch/>
        </p:blipFill>
        <p:spPr>
          <a:xfrm>
            <a:off x="990720" y="3276720"/>
            <a:ext cx="701028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01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772400" cy="99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772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4724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85565" r="0" b="0"/>
          <a:stretch/>
        </p:blipFill>
        <p:spPr>
          <a:xfrm>
            <a:off x="838080" y="304920"/>
            <a:ext cx="7086600" cy="425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0" t="0" r="0" b="16693"/>
          <a:stretch/>
        </p:blipFill>
        <p:spPr>
          <a:xfrm>
            <a:off x="914400" y="838080"/>
            <a:ext cx="69343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6858000" cy="385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286000" y="2895480"/>
            <a:ext cx="3429000" cy="12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914400" y="4343400"/>
            <a:ext cx="686448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rcRect l="0" t="0" r="0" b="19063"/>
          <a:stretch/>
        </p:blipFill>
        <p:spPr>
          <a:xfrm>
            <a:off x="1828800" y="4952880"/>
            <a:ext cx="48006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685800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47920" y="3429000"/>
            <a:ext cx="426708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09480" y="4800600"/>
            <a:ext cx="687096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rcRect l="0" t="0" r="0" b="22238"/>
          <a:stretch/>
        </p:blipFill>
        <p:spPr>
          <a:xfrm>
            <a:off x="1905120" y="5334120"/>
            <a:ext cx="2895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914400" y="45720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15200" cy="1981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14400" y="4648320"/>
            <a:ext cx="7315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15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1701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6858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066680" y="4800600"/>
            <a:ext cx="693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705720" y="42670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629400" y="40384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066680" y="4495680"/>
            <a:ext cx="7010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3352680"/>
            <a:ext cx="6858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685800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6782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6T16:43:43Z</dcterms:modified>
  <cp:revision>114</cp:revision>
  <dc:subject/>
  <dc:title>The Art in the State of the Art</dc:title>
</cp:coreProperties>
</file>