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A67-3FCE-4D28-A621-A4894508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F3C-EEE4-4EC2-8978-22396058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801-E244-4CCC-B012-A1D8ADE0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ED0-5E54-4BAC-8BFE-6BC9991E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7F6-67A6-444F-9ABB-E63F4788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203-C1D1-4F89-8CC4-2BD38B39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59A-550D-4398-87CF-05160E84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DEB-4097-411E-9E70-18A4FB56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BFF-AADD-4C24-9754-5F537CAA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E6E-E751-455F-BBCE-1D00316C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F78-4E99-4319-9EF8-A02F92CA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107-0827-48A8-88AC-8006D180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2DCB-6291-4CEB-9EAD-528D2EEF2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Other Iss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8320" y="2514600"/>
            <a:ext cx="6727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ssessing Interaction Involving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atch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reaking th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gnoring th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6760" y="2819520"/>
            <a:ext cx="607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Ignoring the Matc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2240" y="1676520"/>
            <a:ext cx="540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ssessing Intera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Involving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ing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6400" y="2819520"/>
            <a:ext cx="620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Breaking the Matc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20:10:43Z</dcterms:modified>
  <cp:revision>81</cp:revision>
  <dc:subject/>
  <dc:title>The Art in the State of the Art</dc:title>
</cp:coreProperties>
</file>