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D7A-A657-4093-B869-802A1477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D77-BF4C-4ACD-B6BC-819C386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E0D-4D6D-440B-BD5E-5C5D9F68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E75-AF17-4B2E-BA0D-18E2E853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2E9-3539-4AD7-93C3-53838682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BD2-94EE-4952-99C8-0409DAC7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81E-EF91-410F-BC6B-FA2764C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2DB-981A-48F6-A950-866AA56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2F2-EA07-4863-B105-799FDF2D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EE3-D80B-4304-8495-21C15A07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146-1ADB-44FF-BD92-F32DDB9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9AA-5F78-4FE2-9211-1F99490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888-DCDE-4DD5-88BC-3ACEF48C7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BSERVA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8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29000" y="762120"/>
            <a:ext cx="22096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6:49Z</dcterms:modified>
  <cp:revision>105</cp:revision>
  <dc:subject/>
  <dc:title>The Art in the State of the Art</dc:title>
</cp:coreProperties>
</file>