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317-083C-4E4F-80F4-B2ABDB30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8CC-81DA-4A15-8E4A-47B5E87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81A-74F2-4BF2-ACFB-5C6E5098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3FF-266C-43DA-9C27-CDAEFDD3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AC2-8C5E-424C-B03A-77559C0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F38-0F5E-45C0-A5DF-90A230D0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513-ED81-430F-BF06-4244A8B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543-531D-4C18-92D5-8E8C5B7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444-120C-4B9C-A748-AAD75E5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25F-3FD0-4E1F-ACF9-35C285A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F8B-9656-407F-AF60-7779877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E0D-D2E1-4766-9D7B-6F4A0DF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EF0-E121-40E9-A749-A7F826CE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imple Analy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0T15:34:13Z</dcterms:modified>
  <cp:revision>42</cp:revision>
  <dc:subject/>
  <dc:title>PowerPoint Presentation</dc:title>
</cp:coreProperties>
</file>