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821-CA32-4C2D-866D-A370FF75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2FE-6A7F-4269-B680-9C4B8371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5FF-8FA2-4163-B778-D46DB512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1CD-6849-4037-AE5B-C381BC1C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C37-508D-4767-ADD6-B91A275C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C79-49A9-48A1-913D-82D28216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736-D2A9-41DC-97A9-9E3CDA38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3B1-42CD-4445-8EF6-2F3F258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AD7-5AF4-4534-ACD2-606FB5B1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AEF-2A3C-4671-8E65-DB909CC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BA7-A68A-43B1-AE87-8004536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CA8-2C2C-4C43-9C60-DBD02C2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DD55-B132-4EAC-A066-65AA4133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ample Size f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1080" y="77616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about Sample Size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0600" y="121932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9644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5480" y="114300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403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6560" y="9144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83822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1:18:47Z</dcterms:modified>
  <cp:revision>42</cp:revision>
  <dc:subject/>
  <dc:title>PowerPoint Presentation</dc:title>
</cp:coreProperties>
</file>