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A0D-E437-4556-B26D-F67931DE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B99-5215-43D4-A6E7-CBC66434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686-33D6-45C3-B7D4-2735DABD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4D5-2434-49CD-88F0-24403A1F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1BE-8BF3-46D3-A1B3-36F5D38C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52A-E844-4058-9ACA-39885558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849-9B13-4026-93D1-CB2D346B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10D-EA40-43DE-847D-E05EDB08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86F-FFE9-4DA2-A1CC-FAEC0CBE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85D-1616-49F0-A323-A6FCA9B4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AE8-E65A-4064-91B0-D12F547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B28-9522-4CBA-9F5E-187DEDB3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B045-22C9-4E43-8541-CDDEC1B573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0" y="2362320"/>
            <a:ext cx="491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iteria 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219320"/>
            <a:ext cx="64771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05000"/>
            <a:ext cx="63248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24776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50984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295280"/>
            <a:ext cx="65530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7027"/>
          <a:stretch/>
        </p:blipFill>
        <p:spPr>
          <a:xfrm>
            <a:off x="1143000" y="10508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12918" r="0" b="44711"/>
          <a:stretch/>
        </p:blipFill>
        <p:spPr>
          <a:xfrm>
            <a:off x="1143000" y="3733920"/>
            <a:ext cx="685800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371600" y="146052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1066680"/>
            <a:ext cx="69343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37160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211400"/>
            <a:ext cx="662940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69880"/>
            <a:ext cx="66294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143000"/>
            <a:ext cx="67820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19320" y="990720"/>
            <a:ext cx="6781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52:34Z</dcterms:modified>
  <cp:revision>217</cp:revision>
  <dc:subject/>
  <dc:title>Slide 1</dc:title>
</cp:coreProperties>
</file>