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5C8-149A-4A5E-B02A-FB59EEE8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8DB-4BF0-4FED-A6C6-7356EE12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70B-63B2-400B-A91C-B0AAE8D1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9AA-61C0-4BC6-B937-E63DB1F0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849-54F3-419A-B8BF-F3E2EC39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C81-6997-4E29-8237-E66E703B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A56-16B5-4278-B881-50CECEFD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B6A-F10F-4176-BBCB-BB04936B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2C7-774B-43B3-8965-44298C50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BBF0-D70E-4E6E-BA9A-969746E5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A4D-9D3A-4799-AB37-BA079C65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282-01F1-43AE-993C-14529C81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A15D-CD09-4542-8769-7A352E1763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0720" y="2362320"/>
            <a:ext cx="378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ortalit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933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34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858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934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77240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934320" y="586728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7467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67840" cy="1282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7467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1371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05720" y="1523880"/>
            <a:ext cx="1600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7543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315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10:08Z</dcterms:modified>
  <cp:revision>195</cp:revision>
  <dc:subject/>
  <dc:title>Slide 1</dc:title>
</cp:coreProperties>
</file>