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A25B-C663-48F9-804D-B43CFA8A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F2A-F25B-4065-B2CA-4B9D70AF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E13B-6E61-4B40-91D6-5AD5BB33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0FF6-4E00-4B23-88D2-86526C87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D52F-45CA-4FC8-B803-AAED2379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1B2-F400-4390-A017-2E193DCE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9E72-0526-4F52-8A10-A2A92732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615-C781-426B-9AEB-698E2BB4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6945-2D27-4760-9C49-E42D5EA4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445E-2AD0-4BEC-BCD8-DE9AC8DC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E0EA-BD0C-4359-9A46-F23B7AF4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CD07-74C5-4FDC-BD89-2574DBEF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AF73-E861-4E76-ACD3-088F7CD46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Large Sample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idence Interval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or the 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772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848360" cy="221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7848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43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594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97080" y="106524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ral Form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315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696080" cy="3187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696080" cy="1752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5800" y="5181480"/>
            <a:ext cx="76960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086600" cy="189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19320" y="2971800"/>
            <a:ext cx="708660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7086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086600" cy="1670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7086600" cy="99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143000" y="3048120"/>
            <a:ext cx="7086600" cy="609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43000" y="3733920"/>
            <a:ext cx="7086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23:35:58Z</dcterms:modified>
  <cp:revision>42</cp:revision>
  <dc:subject/>
  <dc:title>PowerPoint Presentation</dc:title>
</cp:coreProperties>
</file>