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7A6-2EA9-4681-856D-78F5A071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A47-E811-43AC-83A5-659E6B3F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553-6949-43FC-803D-17B6CE0B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126-86E5-4C9F-9764-4C2FDF53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100-EC93-4AF6-A74E-0DCBC46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66A-37D9-4BA5-B808-DA669C4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EC0-C855-4258-BF63-410DD74C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114-FCC1-4A15-925C-568CF303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037-007B-4808-99E5-7DBC857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42C-82C2-46F4-B686-573882D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E26-2CC1-4040-8A45-4FA8C72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B9F-8194-42EB-98A3-70243601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0935-C10E-4EBF-B9F5-436D0153D8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61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oss-Section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6947"/>
          <a:stretch/>
        </p:blipFill>
        <p:spPr>
          <a:xfrm>
            <a:off x="990720" y="457200"/>
            <a:ext cx="7162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858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533520" y="6858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035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76212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91440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1265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943600"/>
            <a:ext cx="1676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67155" r="0" b="22055"/>
          <a:stretch/>
        </p:blipFill>
        <p:spPr>
          <a:xfrm>
            <a:off x="762120" y="33526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6756" r="0" b="11265"/>
          <a:stretch/>
        </p:blipFill>
        <p:spPr>
          <a:xfrm>
            <a:off x="762120" y="3886200"/>
            <a:ext cx="746748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0800" y="4419720"/>
            <a:ext cx="1752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733920"/>
            <a:ext cx="3352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9528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2329"/>
          <a:stretch/>
        </p:blipFill>
        <p:spPr>
          <a:xfrm>
            <a:off x="990720" y="762120"/>
            <a:ext cx="716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85800" y="60948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7130" r="0" b="21918"/>
          <a:stretch/>
        </p:blipFill>
        <p:spPr>
          <a:xfrm>
            <a:off x="685800" y="3809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609480"/>
            <a:ext cx="746748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76718" r="0" b="16435"/>
          <a:stretch/>
        </p:blipFill>
        <p:spPr>
          <a:xfrm>
            <a:off x="762120" y="3200400"/>
            <a:ext cx="746748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914400"/>
            <a:ext cx="746748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82201" r="0" b="12329"/>
          <a:stretch/>
        </p:blipFill>
        <p:spPr>
          <a:xfrm>
            <a:off x="762120" y="3886200"/>
            <a:ext cx="746748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77120" y="4191120"/>
            <a:ext cx="1676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467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18914"/>
          <a:stretch/>
        </p:blipFill>
        <p:spPr>
          <a:xfrm>
            <a:off x="838080" y="83808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09480" y="3808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73839" r="0" b="18914"/>
          <a:stretch/>
        </p:blipFill>
        <p:spPr>
          <a:xfrm>
            <a:off x="609480" y="3124080"/>
            <a:ext cx="77724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696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950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23132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1353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2755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787"/>
          <a:stretch/>
        </p:blipFill>
        <p:spPr>
          <a:xfrm>
            <a:off x="8380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499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7:33Z</dcterms:modified>
  <cp:revision>218</cp:revision>
  <dc:subject/>
  <dc:title>Slide 1</dc:title>
</cp:coreProperties>
</file>