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0AB-7BE4-4BBC-95AA-C59A48CC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CFC-0C47-48B6-AA0D-371CFD10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98C-3D34-4946-A09E-0BF35889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0DE-D7DC-46BC-B6C4-13955CFD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7BF-5AC1-451A-A93C-8F31D7AA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792-DCE3-41A0-ADF6-7E18B8D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BF3-672D-4864-BE25-34181C8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AA2-6839-4B5C-B650-CA7A125E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00A-C638-4CEF-8A3D-225B9C5E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13A-E563-41EB-A190-F650DAF5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FF8-18E4-466B-AD54-F7B1B387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020-41C2-4F5F-919D-BB495D8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87F0-1F27-4F78-B767-287180327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ir-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ohort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328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914400" y="1447920"/>
            <a:ext cx="7162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066680" y="762120"/>
            <a:ext cx="7239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6019920"/>
            <a:ext cx="83822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380880"/>
            <a:ext cx="716292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209680" y="1295280"/>
            <a:ext cx="47246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86600" y="6172200"/>
            <a:ext cx="12193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9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67480" y="65530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4771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553080"/>
            <a:ext cx="94489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9144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114300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20:19:56Z</cp:lastPrinted>
  <dcterms:modified xsi:type="dcterms:W3CDTF">2002-09-13T19:21:08Z</dcterms:modified>
  <cp:revision>87</cp:revision>
  <dc:subject/>
  <dc:title>The Art in the State of the Art</dc:title>
</cp:coreProperties>
</file>