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993-332D-478E-BF53-279D4C36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A7E-D648-48E2-809F-9078E2BD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983-1527-4D1B-A625-676C9C2A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A5F-B04F-4353-8347-B5B0557E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93C7-8DCF-423D-AC4C-5E6AF701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788-D01B-4A04-8BE1-9EFCD391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615-0019-4F4C-A0F9-A0E96FE8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644-3FD6-4ABA-91C0-C0E33B26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A19-BDC7-4C0A-B1EE-1725A90C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E20-22EB-4EC6-9A7C-FA78C6B5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672-D4AE-4608-B245-35FF50DE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DCD-A8E4-49AF-9FFE-F8B45AB1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D231-AA12-4CF7-B641-66568E490A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209680"/>
            <a:ext cx="471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re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the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77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96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391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40736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2057400"/>
            <a:ext cx="7621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07360" cy="2362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391520" cy="1676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1371600"/>
            <a:ext cx="609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543800" cy="38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7543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781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848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2:16Z</dcterms:modified>
  <cp:revision>211</cp:revision>
  <dc:subject/>
  <dc:title>Slide 1</dc:title>
</cp:coreProperties>
</file>