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38F-E1C2-4326-92C2-2D05CEA3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1BC-95D4-401E-AC8D-9BAA197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BAE-4753-49CB-B6F9-CA1396A0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32C-9400-4A81-9E8B-48077007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22F-ECC2-491E-9B0A-32AA883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BEA-B49E-4081-8176-786D6784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510-A4DF-4C9B-814C-3C394DF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6D8-D829-4691-8644-677B148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7D5-1A1D-4BEA-9218-487AF85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030-5CD7-4F71-B02A-271670F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F5E-ABF1-49C3-B1C1-DBF0A76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C18-7693-4AEF-A77A-17CAF9AD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ED7-0E98-4BEC-B82A-FB6A868DD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020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11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24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55308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40000" y="44197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4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386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70866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31200" cy="1231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46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30Z</dcterms:modified>
  <cp:revision>107</cp:revision>
  <dc:subject/>
  <dc:title>The Art in the State of the Art</dc:title>
</cp:coreProperties>
</file>