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CFB0-084D-41C9-B6E1-A7D3C6DE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91D-5389-42F8-A6B0-225ADA8E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484B-E876-416C-A496-7B7A506B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4B76-FE76-46CB-90FB-E386AB35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BAF-FD4B-400A-AB2F-A262BB65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905D-3311-49CC-B6FA-49845C5E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0AB-459D-4B36-BDF5-F5885B9E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08B2-08EE-4FEC-B279-AAE1B726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96B-9E61-41AB-B259-141C36D8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060E-CDD8-4849-AC81-7EF0725F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1CC9-A6C0-4956-BF05-2847CB87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FEA2-533A-40D7-9E29-A3A30032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7D34-848C-4E95-8BD1-069B9FEC9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Mathematical Modeling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Linear Mod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858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90720" y="3352680"/>
            <a:ext cx="68580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66680" y="2743200"/>
            <a:ext cx="6858000" cy="1600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066680" y="4419720"/>
            <a:ext cx="6782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858000" cy="2210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66680" y="4724280"/>
            <a:ext cx="6858000" cy="870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066680" y="3429000"/>
            <a:ext cx="685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43000" y="4038480"/>
            <a:ext cx="6858000" cy="870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43000" y="2743200"/>
            <a:ext cx="68580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143000" y="4952880"/>
            <a:ext cx="6781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685800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858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858000" cy="2286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43000" y="380880"/>
            <a:ext cx="685800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143000" y="4648320"/>
            <a:ext cx="6858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3828960"/>
            <a:ext cx="7315200" cy="1505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7315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010640" cy="2210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7010640" cy="1352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066680" y="4114800"/>
            <a:ext cx="7010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6858000" cy="1175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219320" y="4495680"/>
            <a:ext cx="6858000" cy="863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705720" y="5029200"/>
            <a:ext cx="1371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3276720"/>
            <a:ext cx="304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010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95280" y="2743200"/>
            <a:ext cx="6858000" cy="1022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95280" y="3733920"/>
            <a:ext cx="6858000" cy="863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781680" y="4267080"/>
            <a:ext cx="1371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2666880"/>
            <a:ext cx="30456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19320" y="4724280"/>
            <a:ext cx="69339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010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43000" y="2209680"/>
            <a:ext cx="69343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93432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43000" y="2286000"/>
            <a:ext cx="6934320" cy="2095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371600" y="4572000"/>
            <a:ext cx="6248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58000" cy="1701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6858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772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19:55:04Z</dcterms:modified>
  <cp:revision>43</cp:revision>
  <dc:subject/>
  <dc:title>PowerPoint Presentation</dc:title>
</cp:coreProperties>
</file>