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A72-8D3C-494E-9DB3-C9780D2A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894-044C-4B4A-9F63-7902B9C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A87-3C59-4A4C-801D-02B10DE8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5BA-4B19-4C49-9564-344F6500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B60-C13A-49ED-9D42-F1D2D02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176-4278-49AB-8ACA-AB274A9A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4CC-D496-40C2-91F1-615042D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B35-F45C-4B19-B701-FB74D66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E8A-17E8-4534-B0D2-84DD5900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887-83B3-49BC-988D-75F7590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F8E-2ADC-4702-B151-F2B13F3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E40-E0A8-4DFA-9B04-FEF09F4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CFCC-D919-47F7-8BFA-4687E042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18"/>
                </a:solidFill>
                <a:latin typeface="Times New Roman"/>
              </a:rPr>
              <a:t>EXERCI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360" y="2895480"/>
            <a:ext cx="520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P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1320" y="1889280"/>
            <a:ext cx="54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t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419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5181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2578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6386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64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6933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594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7086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0840" y="2438280"/>
            <a:ext cx="483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For 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4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6324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5840" y="25290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POP  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7010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38088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7200" y="2568600"/>
            <a:ext cx="869544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.         How many concordant pairs are there where both pair members are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.         How many concordant pairs are there where both members are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3.         How many discordant pairs are there where the case is exposed and the control is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.         How many discordant pairs are there where case is unexposed and the control is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is table is called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McNemar's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or these data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with this tabl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pooled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rom these data (use the formula for the mOR in the box below)? «2.5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her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.       Which type of analysis should be preferred for these matched data (where smoking status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only matched variable), pooled or unpool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1.       W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2. X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3. Y =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0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4. Z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5.       mOR (un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defined».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6.       mOR (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.5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ich of the following helps explain why the pooled mOR estimate should be preferr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e unpooled m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. The pooled mOR's are equal whereas the unpooled mOR'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.The unpooled mOR's assume that exchangeable matched pairs are not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.The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pooled mOR's assume that exchangeable matched pairs are unique.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a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380880"/>
            <a:ext cx="62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 for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200400"/>
            <a:ext cx="7696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ich of the logistic models shown below is appropriate for analyzing these data?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«b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method of estimation should be used to fit the appropriate model for these data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Conditional ML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is the adjusted odds ratio for the effect of SMK on cervical cancer outcome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(1.4361)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Is number of lifetime sexual partners a significant predictor of cervical cancer outcome, controlling for the matching variables and the other non-matching variables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5.       Are the matching variables being controlled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A 95% CI for the (adjusted) effect of SMK is given by the ex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[1.4361 +- 1.96(.3167)]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5:04:41Z</dcterms:modified>
  <cp:revision>91</cp:revision>
  <dc:subject/>
  <dc:title>The Art in the State of the Art</dc:title>
</cp:coreProperties>
</file>