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1FA-B90F-49D1-9A9B-0BF1D768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A16-6656-42CD-BD4A-171CED7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448-E347-4F02-8016-148AB5EF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F1D-04DB-46B5-BD70-4076003E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7C4-0530-40D2-8BBC-4423E6FC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863-1835-48E4-A3BD-90BC13E1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AE9-C7F3-4D58-9CC4-74D5176C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928-1BF4-427A-ADCC-43D35AE4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E1F-C06D-4F8B-A53B-A9B6B109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5F0-9D50-4535-B08F-196A722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71D-A6C0-4C42-BF03-73D85593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264E-69B6-4B02-A1B9-E2194160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5B22-5918-4EC7-9477-6B8C91D31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320" y="1295280"/>
            <a:ext cx="801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oblem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i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umulative Incid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6705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23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4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5867280"/>
            <a:ext cx="1613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086600" y="525780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cb017"/>
                </a:solidFill>
                <a:uFillTx/>
                <a:latin typeface="Arial"/>
              </a:rPr>
              <a:t>33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67480" cy="431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746748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00200" y="4419720"/>
            <a:ext cx="6019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5867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467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14400" y="5257800"/>
            <a:ext cx="746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62920" y="5867280"/>
            <a:ext cx="1295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600200"/>
            <a:ext cx="6248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0" y="571500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7:25Z</dcterms:modified>
  <cp:revision>177</cp:revision>
  <dc:subject/>
  <dc:title>Slide 1</dc:title>
</cp:coreProperties>
</file>