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136-C8FE-4737-B68B-C4F80B1B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252-4B00-405A-B13A-02C4CCCD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9DF-B0FD-4B69-9A37-F3184B5C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BC5-BA37-4F89-87EE-CE3A35E5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D17-354A-46C0-AD60-86A6B60D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4F0-F559-41E0-8AEA-71A436B7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121-A061-4F03-9452-64705FE1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014-1235-4E53-8E5C-4A5EF751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CD9-0BA5-4AFE-8124-0AC5C509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3C6-A0DC-4AF4-84D0-9E497776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06D-1269-4FFC-9641-B645C91B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021-189F-438A-9052-9D8B2AD0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8206-6475-475E-AAB1-E3F8009E84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8320" y="1981080"/>
            <a:ext cx="33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2920" y="472428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7010280" cy="99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0102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010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162560" cy="1025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6256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962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5562720" cy="981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01028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00200" y="4876920"/>
            <a:ext cx="5562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77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6858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9:01Z</dcterms:modified>
  <cp:revision>207</cp:revision>
  <dc:subject/>
  <dc:title>Slide 1</dc:title>
</cp:coreProperties>
</file>