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641-89FB-42FE-BE16-0610D856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0C3-2163-4796-A4D4-FE862F73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BCC-A411-4CD4-A303-BB9D87FF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929-3334-411B-B50F-F0BE5E21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15E-EDBE-4044-B93C-30526814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A63-8745-493D-9BDB-FE775B19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84D-E1F6-4037-B2AB-C0E6F77A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B37-B17F-4146-90F2-90E87B27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4A4-DB92-4005-B5C7-75A55E2C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093-738E-4709-AB22-73087D0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50A-F1A6-4B01-AF19-FBFAB523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BE0-63BC-4A21-ABD5-F2A0E46C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5516-5277-48B5-B050-EADA07CBE7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9040" y="1981080"/>
            <a:ext cx="3864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vent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838080" y="91440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68432" r="0" b="8775"/>
          <a:stretch/>
        </p:blipFill>
        <p:spPr>
          <a:xfrm>
            <a:off x="1066680" y="3962520"/>
            <a:ext cx="6934320" cy="2209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43200" y="3505320"/>
            <a:ext cx="33591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utational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0" r="0" b="26161"/>
          <a:stretch/>
        </p:blipFill>
        <p:spPr>
          <a:xfrm>
            <a:off x="1371600" y="457200"/>
            <a:ext cx="6477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68557" r="0" b="7610"/>
          <a:stretch/>
        </p:blipFill>
        <p:spPr>
          <a:xfrm>
            <a:off x="1219320" y="2133720"/>
            <a:ext cx="6629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68306" r="0" b="7610"/>
          <a:stretch/>
        </p:blipFill>
        <p:spPr>
          <a:xfrm>
            <a:off x="1295280" y="1905120"/>
            <a:ext cx="6400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9526"/>
          <a:stretch/>
        </p:blipFill>
        <p:spPr>
          <a:xfrm>
            <a:off x="99072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9588"/>
          <a:stretch/>
        </p:blipFill>
        <p:spPr>
          <a:xfrm>
            <a:off x="10666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51346"/>
          <a:stretch/>
        </p:blipFill>
        <p:spPr>
          <a:xfrm>
            <a:off x="1143000" y="609480"/>
            <a:ext cx="73152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46802" r="0" b="19514"/>
          <a:stretch/>
        </p:blipFill>
        <p:spPr>
          <a:xfrm>
            <a:off x="1143000" y="3352680"/>
            <a:ext cx="7315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53348" r="0" b="36362"/>
          <a:stretch/>
        </p:blipFill>
        <p:spPr>
          <a:xfrm>
            <a:off x="762120" y="3048120"/>
            <a:ext cx="73152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51346"/>
          <a:stretch/>
        </p:blipFill>
        <p:spPr>
          <a:xfrm>
            <a:off x="762120" y="6094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7239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63650" r="0" b="30755"/>
          <a:stretch/>
        </p:blipFill>
        <p:spPr>
          <a:xfrm>
            <a:off x="762120" y="304812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0" r="0" b="51346"/>
          <a:stretch/>
        </p:blipFill>
        <p:spPr>
          <a:xfrm>
            <a:off x="762120" y="6094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3657600"/>
            <a:ext cx="7162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69270" r="0" b="25135"/>
          <a:stretch/>
        </p:blipFill>
        <p:spPr>
          <a:xfrm>
            <a:off x="990720" y="304812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0" b="51346"/>
          <a:stretch/>
        </p:blipFill>
        <p:spPr>
          <a:xfrm>
            <a:off x="990720" y="6094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0720" y="3657600"/>
            <a:ext cx="7238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3345"/>
          <a:stretch/>
        </p:blipFill>
        <p:spPr>
          <a:xfrm>
            <a:off x="1143000" y="990720"/>
            <a:ext cx="7086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73939" r="0" b="19514"/>
          <a:stretch/>
        </p:blipFill>
        <p:spPr>
          <a:xfrm>
            <a:off x="762120" y="3276720"/>
            <a:ext cx="7315200" cy="761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0" b="51346"/>
          <a:stretch/>
        </p:blipFill>
        <p:spPr>
          <a:xfrm>
            <a:off x="762120" y="8380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1143000" y="609480"/>
            <a:ext cx="7238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9588"/>
          <a:stretch/>
        </p:blipFill>
        <p:spPr>
          <a:xfrm>
            <a:off x="91440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10815"/>
          <a:stretch/>
        </p:blipFill>
        <p:spPr>
          <a:xfrm>
            <a:off x="83808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17399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1066680" y="838080"/>
            <a:ext cx="739152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2286000"/>
            <a:ext cx="1143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7086600" cy="5029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6040" y="350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3760" y="2438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9144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838080"/>
            <a:ext cx="6858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483"/>
          <a:stretch/>
        </p:blipFill>
        <p:spPr>
          <a:xfrm>
            <a:off x="990720" y="838080"/>
            <a:ext cx="739116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05720" y="5410080"/>
            <a:ext cx="15238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147"/>
          <a:stretch/>
        </p:blipFill>
        <p:spPr>
          <a:xfrm>
            <a:off x="609480" y="533520"/>
            <a:ext cx="7925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6T15:19:30Z</dcterms:modified>
  <cp:revision>211</cp:revision>
  <dc:subject/>
  <dc:title>Slide 1</dc:title>
</cp:coreProperties>
</file>