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AAF-BC03-4D6C-8D97-7F8ADDE8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464-9C0B-4A0A-919B-69152D1B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293-4037-4744-9D50-E1A3D0B4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FF0-6535-4CF0-B1CE-C377551B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4C1-9DFD-4876-9555-FA3B43E8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E3F-C36A-4FB1-8731-C60BC1B7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C62-61E3-44D0-8157-B8136D4E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33C-4EDB-493B-AB29-F729A161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7AE-C6F3-481B-9F5D-77E4DC0E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66D-2B17-4E9C-B78B-9DD78B5B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43D-8D4D-4387-B80E-E2C7527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C14-ABF2-4417-B415-1ADEC1C9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F16D-9AF2-4BCE-A379-22F869059E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2209680"/>
            <a:ext cx="652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715000"/>
            <a:ext cx="1524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739152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419112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9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4800600"/>
            <a:ext cx="7617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4648320"/>
            <a:ext cx="20574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4648320"/>
            <a:ext cx="19810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86600" y="58672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696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69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698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698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62520" y="3733920"/>
            <a:ext cx="609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4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162920" y="6095880"/>
            <a:ext cx="1447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87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0" y="4572000"/>
            <a:ext cx="1523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69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696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590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8:33Z</dcterms:modified>
  <cp:revision>213</cp:revision>
  <dc:subject/>
  <dc:title>Slide 1</dc:title>
</cp:coreProperties>
</file>