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6940-0316-44BD-857A-CFAAB4C08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C65E-3DE8-4410-BDC6-33808B4E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9A5D-F006-454D-9BB3-0DBA6DE2C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835D-4047-4417-AD0B-7C470AC9D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9541-B988-4829-B594-3B39C960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ED57-F572-4932-8C4A-E64025D6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A262-9E04-4358-8404-FD98363C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6A83-CBD2-4A6A-B546-19163959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3EC9-92A1-441D-B016-F6DE0057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6CED-2EA6-4354-9C71-9B549A6D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4B02-9E94-489A-B425-5B8A89B7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25FA-4742-4E63-AEB7-C7E58EF7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C4A5-444A-4C3C-825D-ACB46E377A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7440" y="1676520"/>
            <a:ext cx="390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easures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f Effec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543800" cy="2590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543800" cy="1066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38080" y="4876920"/>
            <a:ext cx="75438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4771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4267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13680" y="5181480"/>
            <a:ext cx="74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igarette smoking became increasingly popular 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merica after World War I, when cigarettes w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anded out to soldiers as a way to boost moral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4191120" cy="4419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28840" y="5068800"/>
            <a:ext cx="714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ut along with the rise in smoking, came 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sturbing rise in the lung cancer rate and s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arly warnings from a handful of doctors abou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ssible dangers from smok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24280" y="609480"/>
            <a:ext cx="3886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4343400"/>
            <a:ext cx="7238880" cy="1981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7238880" cy="2530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981080" y="304920"/>
            <a:ext cx="518184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81080" y="1066680"/>
            <a:ext cx="5181840" cy="82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hort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rican Cancer Society (195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7239240" cy="2438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72392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467480" cy="3120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14400" y="4343400"/>
            <a:ext cx="74674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9T17:29:47Z</dcterms:modified>
  <cp:revision>203</cp:revision>
  <dc:subject/>
  <dc:title>Slide 1</dc:title>
</cp:coreProperties>
</file>