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1478-F9DB-4C2B-8BC9-F1BD0F13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0313-5389-418E-8F83-B52FE612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0F19-2D60-46BA-8A7E-C412AE2C4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3FA5-BA06-426E-80B2-C43A43907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5A70-0D35-4225-AF91-5E32ACFF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8218-C9FB-46C1-AFBF-921EF7C9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7355-99B8-4985-949A-EA8C86E6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1CE1-6A82-4738-9C5B-0BC30548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70F2-272D-47A0-B014-73145631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F678-CC47-4FEF-A5EF-FDE36618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5F6C-9781-4488-94AA-0D64F6D9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B309-0AEC-4A64-B214-CA30CC42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3E10-B9C6-42B9-88DC-6AD162C2E2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676520"/>
            <a:ext cx="6997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tera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Versu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ffect Modific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9213" r="32565" b="26098"/>
          <a:stretch/>
        </p:blipFill>
        <p:spPr>
          <a:xfrm>
            <a:off x="1066680" y="1143000"/>
            <a:ext cx="6934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2476" t="9576" r="24098" b="7610"/>
          <a:stretch/>
        </p:blipFill>
        <p:spPr>
          <a:xfrm>
            <a:off x="1295280" y="1066680"/>
            <a:ext cx="6782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2438" t="9813" r="25931" b="7610"/>
          <a:stretch/>
        </p:blipFill>
        <p:spPr>
          <a:xfrm>
            <a:off x="1295280" y="990720"/>
            <a:ext cx="6705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762120" y="76212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2381" t="1540" r="50510" b="35311"/>
          <a:stretch/>
        </p:blipFill>
        <p:spPr>
          <a:xfrm>
            <a:off x="2362320" y="1066680"/>
            <a:ext cx="5029200" cy="3276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26744" t="78558" r="24419" b="7585"/>
          <a:stretch/>
        </p:blipFill>
        <p:spPr>
          <a:xfrm>
            <a:off x="2362320" y="4343400"/>
            <a:ext cx="50292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48195" b="23382"/>
          <a:stretch/>
        </p:blipFill>
        <p:spPr>
          <a:xfrm>
            <a:off x="1981080" y="1409760"/>
            <a:ext cx="5715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21517"/>
          <a:stretch/>
        </p:blipFill>
        <p:spPr>
          <a:xfrm>
            <a:off x="1143000" y="914400"/>
            <a:ext cx="6858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838080"/>
            <a:ext cx="701064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371600" y="1066680"/>
            <a:ext cx="6172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285"/>
          <a:stretch/>
        </p:blipFill>
        <p:spPr>
          <a:xfrm>
            <a:off x="1447920" y="990720"/>
            <a:ext cx="6324480" cy="4427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0" t="84454" r="0" b="7610"/>
          <a:stretch/>
        </p:blipFill>
        <p:spPr>
          <a:xfrm>
            <a:off x="1447920" y="5410080"/>
            <a:ext cx="6324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2183" t="9350" r="55301" b="57942"/>
          <a:stretch/>
        </p:blipFill>
        <p:spPr>
          <a:xfrm>
            <a:off x="1752480" y="1828800"/>
            <a:ext cx="5943600" cy="3352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25808" t="1552" r="23531" b="89886"/>
          <a:stretch/>
        </p:blipFill>
        <p:spPr>
          <a:xfrm>
            <a:off x="2743200" y="609480"/>
            <a:ext cx="4038480" cy="838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57440" y="7779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3175" t="9288" r="46088" b="59494"/>
          <a:stretch/>
        </p:blipFill>
        <p:spPr>
          <a:xfrm>
            <a:off x="1905120" y="1371600"/>
            <a:ext cx="5715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30T19:02:37Z</dcterms:modified>
  <cp:revision>218</cp:revision>
  <dc:subject/>
  <dc:title>Slide 1</dc:title>
</cp:coreProperties>
</file>