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565-D0A1-4895-9ECB-10669379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EC8-65CB-486E-B08B-496CBAE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F53-1EB1-4C0C-AD7F-1A3C26CE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00D-2F18-43B2-A96F-05B99E86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00C-8795-47D4-826A-25B847E4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0FB-3EFE-49BD-AAC8-9B9B8A2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EEE-5A27-4D7D-BA00-D318F8D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6C9-FF46-4D98-A6F6-BB3ED26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325-14DF-43DD-AA14-708605C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AEB-6637-4F69-B4E1-F583E6F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B31-DBEF-48B4-A957-1973FFF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E15-AD0C-41D7-A001-9A73FE7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F4C5-21B1-4EF5-962B-1B69AE886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0:26:21Z</dcterms:modified>
  <cp:revision>43</cp:revision>
  <dc:subject/>
  <dc:title>PowerPoint Presentation</dc:title>
</cp:coreProperties>
</file>