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ABC-72BC-40DD-840A-E0B9E335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846-8691-482D-ADF0-847D6C0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F27-2BDC-4E7F-BE9B-F7C4005F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F7C-5F0E-4144-A6C8-A9D4C257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CB8-9BE0-4E8E-8AF3-CE7D1627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126-4B57-4EE1-88CA-08B97712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9FE-6014-4CCC-8EC2-BCEF152F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397-07BC-4F7F-BFFE-B15FEE75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E88-35F5-4647-82D0-E56C23A3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B3B-6B72-4303-B944-AB5A195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CD4-E88E-4E95-9183-6DBE67E2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5C5-5AC7-49B6-A0FE-362B95D1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795-D8AD-40CA-8896-938DA406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Variable Selec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trol of Confoun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609480"/>
            <a:ext cx="82296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58210" r="0" b="19501"/>
          <a:stretch/>
        </p:blipFill>
        <p:spPr>
          <a:xfrm>
            <a:off x="609480" y="198108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1295280"/>
            <a:ext cx="8229600" cy="704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19446" t="80508" r="58337" b="7736"/>
          <a:stretch/>
        </p:blipFill>
        <p:spPr>
          <a:xfrm>
            <a:off x="3962520" y="4381560"/>
            <a:ext cx="18288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57869" r="0" b="8030"/>
          <a:stretch/>
        </p:blipFill>
        <p:spPr>
          <a:xfrm>
            <a:off x="611280" y="1504800"/>
            <a:ext cx="8210520" cy="225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838080"/>
            <a:ext cx="8229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57869" r="0" b="8030"/>
          <a:stretch/>
        </p:blipFill>
        <p:spPr>
          <a:xfrm>
            <a:off x="611280" y="1504800"/>
            <a:ext cx="8210520" cy="225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838080"/>
            <a:ext cx="8229600" cy="70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20374" t="80508" r="58337" b="7736"/>
          <a:stretch/>
        </p:blipFill>
        <p:spPr>
          <a:xfrm>
            <a:off x="3886200" y="4572000"/>
            <a:ext cx="1752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457200" y="2133720"/>
            <a:ext cx="838188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457200" y="1447920"/>
            <a:ext cx="8305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04920" y="1600200"/>
            <a:ext cx="86104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40713" t="81399" r="36284" b="7736"/>
          <a:stretch/>
        </p:blipFill>
        <p:spPr>
          <a:xfrm>
            <a:off x="3429000" y="4952880"/>
            <a:ext cx="19810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22200" y="1600200"/>
            <a:ext cx="857412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22200" y="1600200"/>
            <a:ext cx="85741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20374" t="80508" r="58337" b="7736"/>
          <a:stretch/>
        </p:blipFill>
        <p:spPr>
          <a:xfrm>
            <a:off x="3886200" y="4572000"/>
            <a:ext cx="1752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533520" y="533520"/>
            <a:ext cx="809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2080"/>
          <a:stretch/>
        </p:blipFill>
        <p:spPr>
          <a:xfrm>
            <a:off x="914400" y="5335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322200"/>
            <a:ext cx="82296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685800"/>
            <a:ext cx="83822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09480" y="533520"/>
            <a:ext cx="7925040" cy="5937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81680" y="5791320"/>
            <a:ext cx="1752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7512"/>
          <a:stretch/>
        </p:blipFill>
        <p:spPr>
          <a:xfrm>
            <a:off x="304920" y="1752480"/>
            <a:ext cx="838188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8229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0538"/>
          <a:stretch/>
        </p:blipFill>
        <p:spPr>
          <a:xfrm>
            <a:off x="609480" y="1600200"/>
            <a:ext cx="807876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21322" r="0" b="69217"/>
          <a:stretch/>
        </p:blipFill>
        <p:spPr>
          <a:xfrm>
            <a:off x="608040" y="2257560"/>
            <a:ext cx="807876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9480" y="2971800"/>
            <a:ext cx="792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0538"/>
          <a:stretch/>
        </p:blipFill>
        <p:spPr>
          <a:xfrm>
            <a:off x="609480" y="1676520"/>
            <a:ext cx="7848720" cy="63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29608" r="0" b="62116"/>
          <a:stretch/>
        </p:blipFill>
        <p:spPr>
          <a:xfrm>
            <a:off x="609480" y="2273400"/>
            <a:ext cx="784872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8T15:46:50Z</dcterms:modified>
  <cp:revision>36</cp:revision>
  <dc:subject/>
  <dc:title>PowerPoint Presentation</dc:title>
</cp:coreProperties>
</file>