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228-0309-4528-9C96-21D4C8FA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87E-3843-4E8A-AD63-6A2454D4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30C-9CF2-4BD8-BE94-E2EB13AB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F5F-427D-4448-BE05-488DDB44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DCE-D44B-4DD2-8597-9F192079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5A6-9674-4854-918A-E17B8990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17D-C6DD-46A5-87D0-4D76136D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730-410F-450C-B45F-F659473E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2F2-BF0F-4CF5-9B2B-C693C850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208-A140-48FE-9956-25E956C0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279-3B8D-41DC-9C69-220FFDD6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6E0-D913-4716-B1B9-1776A85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206E-D71D-404D-943A-A2DD34389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ROSS-SECTIONA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73240" y="2376360"/>
            <a:ext cx="3187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28680" y="1697040"/>
            <a:ext cx="4876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30T14:16:25Z</dcterms:modified>
  <cp:revision>105</cp:revision>
  <dc:subject/>
  <dc:title>The Art in the State of the Art</dc:title>
</cp:coreProperties>
</file>