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C64-2480-415C-8E1E-B802CCB2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1CC-2B83-41FD-BAED-47D0BEB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06B-0542-445C-8F8F-6F3FCA4A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C0C-FAE9-45FC-94F7-1902D2BC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13D-01C0-4B39-82FE-C1A4500C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CB5-3BF6-4069-AA1F-08345EF2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AA3-1467-43DE-9ACC-BF62A55F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0EE-9BD8-4A15-9385-4254C02C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4F7-C5FA-4A1B-BB2D-8C960C89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681-7D68-49ED-9767-F2436EA9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30F-CCDE-4495-8A8B-4A1E7E33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3FC-5C1B-435C-A416-C499752A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B41-E3D3-4FE8-8D1D-7329D0D50E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080" y="1447920"/>
            <a:ext cx="636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en No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Use 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69343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3888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23888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61722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4:29:30Z</dcterms:modified>
  <cp:revision>217</cp:revision>
  <dc:subject/>
  <dc:title>Slide 1</dc:title>
</cp:coreProperties>
</file>