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285-DD25-4B6E-AC41-7EA00D06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B17-FC8D-4460-8E9B-C75705F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A12-EC66-44E9-8904-0DE911F4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ED5-882E-453B-935E-A83DD7C6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E20-C9BA-41A5-8734-E54740AE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EE0-44C1-44A0-8892-A3D6675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D22-6F74-4698-8BC6-18493834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A60-A305-4E55-B2EE-875B5E2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498-9C20-448F-A949-AABF2A1D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9BD-22CB-44A8-AA9F-C27BDB8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71A-C365-4C4A-817B-6EFA814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173-8691-4F0A-B3C5-178C074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459C-BDC4-4522-B3C9-B33FD4EDB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4480" y="251460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88620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 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238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23924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53080" y="5410080"/>
            <a:ext cx="1524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9000" y="30492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09Z</dcterms:modified>
  <cp:revision>179</cp:revision>
  <dc:subject/>
  <dc:title>Slide 1</dc:title>
</cp:coreProperties>
</file>