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DCC-74A3-4346-A27B-2932B75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462-5402-4923-8105-FC8CC763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604-19FA-4473-A81B-0E68A12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D24-792A-40A2-8658-42330505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B4B-2DC0-412A-AE9B-EABA085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179-AE00-4C80-A2BA-AD26D15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9B4-F0FB-45A2-9BCF-CB6204A0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2A4-8535-4D4F-ACB2-013BC67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B95-8438-426E-B16C-F1BAF39E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0F8-EE1E-4FAE-9858-34B866B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30D-F409-4207-B505-E43AC79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005-3678-40C5-9162-FA64D52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8730-4A85-47E0-BAE6-336CF721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Effect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 as estimate of 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ffere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3929" r="0" b="14495"/>
          <a:stretch/>
        </p:blipFill>
        <p:spPr>
          <a:xfrm>
            <a:off x="914400" y="5562720"/>
            <a:ext cx="7238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914400"/>
            <a:ext cx="6858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versus Difference Measures of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2760" y="1906560"/>
            <a:ext cx="3720960" cy="311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Imp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86880" y="369720"/>
            <a:ext cx="566244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on formula for EF = I* /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685800"/>
            <a:ext cx="5822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re Disease 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96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3T18:18:27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