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E8D-F501-44B3-AF20-3E8BD743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A28-A276-49B0-8259-7F0C1C4E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451-38F6-426E-AF88-8191BB1F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430B-0CF2-4DEF-A93C-95AE9067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082-FB32-439B-A7B6-5FE92858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66D-8B97-48BC-9BE5-5717EE7F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F63-2ABF-4D44-A19A-4EAEA6A0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BED-9B5D-4DCC-9FB3-E229320F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D7A-61E7-43D6-88C7-6BB4056B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B21-F0E8-4CE6-B014-135E4A2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B72-1427-42DC-8083-53F8B79B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C0C-C957-4BB0-9609-C4082460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7F3C-69FD-49E5-B4E4-A19B1E89F5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haracteristic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Adjusted Estima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685800"/>
            <a:ext cx="6400800" cy="50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78200" y="381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295280" y="838080"/>
            <a:ext cx="6400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76212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066680" y="609480"/>
            <a:ext cx="71629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3161"/>
          <a:stretch/>
        </p:blipFill>
        <p:spPr>
          <a:xfrm>
            <a:off x="1371600" y="762120"/>
            <a:ext cx="6248520" cy="32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39742" r="0" b="31456"/>
          <a:stretch/>
        </p:blipFill>
        <p:spPr>
          <a:xfrm>
            <a:off x="1371600" y="3962520"/>
            <a:ext cx="6248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1356" r="1238" b="31669"/>
          <a:stretch/>
        </p:blipFill>
        <p:spPr>
          <a:xfrm>
            <a:off x="1600200" y="1447920"/>
            <a:ext cx="6095880" cy="335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36840" y="4038480"/>
            <a:ext cx="47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(Typically, a weighted averag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23182"/>
          <a:stretch/>
        </p:blipFill>
        <p:spPr>
          <a:xfrm>
            <a:off x="1371600" y="838080"/>
            <a:ext cx="6705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853920"/>
            <a:ext cx="6629400" cy="508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77120" y="5486400"/>
            <a:ext cx="15238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914400" y="91440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371600" y="838080"/>
            <a:ext cx="670572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83960" y="4114800"/>
            <a:ext cx="55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sample sizes here ( 75 and 8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n’t very different, so an arithme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using equal weights seems 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9939"/>
          <a:stretch/>
        </p:blipFill>
        <p:spPr>
          <a:xfrm>
            <a:off x="1143000" y="838080"/>
            <a:ext cx="6781680" cy="49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4495680"/>
            <a:ext cx="435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ithmetic average: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4T18:03:14Z</dcterms:modified>
  <cp:revision>218</cp:revision>
  <dc:subject/>
  <dc:title>Slide 1</dc:title>
</cp:coreProperties>
</file>