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8D7-1E92-4588-BF5B-6800AE35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56F-2EB7-4113-B763-97BFCE5A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FF2D-427B-4AAE-A9AF-BCB802BA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E4B-2034-4822-A0AD-B4581F5E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D97-F8C7-4DAC-818D-9FD3DF46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7431-88E8-408B-9594-D548F8D9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82B-A87F-4053-81F1-C2049FBB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D04-6D66-4036-A177-D656A6BF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870-99F1-4091-A34C-94D37B7D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6DF-9D3E-4D0F-A402-61EFD629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8917-5B6E-4D7F-80D8-65078324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0102-4A94-462D-84F8-EBA0B336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EDED-090A-46CB-A3D7-8DB0031FA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METHODOLOGIC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ISSUES IN EPI 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01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5-01-10T19:55:40Z</dcterms:modified>
  <cp:revision>98</cp:revision>
  <dc:subject/>
  <dc:title>The Art in the State of the Art</dc:title>
</cp:coreProperties>
</file>