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F81-CD8E-4C67-9338-0B4152FF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CD0-6E6A-48A0-8F7C-35C7E4E1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A13-C5BF-4B6F-9E13-E444FF4B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9C7-24D6-43D2-8700-7F392701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E10-2B5D-4FFF-B2EC-68EFCF6A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CE7-DB8B-4257-B591-9CC54201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8F7-E202-4CB1-B59B-AC048EC1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766-20B9-4ED3-95D9-71872B5D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9F5-C6EC-4A13-B234-35892F4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6CF-71FC-4CCA-A10B-6819AF1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30B-E9A3-4EBC-B272-CCE86E9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5D2-52B1-41B5-B220-8FE62264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D11-4942-4355-BD90-91FB16F6F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680" y="1447920"/>
            <a:ext cx="682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Sever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trol Variab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9628"/>
          <a:stretch/>
        </p:blipFill>
        <p:spPr>
          <a:xfrm>
            <a:off x="1295280" y="1523880"/>
            <a:ext cx="6629400" cy="403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4267080"/>
            <a:ext cx="6629400" cy="1295640"/>
          </a:xfrm>
          <a:prstGeom prst="rect">
            <a:avLst/>
          </a:prstGeom>
          <a:solidFill>
            <a:srgbClr val="57fac4"/>
          </a:solidFill>
          <a:ln w="9360">
            <a:solidFill>
              <a:srgbClr val="5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99072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0656" r="0" b="48905"/>
          <a:stretch/>
        </p:blipFill>
        <p:spPr>
          <a:xfrm>
            <a:off x="914400" y="297180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914400" y="68580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708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50307" r="0" b="44148"/>
          <a:stretch/>
        </p:blipFill>
        <p:spPr>
          <a:xfrm>
            <a:off x="1143000" y="3048120"/>
            <a:ext cx="701028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1143000" y="914400"/>
            <a:ext cx="70102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19320" y="3733920"/>
            <a:ext cx="685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56002" r="0" b="34923"/>
          <a:stretch/>
        </p:blipFill>
        <p:spPr>
          <a:xfrm>
            <a:off x="990720" y="30481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990720" y="914400"/>
            <a:ext cx="74674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391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65089" r="0" b="24797"/>
          <a:stretch/>
        </p:blipFill>
        <p:spPr>
          <a:xfrm>
            <a:off x="1066680" y="27432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1066680" y="76212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09880"/>
            <a:ext cx="7010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7487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6398"/>
          <a:stretch/>
        </p:blipFill>
        <p:spPr>
          <a:xfrm>
            <a:off x="533520" y="457200"/>
            <a:ext cx="8076960" cy="4191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7696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6398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7023"/>
          <a:stretch/>
        </p:blipFill>
        <p:spPr>
          <a:xfrm>
            <a:off x="533520" y="3049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96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6110"/>
          <a:stretch/>
        </p:blipFill>
        <p:spPr>
          <a:xfrm>
            <a:off x="60948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65953" r="0" b="23395"/>
          <a:stretch/>
        </p:blipFill>
        <p:spPr>
          <a:xfrm>
            <a:off x="1219320" y="3505320"/>
            <a:ext cx="708660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1219320" y="609480"/>
            <a:ext cx="708660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95280" y="4572000"/>
            <a:ext cx="701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76055" r="0" b="17099"/>
          <a:stretch/>
        </p:blipFill>
        <p:spPr>
          <a:xfrm>
            <a:off x="1219320" y="3429000"/>
            <a:ext cx="708660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1219320" y="68580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7010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59870" r="0" b="14733"/>
          <a:stretch/>
        </p:blipFill>
        <p:spPr>
          <a:xfrm>
            <a:off x="838080" y="3581280"/>
            <a:ext cx="746784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838080" y="838080"/>
            <a:ext cx="7467840" cy="2743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553080" y="571500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65653" r="0" b="23970"/>
          <a:stretch/>
        </p:blipFill>
        <p:spPr>
          <a:xfrm>
            <a:off x="762120" y="342900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762120" y="685800"/>
            <a:ext cx="75438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7467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76042" r="0" b="14733"/>
          <a:stretch/>
        </p:blipFill>
        <p:spPr>
          <a:xfrm>
            <a:off x="838080" y="3200400"/>
            <a:ext cx="73915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838080" y="457200"/>
            <a:ext cx="7391520" cy="274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7120" y="37339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39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31130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13519"/>
          <a:stretch/>
        </p:blipFill>
        <p:spPr>
          <a:xfrm>
            <a:off x="685800" y="457200"/>
            <a:ext cx="8001000" cy="5867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0" y="6095880"/>
            <a:ext cx="1752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09480" y="762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60721" r="0" b="29077"/>
          <a:stretch/>
        </p:blipFill>
        <p:spPr>
          <a:xfrm>
            <a:off x="609480" y="3505320"/>
            <a:ext cx="77724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9939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09480" y="76212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71235" r="0" b="23770"/>
          <a:stretch/>
        </p:blipFill>
        <p:spPr>
          <a:xfrm>
            <a:off x="609480" y="3657600"/>
            <a:ext cx="77724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7696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85800" y="76212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76242" r="0" b="14357"/>
          <a:stretch/>
        </p:blipFill>
        <p:spPr>
          <a:xfrm>
            <a:off x="685800" y="3657600"/>
            <a:ext cx="7772400" cy="838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4191120"/>
            <a:ext cx="17528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467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13431"/>
          <a:stretch/>
        </p:blipFill>
        <p:spPr>
          <a:xfrm>
            <a:off x="685800" y="45720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609480" y="30492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62511" r="0" b="27350"/>
          <a:stretch/>
        </p:blipFill>
        <p:spPr>
          <a:xfrm>
            <a:off x="609480" y="2971800"/>
            <a:ext cx="807732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800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380880" y="380880"/>
            <a:ext cx="822960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72274" r="0" b="23445"/>
          <a:stretch/>
        </p:blipFill>
        <p:spPr>
          <a:xfrm>
            <a:off x="380880" y="39625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8001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609480" y="38088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77356" r="0" b="17574"/>
          <a:stretch/>
        </p:blipFill>
        <p:spPr>
          <a:xfrm>
            <a:off x="609480" y="3809880"/>
            <a:ext cx="8077320" cy="53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6858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6858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2:04:19Z</dcterms:modified>
  <cp:revision>221</cp:revision>
  <dc:subject/>
  <dc:title>Slide 1</dc:title>
</cp:coreProperties>
</file>