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A3B-A6A7-4460-A95E-62B3C3E3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4FA-D3CF-4B6C-85A9-6C63CEF8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B37-0A50-44EC-9BB6-6CAC8E6B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978-5CFC-4B33-9988-B4CB7AD2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391-F15A-4BA5-A938-5FBD4A92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13C-DF48-438F-8359-2938493A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9F5-B5D2-4D09-840F-CEF56D99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8A2-EBDC-4150-B48A-101D3CA8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5C4-90C6-4A58-8092-5DAA06B2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5C8-6381-4855-B29D-CE56085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DB8-C431-4A9A-A1E1-D7B2698D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1AE-B5F0-4051-99D7-303800D6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57A1-3CBB-4CCC-B62E-8A01EA048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:  Validity Versus Prec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8144"/>
          <a:stretch/>
        </p:blipFill>
        <p:spPr>
          <a:xfrm>
            <a:off x="380880" y="609480"/>
            <a:ext cx="83822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85800" y="533520"/>
            <a:ext cx="77724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8487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92468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457200"/>
            <a:ext cx="84582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6600" y="601992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44359"/>
          <a:stretch/>
        </p:blipFill>
        <p:spPr>
          <a:xfrm>
            <a:off x="609480" y="838080"/>
            <a:ext cx="7772400" cy="312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696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1680" y="3429000"/>
            <a:ext cx="80010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792504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792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09480" y="3808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943600"/>
            <a:ext cx="6095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571500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7797"/>
          <a:stretch/>
        </p:blipFill>
        <p:spPr>
          <a:xfrm>
            <a:off x="609480" y="38088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2012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6225"/>
          <a:stretch/>
        </p:blipFill>
        <p:spPr>
          <a:xfrm>
            <a:off x="533520" y="380880"/>
            <a:ext cx="8076960" cy="403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72213" r="0" b="18165"/>
          <a:stretch/>
        </p:blipFill>
        <p:spPr>
          <a:xfrm>
            <a:off x="533520" y="4419720"/>
            <a:ext cx="8076960" cy="59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7848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81845" r="0" b="9746"/>
          <a:stretch/>
        </p:blipFill>
        <p:spPr>
          <a:xfrm>
            <a:off x="533520" y="2133720"/>
            <a:ext cx="777240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75000" y="2514600"/>
            <a:ext cx="5757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48237" r="0" b="36225"/>
          <a:stretch/>
        </p:blipFill>
        <p:spPr>
          <a:xfrm>
            <a:off x="533520" y="12193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5:44:07Z</dcterms:modified>
  <cp:revision>39</cp:revision>
  <dc:subject/>
  <dc:title>PowerPoint Presentation</dc:title>
</cp:coreProperties>
</file>