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F9FC3-0E41-40A0-88D2-D2DA8ACFF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A776B-4DEB-4EED-B6D5-44A1222D3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34FA3-158A-4ABB-A46D-4B1C4B29F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5A991-738A-4C7B-BB14-53CE48900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41052-2442-47E2-B24F-4E33E5FA3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E0E32-0CE4-42D0-AAC3-3EE689E50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2FA6A-C024-4BDA-A408-966ED7E8B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BCF14-EC4A-497C-A3C6-33913A3F1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5A622-D5D5-4A6A-B7CA-D7E419FCF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10599-7684-405B-9F4F-DEDCE1541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C0EC1-AD2C-485B-8B0B-7476F6F90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104FB-D1F9-4DE3-9795-A86EEE351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5F177-E7EA-4FAC-854F-2B5FB214CA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99cc00"/>
                </a:solidFill>
                <a:latin typeface="Arial"/>
              </a:rPr>
              <a:t>Confidence Interval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762120" y="762120"/>
            <a:ext cx="769608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685800" y="609480"/>
            <a:ext cx="77724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990720" y="609480"/>
            <a:ext cx="746748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838080" y="533520"/>
            <a:ext cx="7467840" cy="28954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838080" y="3429000"/>
            <a:ext cx="746784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762120" y="609480"/>
            <a:ext cx="77724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838080" y="533520"/>
            <a:ext cx="7620120" cy="55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762120" y="685800"/>
            <a:ext cx="769608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838080" y="762120"/>
            <a:ext cx="7543800" cy="24890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838080" y="3200400"/>
            <a:ext cx="7543800" cy="18432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2438280" y="4952880"/>
            <a:ext cx="4419720" cy="9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685800" y="4572000"/>
            <a:ext cx="7620120" cy="19810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762120" y="380880"/>
            <a:ext cx="7543800" cy="19558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762120" y="2286000"/>
            <a:ext cx="7543800" cy="14479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2438280" y="3733920"/>
            <a:ext cx="4419720" cy="76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143000" y="609480"/>
            <a:ext cx="6705720" cy="33274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1143000" y="3886200"/>
            <a:ext cx="6705720" cy="10666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1143000" y="4952880"/>
            <a:ext cx="670572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6T20:58:15Z</dcterms:created>
  <dc:creator>david g. kleinbaum</dc:creator>
  <dc:description/>
  <dc:language>en-US</dc:language>
  <cp:lastModifiedBy>dkleinb</cp:lastModifiedBy>
  <dcterms:modified xsi:type="dcterms:W3CDTF">2003-11-17T22:17:36Z</dcterms:modified>
  <cp:revision>44</cp:revision>
  <dc:subject/>
  <dc:title>PowerPoint Presentation</dc:title>
</cp:coreProperties>
</file>