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99F-2696-4D51-9082-76E2148B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809-5730-4549-8B9D-569F015E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2A5-A230-482B-A426-EE809ABD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21D-8FBA-4B9E-9A94-F77424A3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8DA-3C27-4FCE-8AB6-57C6C1A7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7BA-1190-454B-B283-4DBE2553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F6A-9D14-440B-AB19-9F9023E5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ED7-D078-4071-90C5-AFA179AE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756-FBB7-4BF8-BD56-24747EBD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4AA-B246-4BC9-9C9D-226C5ED3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F2B-B3F6-491E-8A05-2BDCA14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E46-99C6-4F60-BE58-495D954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C3EF-A959-40ED-8CEC-BC882A06E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for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343400"/>
            <a:ext cx="3886200" cy="198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Overview about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sign op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nd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094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77" t="13118" r="2155" b="42283"/>
          <a:stretch/>
        </p:blipFill>
        <p:spPr>
          <a:xfrm>
            <a:off x="1066680" y="1295280"/>
            <a:ext cx="701064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3886" t="51020" r="16330" b="24171"/>
          <a:stretch/>
        </p:blipFill>
        <p:spPr>
          <a:xfrm>
            <a:off x="2895480" y="3886200"/>
            <a:ext cx="29718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44906" t="75842" r="16330" b="14507"/>
          <a:stretch/>
        </p:blipFill>
        <p:spPr>
          <a:xfrm>
            <a:off x="4724280" y="4800600"/>
            <a:ext cx="2895840" cy="457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380988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86200"/>
            <a:ext cx="1828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47242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257800"/>
            <a:ext cx="70106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15834" r="0" b="49856"/>
          <a:stretch/>
        </p:blipFill>
        <p:spPr>
          <a:xfrm>
            <a:off x="914400" y="152388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55360" y="3962520"/>
            <a:ext cx="7479000" cy="1252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ngle adjusted estimate that controls for conf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mask the fact that the E-D relationship differ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ategories of a control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Design Option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 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4678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3124080" y="13716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14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focu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1066680"/>
            <a:ext cx="243864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2918" r="0" b="39404"/>
          <a:stretch/>
        </p:blipFill>
        <p:spPr>
          <a:xfrm>
            <a:off x="914400" y="9907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080" y="3086280"/>
            <a:ext cx="34099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vailable in this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05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1218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7010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90720" y="1066680"/>
            <a:ext cx="69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3200400" y="2438280"/>
            <a:ext cx="76320" cy="68580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274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239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162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086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594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88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1804" r="0" b="8224"/>
          <a:stretch/>
        </p:blipFill>
        <p:spPr>
          <a:xfrm>
            <a:off x="609480" y="1523880"/>
            <a:ext cx="784872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609480"/>
            <a:ext cx="777240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 typically think of when we contro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form st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1440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18c6"/>
                </a:solidFill>
                <a:latin typeface="Arial"/>
              </a:rPr>
              <a:t>Reasons for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6:35Z</dcterms:modified>
  <cp:revision>111</cp:revision>
  <dc:subject/>
  <dc:title>The Art in the State of the Art</dc:title>
</cp:coreProperties>
</file>