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9FF-2972-4090-83C3-A24A590C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BAC-8C55-4BB8-B953-806A7C3C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8F6-60DF-41A6-B877-8424B8E8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8ED-7E96-407E-B6FA-74A0CFEC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2AD-E4EB-4992-8BE2-E9643CED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8E8-7BD5-4173-A347-A8909D0C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CFA-022A-4682-ABA0-02C0E075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DEE-D1C2-4CD0-A3AA-D09C953C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58C-D860-42EB-B9F4-1070F1B5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BDC8-6172-479D-996F-C2CE64B6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5DA-1530-45B6-9418-4A163618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09E-0B4B-4226-AC4A-7DA344E6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6206-19A7-42AA-8BB5-BD7BBAE8A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Large Sample Test for IDR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in Person-Time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ohort Stud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620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20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086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16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1520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3281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2388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1276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2673360"/>
            <a:ext cx="72388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38080" y="5029200"/>
            <a:ext cx="73915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2946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26708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400800" y="434340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90720" y="4343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4190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4267080"/>
            <a:ext cx="548640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62120" y="47242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781680" y="4724280"/>
            <a:ext cx="167652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76176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62120" y="5638680"/>
            <a:ext cx="7696080" cy="762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62520" y="4038480"/>
            <a:ext cx="28191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4T02:00:42Z</dcterms:modified>
  <cp:revision>41</cp:revision>
  <dc:subject/>
  <dc:title>PowerPoint Presentation</dc:title>
</cp:coreProperties>
</file>