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7AC-300A-46EA-9E8F-E554180A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F64-8BF0-43D6-8AE0-F62E941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540-B5A4-4682-89A7-B7E94C6F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30F-2F88-4B59-8D7C-3F22C636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222-840F-41E1-96FB-C3BC41EB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D8C-8CBB-4ACA-854E-D5AB9FF7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F76-4727-4744-A3D6-6440855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84E-F7D9-4798-94DB-B7C7D4F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27D-2464-44D9-85A7-EDCCD272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683-6394-40E1-8A4A-A444CA3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755-0EF6-4A54-B425-15F278A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E45-81CD-443B-9FDB-B28DD5A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23EB-ED7B-4A21-84D8-63BF7CE31D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656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07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807696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4191120"/>
            <a:ext cx="46483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8076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53341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807732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4952880"/>
            <a:ext cx="807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07732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807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72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8077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31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857760"/>
            <a:ext cx="754380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38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9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86600" y="563868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15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543800" cy="99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10280" y="41911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55Z</dcterms:modified>
  <cp:revision>213</cp:revision>
  <dc:subject/>
  <dc:title>Slide 1</dc:title>
</cp:coreProperties>
</file>