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01E-BFC2-4134-8CFF-577FF6C0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817-4039-45EF-BD24-68AB286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B95-E4DE-41B0-AD1C-1CFDDC0F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518-4E5F-4689-93C9-C66F94C7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119-892F-4312-A226-42BDBD7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119-4517-40C0-96E1-99B885A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992-B1AC-497C-9DF5-C35BE63A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937-A329-48BE-8B1F-FEB56E01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F4C-E889-4447-A9E6-9E979327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CBF-1B34-4582-8BD4-36FEC96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FFF-D712-47EF-8154-87D1534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149-5EAE-467C-9ABD-7F3ED0C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0319-B37D-43A5-9C48-B6A10DD51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estri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15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571500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52480" y="43434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3276720"/>
            <a:ext cx="10670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5344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55344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95280" y="1752480"/>
            <a:ext cx="121932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58000" y="1828800"/>
            <a:ext cx="990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3911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391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315200" cy="37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95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05:10Z</dcterms:modified>
  <cp:revision>44</cp:revision>
  <dc:subject/>
  <dc:title>PowerPoint Presentation</dc:title>
</cp:coreProperties>
</file>