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AFB-4C99-4AEF-BA0D-BE9225A9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985-51C5-4FF9-B7B4-330024E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6BC-4038-4065-B7B4-9E3060C2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A4E-0B38-4761-967A-1B035B29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972-4AF1-49EF-8C43-55C84C6C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833-7743-41FB-A933-53E6B02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3E9-E63F-48A6-870E-29A0DBB6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797-1C86-4AF0-8182-4ABF7E9A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2FF-DC3A-4829-8BED-BC7D17D2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F37-4F18-4DCC-9EC4-80564F3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45D-F141-4AEC-A2CA-999D01A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B70-FF98-4777-B6C6-DE7CBFF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4D3-1098-411F-9CEE-7A6ABD8AEA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2286000"/>
            <a:ext cx="77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Exp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209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4648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80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391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391520" cy="86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79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3962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791320" y="2057400"/>
            <a:ext cx="6094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4572000"/>
            <a:ext cx="4572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flipH="1" rot="10800000">
            <a:off x="5791320" y="19810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flipH="1" rot="10800000">
            <a:off x="6858000" y="4495680"/>
            <a:ext cx="6094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4480" y="88884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Expo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5791320"/>
            <a:ext cx="5334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63868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563868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5867280"/>
            <a:ext cx="4419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2210040" cy="556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095880" y="45720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133720" y="5867280"/>
            <a:ext cx="243828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20574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243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964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96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895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5:25:16Z</dcterms:modified>
  <cp:revision>216</cp:revision>
  <dc:subject/>
  <dc:title>Slide 1</dc:title>
</cp:coreProperties>
</file>