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71D-AD81-4E92-B61F-55E4FD7E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DA3-8CD3-4E72-8DFB-BB7D92D1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586-0C67-41CE-A5E3-486DFE83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97E-20DE-4026-905A-0DAC16F6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009-600E-4183-9832-48A63850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EC0B-043F-47CB-8C7E-F32119C4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B74E-813A-4E72-91C1-147E09A2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865-B364-4832-A3EF-44923B30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43F-7071-4786-8D4F-2B176247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C84-6D40-4580-92B6-2FB2A71D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5CA6-BD9A-4901-8BD2-6ACDE2EE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EA22-0CB6-467F-9F08-027B8F77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41AA-22F5-4309-8989-D2D68B5D7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OHORT STUDIES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10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162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010280" cy="487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343400" y="914400"/>
            <a:ext cx="914400" cy="711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84880" y="30492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8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29680" y="243000"/>
            <a:ext cx="28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mous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693396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6324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1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5960" y="228600"/>
            <a:ext cx="25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48-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3276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444760" y="914400"/>
            <a:ext cx="38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10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933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10280" cy="1511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62485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8168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43000" y="2155680"/>
            <a:ext cx="67816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10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50:31Z</dcterms:modified>
  <cp:revision>107</cp:revision>
  <dc:subject/>
  <dc:title>The Art in the State of the Art</dc:title>
</cp:coreProperties>
</file>