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4AC-D110-41B7-B0ED-64B4FAA8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6CD-4B45-41AA-8774-FAFFBE3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5D6-F378-487F-8CE9-AB7AC3F9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35D-C37E-40B6-B080-0FE891C9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3F9-7F31-432B-A522-1A8932AD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CC8-A2C7-4FCD-8FC3-826BFE6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824-0D05-4805-ABDF-727EE4C4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1B9-99AD-47AA-8133-7230BA5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181-577E-4669-B437-BF65EA4F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01E-585A-45A5-B3E6-A870ED4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6A4-35B0-4619-9F12-AE96D80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E28-3962-4A47-B419-77FEFC6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AF73-4750-49D8-875E-0894167B8E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800" y="152388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depend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Exposure 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162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1976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772400" cy="834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7772400" cy="58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629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7772400" cy="81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7772400" cy="2438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848720" y="5334120"/>
            <a:ext cx="688680" cy="71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812000" y="3581280"/>
            <a:ext cx="7225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7772400" cy="68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6858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4191120"/>
            <a:ext cx="75438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70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11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48:35Z</dcterms:modified>
  <cp:revision>215</cp:revision>
  <dc:subject/>
  <dc:title>Slide 1</dc:title>
</cp:coreProperties>
</file>