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879-58D7-450F-B211-BD522E2F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C0A-007D-4BD2-A19A-278FD6A4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6B6-3DF6-47D0-B697-C404BF43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0BD-CFD2-4BC8-992B-2215395E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9A8-4EB5-48D6-8F89-977E224A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78C-62DB-4996-96A6-8AAC07AF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83B-5DDF-4A4F-8BA8-E1906DEF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0F0-477E-4D30-BE48-3C4C8EA0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061-79AB-43F7-8E92-CEBC143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968-CD9E-4464-9ED6-1FF2560F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4AA-015A-40CC-94BF-4EA1EED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1BF-41D8-4914-AFA2-EF437F6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932-08B9-4E72-A96C-108B75043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 Exact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ase-Control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181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37339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4648320"/>
            <a:ext cx="6705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239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01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39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39152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2378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7391520" cy="121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91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21720" y="1447920"/>
            <a:ext cx="2444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mall s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16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84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97180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19320" y="4419720"/>
            <a:ext cx="4038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038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403848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22860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9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3600" y="3200400"/>
            <a:ext cx="1905120" cy="99072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438280" y="4724280"/>
            <a:ext cx="3962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3:10:54Z</dcterms:modified>
  <cp:revision>41</cp:revision>
  <dc:subject/>
  <dc:title>PowerPoint Presentation</dc:title>
</cp:coreProperties>
</file>