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036-799B-4E31-BA2A-2B9B3C89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0E6-694A-4E3C-A3C4-82FC46B0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FF7-6A31-4E36-A111-48D95E42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B15-FBFE-42B0-BF8E-4E6897E4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640-BA99-4B37-A09D-E7096A10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4F4-51CB-4D3B-BBEB-20A33E4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F7E-72C2-406F-851E-5B5F948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F42-C85C-4BA0-BD08-70D3D0C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53E-CFFE-48C2-8397-4DCAC80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B6E-8E9C-4563-98D4-DF9B8DA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BEB-1285-47B8-B8C3-DF17455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39A-3323-434F-B74F-8C0F712E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00D8-AB9F-429A-9F8E-6DD9D19A1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440" y="1828800"/>
            <a:ext cx="602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umber Need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Treat  (N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553080" cy="7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6553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541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4711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483000"/>
            <a:ext cx="6477120" cy="154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7116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55344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720" y="4191120"/>
            <a:ext cx="2286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267080"/>
            <a:ext cx="99072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88620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55344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6629400" cy="167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34320" y="51055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5530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6477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05Z</dcterms:modified>
  <cp:revision>207</cp:revision>
  <dc:subject/>
  <dc:title>Slide 1</dc:title>
</cp:coreProperties>
</file>