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C439-8B03-467D-A680-B9D8029D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DC9-F1E0-4CA5-BCAB-FA2DEF99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03DA-0150-4AC4-A1D9-B65FB318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5907-3B8D-40AB-9FF2-F3C3EA04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BEF-4B8F-4967-AFC7-14EF1A99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2625-66E3-40C3-8170-6B5473DD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6B96-EEF2-49B0-B8CA-99E533B4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A044-4AEF-46D6-9C16-6A6079A8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9FC4-D611-4A88-8374-5A21DA61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2AA7-F726-42D7-A224-14264847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00AA-AF0A-4BC7-B98C-51778ACB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106-5B50-4775-8B92-BBECC20D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B0D5-7BB1-40C5-8938-51FDEBB0A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1.png"/><Relationship Id="rId3" Type="http://schemas.openxmlformats.org/officeDocument/2006/relationships/image" Target="../media/image17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NALYSIS OF FREQUENCY-MATCHED D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238880" cy="64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7239240" cy="2666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90720" y="4876920"/>
            <a:ext cx="67816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682560"/>
            <a:ext cx="4953240" cy="612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95280" y="4038480"/>
            <a:ext cx="6782040" cy="2133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505320" y="1828800"/>
            <a:ext cx="19047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b7e0"/>
                </a:solidFill>
                <a:latin typeface="Times New Roman"/>
              </a:rPr>
              <a:t>cOR = 4.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505320" y="2895480"/>
            <a:ext cx="18288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066680" y="762120"/>
            <a:ext cx="7086600" cy="984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4038480" cy="1676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066680" y="3809880"/>
            <a:ext cx="7086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143000" y="609480"/>
            <a:ext cx="487692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990720" y="1523880"/>
            <a:ext cx="7238880" cy="2210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43000" y="3886200"/>
            <a:ext cx="7162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133720" y="1143000"/>
            <a:ext cx="1600200" cy="380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905120" y="685800"/>
            <a:ext cx="4883040" cy="498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514600" y="1752480"/>
            <a:ext cx="4038480" cy="1676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838080" y="3657600"/>
            <a:ext cx="7239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91440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990720" y="1219320"/>
            <a:ext cx="7162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990720" y="685800"/>
            <a:ext cx="7391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762120" y="1295280"/>
            <a:ext cx="7543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762120" y="6858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105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914400" y="5867280"/>
            <a:ext cx="1600200" cy="381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467480" y="5562720"/>
            <a:ext cx="83844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cp:lastPrinted>2002-06-27T19:30:17Z</cp:lastPrinted>
  <dcterms:modified xsi:type="dcterms:W3CDTF">2002-07-02T15:16:36Z</dcterms:modified>
  <cp:revision>81</cp:revision>
  <dc:subject/>
  <dc:title>The Art in the State of the Art</dc:title>
</cp:coreProperties>
</file>