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4E6-674B-40AE-AD68-0B4DFDAF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6C9-CDE9-4F24-A143-E080B064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D01-913B-4812-9A53-E375547A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D81-4D24-4E2D-8A3A-07A4CC66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250-B938-4FF0-8400-D91A3A39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8AC-53DD-4B11-8F4B-67502109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882-C8BA-46D9-B724-79B299A1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7B6-7458-4DFC-9041-E13532E9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E2E-DB63-4B29-9038-D9B1C63C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4FE-CC09-4ECA-96F0-DB90BFEE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8F3-D3BF-4281-8FA7-77516858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A25-D66C-44FD-BD9B-B164A138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1BFA-16D1-40CF-B600-E4A1410E56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9720" y="2362320"/>
            <a:ext cx="462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trodu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239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705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49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1:00Z</dcterms:modified>
  <cp:revision>205</cp:revision>
  <dc:subject/>
  <dc:title>Slide 1</dc:title>
</cp:coreProperties>
</file>