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5A90-CF72-4FAB-8C31-C1414BEC6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06BE-915F-4444-93F0-DF7159968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E122-4940-4CAD-9CA7-9BB01D378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820D-6A4A-4C0A-817C-D0487672C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D106-B366-4C1B-9219-5F120BE70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E4A3-237E-4F1A-85B0-21CA2EEA5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386E-F960-4ECF-ADAB-1FEF09E55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FDC6-28D1-4A8A-A412-E0472F682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C5BE-DB68-47F8-95FB-86BBE7B7D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2634-863B-4735-882E-1B249638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D6BE-7132-4E8F-A7C9-88C12DE4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32D9-A793-42CF-ABA6-09CC51CE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3BB1D-85A1-47F6-AB22-114509115C9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7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7280" y="1447920"/>
            <a:ext cx="5470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Selection Bia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i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Different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Study Design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91520" cy="4114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352680" y="762120"/>
            <a:ext cx="2514600" cy="444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3276720"/>
            <a:ext cx="419112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914400" y="4800600"/>
            <a:ext cx="731520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201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201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43000" y="4952880"/>
            <a:ext cx="7162920" cy="1447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7162920" cy="2057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143000" y="2666880"/>
            <a:ext cx="7162920" cy="2286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143000" y="5029200"/>
            <a:ext cx="838080" cy="3049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80773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543800" cy="18129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7543800" cy="11019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85800" y="3733920"/>
            <a:ext cx="75438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38080" y="3200400"/>
            <a:ext cx="7543800" cy="609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838080" y="1371600"/>
            <a:ext cx="7543800" cy="18288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838080" y="3809880"/>
            <a:ext cx="75438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543800" cy="2133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914400" y="3048120"/>
            <a:ext cx="7543800" cy="6951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914400" y="3733920"/>
            <a:ext cx="7543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543800" cy="2286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838080" y="3200400"/>
            <a:ext cx="7543800" cy="685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914400" y="3886200"/>
            <a:ext cx="74674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201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7848720" cy="5410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220400" y="1905120"/>
            <a:ext cx="22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y Epi Stu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7724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6960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620120" cy="19810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838080" y="2924280"/>
            <a:ext cx="7620120" cy="24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543800" cy="14479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914400" y="2286000"/>
            <a:ext cx="7543800" cy="949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914400" y="3200400"/>
            <a:ext cx="754380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84836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6201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4674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467480" cy="5410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095880" y="2057400"/>
            <a:ext cx="1905120" cy="990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006600" y="1512720"/>
            <a:ext cx="212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 issue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848720" cy="5486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85800" y="5638680"/>
            <a:ext cx="24382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9246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572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62120" y="4876920"/>
            <a:ext cx="76197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915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21T15:37:39Z</dcterms:modified>
  <cp:revision>213</cp:revision>
  <dc:subject/>
  <dc:title>Slide 1</dc:title>
</cp:coreProperties>
</file>