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1C1-0539-4EC9-ADAF-59309160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5D7-22CE-4208-93CB-12F571A6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E1A-35D9-4939-9321-4D52FD6D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7D2-2205-4421-B829-097085F5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C96-C6C0-4762-8765-DF0600B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83E-DF3E-4A4A-AC44-60233A44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26B-5C72-4214-A196-1E82D5AB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E4B-0351-4DD7-9149-F07A927D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273-41D1-4A08-8C09-F1BAFBD4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E91-6B11-42C5-9A30-321483B0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13C-E581-42D4-BB05-C479FF8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CE2-8CA9-4165-AD26-98FA14A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3744-EFE1-4DAA-8364-F0835B0BE3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8960" y="152388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Expos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81680" y="57913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234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39116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7920" y="4114800"/>
            <a:ext cx="6095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2346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39116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239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25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8076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78176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7772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076960" cy="73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830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4952880"/>
            <a:ext cx="7696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(reasonable assumption in this stu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04:44:35Z</dcterms:modified>
  <cp:revision>215</cp:revision>
  <dc:subject/>
  <dc:title>Slide 1</dc:title>
</cp:coreProperties>
</file>