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63E-C413-4E7B-A252-202CBEAF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312-AE9B-403C-A65D-C216A03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C62-28AD-4D6B-AB12-8A4B5F68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D02-D9A7-493A-9AEF-FD29A980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9A1-8FE5-4485-89A2-77A464ED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BA7-BFFC-4FDA-A93C-85FC3B6F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1CF-6389-4C36-BB2B-4834056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095-7616-4CA7-A49F-6ADCDCB0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257-4AC4-431A-B75D-46983653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FE9-A0F5-405F-A16B-FF2EF2C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1D1-178E-4ED3-81D8-C6B204B8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C46-1A6D-43A9-9BBF-ABE4A71C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64FC-6012-4F10-92D9-93E0A35BF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1447920"/>
            <a:ext cx="589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Differ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42Z</dcterms:modified>
  <cp:revision>214</cp:revision>
  <dc:subject/>
  <dc:title>Slide 1</dc:title>
</cp:coreProperties>
</file>