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13C-C7F5-45B3-A8AA-D381876E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E7F-346A-47E8-869E-FA1279DA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F75-4AD8-4D5A-BFDB-3E518E8F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5C8-1FFE-40C1-BC1B-44DF799D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79A-B472-4671-AF70-8FFCC9F9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CD5-548C-4E5B-A805-4AC940A3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E63-5458-4269-9A42-39527311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36F-2F48-44D8-9865-CCECE4F9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BD0-9AC8-4614-A070-95E5DBD9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0CA-F915-441B-B37E-36FD7A7E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F82-4D2E-487B-B51D-7CECB860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BD0-8096-4068-89D6-73BEA020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3BCD-5F69-4AA4-ADBB-0F62B9B8F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Match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62320" y="5486400"/>
            <a:ext cx="4876560" cy="633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5638680"/>
            <a:ext cx="13716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38880" y="56386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0516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510516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5105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32:58Z</dcterms:modified>
  <cp:revision>43</cp:revision>
  <dc:subject/>
  <dc:title>PowerPoint Presentation</dc:title>
</cp:coreProperties>
</file>