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93A-2B24-4515-9EDA-490C1B8A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FB4E-3B63-4B5B-9015-DF62691D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3C11-45EF-4331-9910-F2D32006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A658-B64E-481D-8C62-8FCF12EB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BD72-7A57-4F78-A43E-E72BEFFB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D6A-C54B-43F2-954E-CC0AB166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9ACD-16B8-48A4-B343-E7C8556E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F11-A7F6-4134-AAE9-5B621855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38DC-260D-4639-894F-4F67F5DC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A998-3D0B-4E3F-88F6-5675203D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7660-8963-4AF0-914A-66B6BE94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B67D-38D7-42A5-9199-C4CF0B42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2F52-0C5F-48D1-8E1B-71D7398FD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NALYS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010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86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934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10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162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391160" cy="1117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47920" y="2852640"/>
            <a:ext cx="647676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1409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295280" y="2719440"/>
            <a:ext cx="64771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6933960" cy="1917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371600" y="2852640"/>
            <a:ext cx="632448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9T14:59:59Z</dcterms:modified>
  <cp:revision>94</cp:revision>
  <dc:subject/>
  <dc:title>The Art in the State of the Art</dc:title>
</cp:coreProperties>
</file>