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276-3D02-446D-9AE8-8C35D3F8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342-B4B1-4D8A-8571-9E205A92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58B-E61D-4561-80D3-E62042B5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56F-B95B-4142-9BD8-3FE4148B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CCB-8A0D-43BD-9061-3591D57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D33-0D7B-48B0-9D04-1009997C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62A-35A5-42DF-AEFF-93EB93FC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1CE-2755-42AF-8C81-079547C0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956-38D0-423A-8A65-F634F4F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F6E-5B85-41BC-882D-0C6EFDA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BA1-6451-4C76-9EA0-B8993A2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D83-EF16-40C8-987B-832C135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A3A1-4323-4C7A-9AA0-1243A752C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880" y="2819520"/>
            <a:ext cx="724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impson’s Parado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9480" y="608040"/>
            <a:ext cx="3954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9799"/>
                </a:solidFill>
                <a:latin typeface="Times New Roman"/>
              </a:rPr>
              <a:t>Simpson’s Parado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3078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00800" y="609480"/>
            <a:ext cx="2209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2003" b="7610"/>
          <a:stretch/>
        </p:blipFill>
        <p:spPr>
          <a:xfrm>
            <a:off x="1371600" y="1209600"/>
            <a:ext cx="6400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81" t="1552" r="3534" b="10264"/>
          <a:stretch/>
        </p:blipFill>
        <p:spPr>
          <a:xfrm>
            <a:off x="914400" y="5335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353" t="1552" r="1181" b="18213"/>
          <a:stretch/>
        </p:blipFill>
        <p:spPr>
          <a:xfrm>
            <a:off x="838080" y="1143000"/>
            <a:ext cx="7467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219" t="1615" r="1219" b="7610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28240" y="585144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es home at the end of the day without buying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8120" y="47160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next day just as the store  op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410" t="1602" r="1210" b="7610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7T14:43:20Z</dcterms:modified>
  <cp:revision>219</cp:revision>
  <dc:subject/>
  <dc:title>Slide 1</dc:title>
</cp:coreProperties>
</file>