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20.wmf" ContentType="image/x-wmf"/>
  <Override PartName="/ppt/media/image3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png" ContentType="image/png"/>
  <Override PartName="/ppt/media/image1.wmf" ContentType="image/x-wmf"/>
  <Override PartName="/ppt/media/image2.wmf" ContentType="image/x-wmf"/>
  <Override PartName="/ppt/media/image14.wmf" ContentType="image/x-wmf"/>
  <Override PartName="/ppt/media/image6.png" ContentType="image/png"/>
  <Override PartName="/ppt/media/image11.png" ContentType="image/pn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A43F-38F9-4E34-8887-CC7E057EF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EFF0-0C21-4BDE-9940-993675E4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A712-8406-44C3-96B6-B8535FBF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5728-2824-4EEB-ABEF-2E9E8CD0C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36C9-B089-482F-8EE1-8C313438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FD03-53E9-4111-8C58-C52C5258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E443-A9D1-4BEC-A674-7B438C52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BB3D-4C15-46C8-9D6A-E1ED7F06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8BCA-6D4D-4AC4-BB94-9BE0989E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F450-1077-4EAD-9E48-72AD3637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9517-46EB-4876-B532-180CDA69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1AF1-6244-4EDE-B39B-BD7E9376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5C07-3C6F-4D8B-9D03-529202A9E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286000"/>
            <a:ext cx="831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Joint Versus Marginal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onfound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34585" r="0" b="34414"/>
          <a:stretch/>
        </p:blipFill>
        <p:spPr>
          <a:xfrm>
            <a:off x="304920" y="1219320"/>
            <a:ext cx="8153280" cy="1981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3124080"/>
            <a:ext cx="8153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33400" r="0" b="37988"/>
          <a:stretch/>
        </p:blipFill>
        <p:spPr>
          <a:xfrm>
            <a:off x="380880" y="1143000"/>
            <a:ext cx="8458200" cy="1828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0" t="65595" r="0" b="26062"/>
          <a:stretch/>
        </p:blipFill>
        <p:spPr>
          <a:xfrm>
            <a:off x="380880" y="2895480"/>
            <a:ext cx="8458200" cy="609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57200" y="3505320"/>
            <a:ext cx="83059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33400" r="0" b="37988"/>
          <a:stretch/>
        </p:blipFill>
        <p:spPr>
          <a:xfrm>
            <a:off x="380880" y="1143000"/>
            <a:ext cx="8458200" cy="1828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0" t="73948" r="0" b="11746"/>
          <a:stretch/>
        </p:blipFill>
        <p:spPr>
          <a:xfrm>
            <a:off x="380880" y="2895480"/>
            <a:ext cx="8458200" cy="914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57200" y="3809880"/>
            <a:ext cx="83059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13756"/>
          <a:stretch/>
        </p:blipFill>
        <p:spPr>
          <a:xfrm>
            <a:off x="457200" y="762120"/>
            <a:ext cx="8229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7738"/>
          <a:stretch/>
        </p:blipFill>
        <p:spPr>
          <a:xfrm>
            <a:off x="609480" y="685800"/>
            <a:ext cx="8001000" cy="5519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486400" y="1447920"/>
            <a:ext cx="28954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(C</a:t>
            </a:r>
            <a:r>
              <a:rPr b="0" lang="en-US" sz="2400" spc="-1" strike="noStrike" baseline="-25000">
                <a:solidFill>
                  <a:srgbClr val="80808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, …, C</a:t>
            </a:r>
            <a:r>
              <a:rPr b="0" lang="en-US" sz="2400" spc="-1" strike="noStrike" baseline="-25000">
                <a:solidFill>
                  <a:srgbClr val="80808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11746"/>
          <a:stretch/>
        </p:blipFill>
        <p:spPr>
          <a:xfrm>
            <a:off x="609480" y="736560"/>
            <a:ext cx="7772400" cy="5465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705720" y="5867280"/>
            <a:ext cx="160020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10080" y="1600200"/>
            <a:ext cx="25146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…,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17017"/>
          <a:stretch/>
        </p:blipFill>
        <p:spPr>
          <a:xfrm>
            <a:off x="914400" y="228600"/>
            <a:ext cx="7391520" cy="4386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90720" y="4572000"/>
            <a:ext cx="7238880" cy="1770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562720" y="914400"/>
            <a:ext cx="259056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…,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15766"/>
          <a:stretch/>
        </p:blipFill>
        <p:spPr>
          <a:xfrm>
            <a:off x="1523880" y="1523880"/>
            <a:ext cx="64008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42122" r="0" b="35201"/>
          <a:stretch/>
        </p:blipFill>
        <p:spPr>
          <a:xfrm>
            <a:off x="1066680" y="1752480"/>
            <a:ext cx="7239240" cy="1295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219320" y="3048120"/>
            <a:ext cx="70102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41041" r="0" b="48161"/>
          <a:stretch/>
        </p:blipFill>
        <p:spPr>
          <a:xfrm>
            <a:off x="685800" y="1143000"/>
            <a:ext cx="8077320" cy="762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rcRect l="0" t="64808" r="0" b="22241"/>
          <a:stretch/>
        </p:blipFill>
        <p:spPr>
          <a:xfrm>
            <a:off x="685800" y="1884240"/>
            <a:ext cx="8077320" cy="782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85800" y="2666880"/>
            <a:ext cx="807732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762120" y="895320"/>
            <a:ext cx="777240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430800" y="234324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0" t="43203" r="0" b="48170"/>
          <a:stretch/>
        </p:blipFill>
        <p:spPr>
          <a:xfrm>
            <a:off x="304920" y="2057400"/>
            <a:ext cx="8380440" cy="622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0" t="76953" r="0" b="15766"/>
          <a:stretch/>
        </p:blipFill>
        <p:spPr>
          <a:xfrm>
            <a:off x="303120" y="2666880"/>
            <a:ext cx="8382240" cy="457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04920" y="3124080"/>
            <a:ext cx="83055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0" b="11746"/>
          <a:stretch/>
        </p:blipFill>
        <p:spPr>
          <a:xfrm>
            <a:off x="457200" y="685800"/>
            <a:ext cx="838188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457200" y="609480"/>
            <a:ext cx="822960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15766"/>
          <a:stretch/>
        </p:blipFill>
        <p:spPr>
          <a:xfrm>
            <a:off x="457200" y="762120"/>
            <a:ext cx="8153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30736" r="0" b="15766"/>
          <a:stretch/>
        </p:blipFill>
        <p:spPr>
          <a:xfrm>
            <a:off x="609480" y="380880"/>
            <a:ext cx="8153640" cy="358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792468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7766"/>
          <a:stretch/>
        </p:blipFill>
        <p:spPr>
          <a:xfrm>
            <a:off x="380880" y="914400"/>
            <a:ext cx="830592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31210" r="0" b="17766"/>
          <a:stretch/>
        </p:blipFill>
        <p:spPr>
          <a:xfrm>
            <a:off x="533520" y="380880"/>
            <a:ext cx="8305560" cy="3489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807732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533520" y="838080"/>
            <a:ext cx="792468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11746"/>
          <a:stretch/>
        </p:blipFill>
        <p:spPr>
          <a:xfrm>
            <a:off x="380880" y="609480"/>
            <a:ext cx="84582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19:17:01Z</dcterms:created>
  <dc:creator>david g. kleinbaum</dc:creator>
  <dc:description/>
  <dc:language>en-US</dc:language>
  <cp:lastModifiedBy>dkleinb</cp:lastModifiedBy>
  <dcterms:modified xsi:type="dcterms:W3CDTF">2003-10-28T14:48:54Z</dcterms:modified>
  <cp:revision>33</cp:revision>
  <dc:subject/>
  <dc:title> Confounding Involving Several Risk Factors</dc:title>
</cp:coreProperties>
</file>