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0C04-22B4-4422-829B-B2BB1341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258A-78F6-4CCB-A37C-A59D22D2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5D28-29FF-4A56-8944-37D0E728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1C87-7F5F-4537-BD1C-490C298BF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754-7FC9-4FEF-BE8E-E5D69A00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E11-1F0A-4672-81B7-3093FF59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E82A-38C2-45EE-8F40-CC247988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714D-AA07-4FF2-87EA-BB082800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1856-3EA2-42AD-A51F-15892FB8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EB3D-C532-4167-8CC2-C7ABF82D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4BC1-ABF1-4795-ADD4-47B23699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BE5F-CBCC-44FB-97FA-73760D09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22C3-9570-4AE1-8775-E9D44A05FD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2438280"/>
            <a:ext cx="699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ffect Modific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ampl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371600"/>
            <a:ext cx="59436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447920"/>
            <a:ext cx="57909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752480" y="1251000"/>
            <a:ext cx="601992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38878"/>
          <a:stretch/>
        </p:blipFill>
        <p:spPr>
          <a:xfrm>
            <a:off x="1066680" y="1295280"/>
            <a:ext cx="6858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38878"/>
          <a:stretch/>
        </p:blipFill>
        <p:spPr>
          <a:xfrm>
            <a:off x="838080" y="685800"/>
            <a:ext cx="7162920" cy="422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59129" t="52668" r="26000" b="41700"/>
          <a:stretch/>
        </p:blipFill>
        <p:spPr>
          <a:xfrm>
            <a:off x="3048120" y="5105520"/>
            <a:ext cx="259056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61009" r="0" b="30292"/>
          <a:stretch/>
        </p:blipFill>
        <p:spPr>
          <a:xfrm>
            <a:off x="1143000" y="380988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1143000"/>
            <a:ext cx="6858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61009" r="0" b="30292"/>
          <a:stretch/>
        </p:blipFill>
        <p:spPr>
          <a:xfrm>
            <a:off x="1143000" y="3809880"/>
            <a:ext cx="6858000" cy="609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1143000"/>
            <a:ext cx="685800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59252" t="52668" r="26000" b="41334"/>
          <a:stretch/>
        </p:blipFill>
        <p:spPr>
          <a:xfrm>
            <a:off x="2819520" y="4572000"/>
            <a:ext cx="350496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70247" r="0" b="19352"/>
          <a:stretch/>
        </p:blipFill>
        <p:spPr>
          <a:xfrm>
            <a:off x="1143000" y="380988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1143000"/>
            <a:ext cx="6858000" cy="2666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219320" y="4495680"/>
            <a:ext cx="670536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70247" r="0" b="19352"/>
          <a:stretch/>
        </p:blipFill>
        <p:spPr>
          <a:xfrm>
            <a:off x="1143000" y="3809880"/>
            <a:ext cx="6858000" cy="609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1143000"/>
            <a:ext cx="6858000" cy="2666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58864" t="53556" r="24730" b="42002"/>
          <a:stretch/>
        </p:blipFill>
        <p:spPr>
          <a:xfrm>
            <a:off x="2971800" y="5105520"/>
            <a:ext cx="3200400" cy="76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219320" y="4343400"/>
            <a:ext cx="670536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79146" r="0" b="10539"/>
          <a:stretch/>
        </p:blipFill>
        <p:spPr>
          <a:xfrm>
            <a:off x="1143000" y="3809880"/>
            <a:ext cx="6858000" cy="533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1143000"/>
            <a:ext cx="6858000" cy="2666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629400" y="4038480"/>
            <a:ext cx="12193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219320" y="4267080"/>
            <a:ext cx="6705360" cy="495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876920" y="3657600"/>
            <a:ext cx="22096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1523880" y="1600200"/>
            <a:ext cx="59436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79146" r="0" b="10539"/>
          <a:stretch/>
        </p:blipFill>
        <p:spPr>
          <a:xfrm>
            <a:off x="1219320" y="297180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219320" y="304920"/>
            <a:ext cx="6858000" cy="2666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781680" y="3352680"/>
            <a:ext cx="12193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rcRect l="51004" t="47338" r="4001" b="23335"/>
          <a:stretch/>
        </p:blipFill>
        <p:spPr>
          <a:xfrm>
            <a:off x="1295280" y="3657600"/>
            <a:ext cx="670572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4495680" y="2819520"/>
            <a:ext cx="2590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97180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295280"/>
            <a:ext cx="617220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1600200" y="1676520"/>
            <a:ext cx="6095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447920"/>
            <a:ext cx="6172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365120"/>
            <a:ext cx="6095880" cy="42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752480" y="1219320"/>
            <a:ext cx="6172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219320"/>
            <a:ext cx="632448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219320"/>
            <a:ext cx="609588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30T19:01:19Z</dcterms:modified>
  <cp:revision>220</cp:revision>
  <dc:subject/>
  <dc:title>Slide 1</dc:title>
</cp:coreProperties>
</file>