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303-AF46-4F5D-AEC9-7173D688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32E-58EB-4EDC-92F3-B2A3A07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B0E-EE8C-4E1A-8C33-40F906AA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E22-8DE2-4BE7-BC83-C428DE27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FA7-CD4E-48C6-926F-8CE27D81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D0B-B204-4A98-A149-CD000303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086-AF95-45B4-98D1-BEFC3C2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EF6-5A4F-4C3C-9BFE-8CD966F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444-1B2E-4303-A0A2-5B4A82D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5CA-C6E7-4E5C-B28A-B892D562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CDD-696D-4497-A951-37E4C80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ADC-D056-4749-9D5E-8296D4E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40E-337B-465C-BD58-8511C2B19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7848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445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5105520"/>
            <a:ext cx="2895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LTERNATIVE TO MA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91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23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685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508120"/>
            <a:ext cx="7696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312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9625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6:08Z</dcterms:modified>
  <cp:revision>106</cp:revision>
  <dc:subject/>
  <dc:title>The Art in the State of the Art</dc:title>
</cp:coreProperties>
</file>