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D41-0118-42FE-B052-4F64CB42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38A-C0E7-48A3-9ABD-F8D723B4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639-F224-49EC-A859-45BA32F8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C6A-756F-49D1-BC10-A449F6A5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F43-C916-4219-8675-657F6BAD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5B4-72C4-49A5-B5EF-A567DAEA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1BA-27AA-49EF-B78C-9CD1B459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E96-3A65-4600-A5FD-B1C996B4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DD4-7191-487A-9522-69C7747F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124-96E7-428A-B1CC-EF813AF6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590-BEA9-4012-8D4A-D8AB4DA7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DD5-28B7-4455-AA35-CF73B424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3EF7-8BD7-4875-93C2-67E8C8D1D3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2520" y="2362320"/>
            <a:ext cx="462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val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05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4008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7924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934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782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9:46Z</dcterms:modified>
  <cp:revision>191</cp:revision>
  <dc:subject/>
  <dc:title>Slide 1</dc:title>
</cp:coreProperties>
</file>