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DB3-34E0-46AC-83F7-B31EC820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EA0-7D04-4F00-B077-3BB663ED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F6C-4C73-46E1-ABA4-64EA6D55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EB5-8C2B-4F48-B066-059D53E7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169-47D1-4CD3-BFAF-39639EA1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D35-8240-4F08-8960-43839E00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CA9-5B0C-4D75-8D4A-53D2B543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A99-39F1-4868-85AC-3AC21C27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C4E-DF18-4C82-8FE5-45CFDE3F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F09-CD1B-45C8-902B-172EB83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FC9-A21E-4397-872F-A6862A4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329-3D89-431D-B440-1941EF5C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575F-1AA7-4281-A90E-554D9CB21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20600" y="1981080"/>
            <a:ext cx="339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t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mp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56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8:30Z</dcterms:modified>
  <cp:revision>206</cp:revision>
  <dc:subject/>
  <dc:title>Slide 1</dc:title>
</cp:coreProperties>
</file>