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7FD-97BD-4FC9-8A52-DE4868F6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C8D-6EE0-4A80-B7BF-93665D62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124-22D2-4887-AF3A-CC6BE642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561-2390-4D97-A37D-4E3A7073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ACA-FC54-4190-B33B-AEB8616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4C4-F896-441C-9D64-CAD0676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3D2-948C-44DC-B37A-FC9BD126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6B4-EC9F-47F1-A790-53E48D9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7E6-E7E0-477A-BFE6-38F5B780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B3C-B4A6-47BC-9354-AFC20588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CC3-9C54-46DF-A19C-4306ACD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345-E3B3-4480-8134-6335D1B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58F-0FF6-4D50-AF5D-9896F5BC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754380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1T19:55:17Z</dcterms:modified>
  <cp:revision>44</cp:revision>
  <dc:subject/>
  <dc:title>PowerPoint Presentation</dc:title>
</cp:coreProperties>
</file>