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7AB-3B4A-4F52-93A0-CD1D8BC0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D03-3A70-409F-B731-D060B808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F93-B3F6-4A5E-BB66-5E82BBE6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5D5-3AA2-4DFD-ADB9-C5CD0FDA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8FF-4608-49B4-AF43-8440F820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1B5-9D2B-4EA8-A221-5C79FC56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F50-C42C-45D1-B3ED-2069F00F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661-E13E-4841-B1E3-827631B0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163-4191-42B8-B5BC-A57BDCFE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32B-890F-4C45-AFAB-0EC90F97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E0C-23DC-4FC1-8F4A-3124427C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AEA-01F1-44B1-8793-046A593B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4968-56F2-4C2B-A8CD-499D90E15F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4280" y="1447920"/>
            <a:ext cx="7590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arkinson’s Dis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 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utch Elderl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opulatio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91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4380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162920" cy="140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572000" cy="117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4572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441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723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86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9:00Z</dcterms:modified>
  <cp:revision>184</cp:revision>
  <dc:subject/>
  <dc:title>Slide 1</dc:title>
</cp:coreProperties>
</file>