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6D0-A780-4984-8C4F-CC6FC0E1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0E4-9100-438A-B6A9-E6A24BC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E1A-AD94-4B48-89F7-EC86573F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554-1F5F-417A-BBCF-EF1C888B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114-2584-4F5C-B68B-478B11CC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AB1-D8BF-4166-826F-4C2E546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C5A-25AE-4B7A-A4F7-64F1D658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554-B18F-4AB5-8A27-A57915A5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A6A-9901-4638-9471-68D68E4B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A73-AB77-496B-91FC-0552C87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45F-0EDF-404B-A3CB-673264F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52A-053F-4BF9-88A8-801C8E99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74B3-9344-40A4-AA27-B0F4F6E78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1676520"/>
            <a:ext cx="512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2970"/>
          <a:stretch/>
        </p:blipFill>
        <p:spPr>
          <a:xfrm>
            <a:off x="1143000" y="99072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1430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122868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8731"/>
          <a:stretch/>
        </p:blipFill>
        <p:spPr>
          <a:xfrm>
            <a:off x="990720" y="1905120"/>
            <a:ext cx="7238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14300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89080" y="990720"/>
            <a:ext cx="7086600" cy="475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51055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8:02:53Z</dcterms:modified>
  <cp:revision>219</cp:revision>
  <dc:subject/>
  <dc:title>Slide 1</dc:title>
</cp:coreProperties>
</file>