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8BE-26C0-4088-B9E9-396171BE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491-15C4-43A8-B7F6-5CCAD8BF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50B-1FD7-46D8-8BC4-41FD1C2B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F20-8471-4742-BD98-C0B79286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53B-A58E-43F5-9FA0-07C5CBD9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46C-65DA-4948-A81E-03CA0D7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85C-A71A-4EB1-ADEA-27BD82B5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159-691B-4C48-8768-58665AB7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B1C-925D-4681-9D3B-09E5FBA1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724-7DDB-4439-B02C-BABA3E7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723-0F4C-48B3-AFEC-DFDFD4E0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E4E-06E8-405F-B16F-7986C703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515-1175-468B-8F45-0A8C57415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The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4724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086600" cy="294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6934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58000" cy="3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3429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6448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4800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6858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99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858000" cy="28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4267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68706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93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05720" y="42670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29400" y="40384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7010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74674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20120" cy="135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716256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850520" y="4267080"/>
            <a:ext cx="561600" cy="459720"/>
          </a:xfrm>
          <a:prstGeom prst="rect">
            <a:avLst/>
          </a:prstGeom>
          <a:solidFill>
            <a:srgbClr val="d5f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153280" y="4724280"/>
            <a:ext cx="304920" cy="1752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4724280"/>
            <a:ext cx="457200" cy="304920"/>
          </a:xfrm>
          <a:prstGeom prst="rect">
            <a:avLst/>
          </a:prstGeom>
          <a:solidFill>
            <a:srgbClr val="e6f1ff"/>
          </a:solidFill>
          <a:ln w="9360">
            <a:solidFill>
              <a:srgbClr val="e6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1:43:28Z</dcterms:modified>
  <cp:revision>43</cp:revision>
  <dc:subject/>
  <dc:title>PowerPoint Presentation</dc:title>
</cp:coreProperties>
</file>