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89F-1BAB-4DFE-B8BC-C923026F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1F5-63E0-47D5-AA60-1421EC3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C78-0173-4C94-8F2D-8840740B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0C1-266C-4CD7-9602-31BA3802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002-2223-4714-AC44-00A4E1D0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8C1-7163-4AEF-8740-E05A6719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EAF-701B-406B-B061-F2F2FCE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1E9-1C38-4CD0-92D1-F2D60939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702-B7F1-4562-BCB9-09441B41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4B9-7C1D-410F-B251-7B2F05CE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A7F-D00C-4CFF-8FDA-741557BE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03B-5B52-4C20-AA67-A7F74C0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8B8A-9B0A-4DA6-AB32-C6349EA989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9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040" y="1523880"/>
            <a:ext cx="661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48640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1629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934320" y="5943600"/>
            <a:ext cx="16761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243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46784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816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467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467480" cy="266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5638680"/>
            <a:ext cx="1523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11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949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05720" y="3581280"/>
            <a:ext cx="1523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352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162920" cy="1447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2680" y="4648320"/>
            <a:ext cx="4876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* is the same in both formula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676520"/>
            <a:ext cx="42674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248520" cy="1882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8520" cy="83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55627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3733920"/>
            <a:ext cx="68580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581280"/>
            <a:ext cx="304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0" y="4876920"/>
            <a:ext cx="990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5790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3200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3:13Z</dcterms:modified>
  <cp:revision>212</cp:revision>
  <dc:subject/>
  <dc:title>Slide 1</dc:title>
</cp:coreProperties>
</file>