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2E6-0171-4C0D-835A-E84EE6DE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683-4549-4C7B-98D2-FA99F25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F6C-C1DD-455C-A55E-CA239C4E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332-3DFD-481A-8EC5-BA854551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75C-0B2C-43D5-ADF4-D611674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4C4-C5E6-4019-B9A8-E353962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50A-90A8-4F3F-B325-789A7029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65B-0B0A-42BB-B42D-3B920A8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DAC-CD94-4DDB-B1AB-D838EB8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615-E66B-4A0F-A348-DF1F589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62B-1149-497D-AAD3-B9467A3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228-2C09-4250-8CCC-2C5D00A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8BA5-AA3D-49F3-B958-5A5FD0CDC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1600200"/>
            <a:ext cx="708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6858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838080" y="685800"/>
            <a:ext cx="7696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309" r="0" b="28101"/>
          <a:stretch/>
        </p:blipFill>
        <p:spPr>
          <a:xfrm>
            <a:off x="914400" y="327672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70434" r="0" b="22543"/>
          <a:stretch/>
        </p:blipFill>
        <p:spPr>
          <a:xfrm>
            <a:off x="914400" y="32767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9144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53311" r="0" b="24496"/>
          <a:stretch/>
        </p:blipFill>
        <p:spPr>
          <a:xfrm>
            <a:off x="914400" y="365760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9357" r="0" b="35261"/>
          <a:stretch/>
        </p:blipFill>
        <p:spPr>
          <a:xfrm>
            <a:off x="914400" y="3429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6858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764" r="0" b="20866"/>
          <a:stretch/>
        </p:blipFill>
        <p:spPr>
          <a:xfrm>
            <a:off x="914400" y="32767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3249"/>
          <a:stretch/>
        </p:blipFill>
        <p:spPr>
          <a:xfrm>
            <a:off x="1066680" y="152388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95280" y="7621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858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6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05720" y="56386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21792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9463" r="0" b="75879"/>
          <a:stretch/>
        </p:blipFill>
        <p:spPr>
          <a:xfrm>
            <a:off x="914400" y="3429000"/>
            <a:ext cx="76201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5438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44374"/>
          <a:stretch/>
        </p:blipFill>
        <p:spPr>
          <a:xfrm>
            <a:off x="914400" y="5335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25260" r="0" b="61647"/>
          <a:stretch/>
        </p:blipFill>
        <p:spPr>
          <a:xfrm>
            <a:off x="838080" y="1447920"/>
            <a:ext cx="7467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9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39141" r="0" b="47252"/>
          <a:stretch/>
        </p:blipFill>
        <p:spPr>
          <a:xfrm>
            <a:off x="914400" y="1295280"/>
            <a:ext cx="746748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53236" r="0" b="37376"/>
          <a:stretch/>
        </p:blipFill>
        <p:spPr>
          <a:xfrm>
            <a:off x="457200" y="198108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518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62886" r="0" b="25360"/>
          <a:stretch/>
        </p:blipFill>
        <p:spPr>
          <a:xfrm>
            <a:off x="609480" y="144792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807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2506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879"/>
          <a:stretch/>
        </p:blipFill>
        <p:spPr>
          <a:xfrm>
            <a:off x="762120" y="990720"/>
            <a:ext cx="7467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2122" r="0" b="9213"/>
          <a:stretch/>
        </p:blipFill>
        <p:spPr>
          <a:xfrm>
            <a:off x="762120" y="18288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192"/>
          <a:stretch/>
        </p:blipFill>
        <p:spPr>
          <a:xfrm>
            <a:off x="6094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876920"/>
            <a:ext cx="12193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715"/>
          <a:stretch/>
        </p:blipFill>
        <p:spPr>
          <a:xfrm>
            <a:off x="533520" y="45720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20:23Z</dcterms:modified>
  <cp:revision>213</cp:revision>
  <dc:subject/>
  <dc:title>Slide 1</dc:title>
</cp:coreProperties>
</file>