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491-ADF3-4FF5-A09C-6A2FCB50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DE9-69D1-4052-B06D-43FDC721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D9C-340D-4118-BF7A-B30057F6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EFE-D237-44B7-AE7F-2F05935B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693-259E-41B3-A950-111A7F1F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807-511E-46F1-952B-06561073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277-99B5-4E5E-8550-ED66F6E6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47E-4485-4FF2-8FE9-6E2BAF5C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786-696E-4E2D-AEDC-61765703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436-B0FE-4B8F-95DE-EF97171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0C7-77C6-4E4F-97AF-9304533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5BA-768F-4878-8EBE-2329017A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57E7-CC14-4DA3-B66F-EAA9010388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581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 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Case 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238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5720" y="3733920"/>
            <a:ext cx="1523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238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41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81600" y="85248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erent choice of controls sugges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2276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9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91160" cy="2048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391160" cy="152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391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772400" cy="101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696080" cy="113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6960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05520" y="1905120"/>
            <a:ext cx="2590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2743200"/>
            <a:ext cx="167652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3352680"/>
            <a:ext cx="2286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69608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86600" y="6172200"/>
            <a:ext cx="13716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40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162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312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29400" y="571500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8:06Z</dcterms:modified>
  <cp:revision>213</cp:revision>
  <dc:subject/>
  <dc:title>Slide 1</dc:title>
</cp:coreProperties>
</file>