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3D9-D642-459D-A8DE-5ACCD227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387-012B-40C2-9BED-AE4848F6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F41-63DD-4799-9050-AA7752C8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717-D86D-4E63-BB1E-528EF12A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349-764F-43EE-8BEF-E5B36B46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C68-589F-459A-A320-451C5E5A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322-259E-4BFE-80BF-1EC17942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196-E6A0-4DA8-9A70-5A36A735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590-73C3-4152-9FEA-0D3F8C0D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314-7387-446A-AB8D-F3E8CE2D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2A7-2335-4F37-83A0-696904E5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7E1-01C2-4E69-B722-C9A15EC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D66-A55D-4C5B-A755-15B07B172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WHAT IS EPIDEMIOLOGY 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1200" y="1736640"/>
            <a:ext cx="797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s the study of health and ill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human or other (e.g., veterinar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pul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22960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6720" y="685800"/>
            <a:ext cx="85446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Initially,  study and control of epi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Now,  much broader in scop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cute and infectious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quality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ental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ccupational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io-terror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7360" y="838080"/>
            <a:ext cx="833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this cours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we  consider real-world health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llness problem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we show how epidemiologic concep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and methods allow us to study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understand, and solve such proble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8T17:17:59Z</dcterms:modified>
  <cp:revision>96</cp:revision>
  <dc:subject/>
  <dc:title>The Art in the State of the Art</dc:title>
</cp:coreProperties>
</file>