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8FE-664A-46E5-B580-09C9370A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443-6BAD-4BA5-BA08-B8A313D9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3CC-665C-4773-9546-BB6D6DFF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A9B-142C-4D31-A9CA-D20F1507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EDC-6FEA-46CF-B818-D6F06613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C75-C2D1-4645-BABA-CF76666B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9F8-6BF2-4DDC-93B3-581BD9D3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608-8541-4D28-8ED8-5B06846F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DC9-6ED3-44A7-B2AF-EF03A5C9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C93-0CDC-4C9B-A999-F400932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6F6-E79C-44B3-BFC1-DFDCE0CE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F3A-5D9E-4758-AFD3-68B2B1D6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BB73-AF9C-4FCC-8E7C-55D4670DF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219320"/>
            <a:ext cx="5667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fo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7696440" cy="300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96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49240" y="57294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Times New Roman"/>
              </a:rPr>
              <a:t>q = .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324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66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47920" y="4876920"/>
            <a:ext cx="6705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332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7620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7619760" cy="381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2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8487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8001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315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62485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3152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6095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848720" cy="32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772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04:14:13Z</dcterms:modified>
  <cp:revision>216</cp:revision>
  <dc:subject/>
  <dc:title>Slide 1</dc:title>
</cp:coreProperties>
</file>