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7E1-AACE-4FA3-827C-46257B96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9AE-42BA-4C65-98D4-C6706B5F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6997-4DDC-4D59-8881-439E4E39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6FC-AFEC-4599-B5F2-2C6A6E99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CBF-37B9-4DE8-B8AC-78BF018E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319-06F4-4175-AEDB-9A03E978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0BB-4D81-438B-A620-6B6ACA6D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EB7-4091-40AB-A659-CE9104E2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5A5-11C4-436B-BC77-F1980D6F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BA2-CB69-462D-8B44-954E3B5A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0D0-B1E6-4148-98FB-428447B2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27DE-07AA-47A0-B9E4-5ABD059B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A93B-D1E9-4090-8CB2-73686CD1CC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9720" y="1981080"/>
            <a:ext cx="390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ffer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38280" y="3809880"/>
            <a:ext cx="4114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391160" cy="213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39116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90720" y="5334120"/>
            <a:ext cx="7391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7391160" cy="2590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209680" y="5791320"/>
            <a:ext cx="4737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55344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467840" cy="1752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1676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086600" cy="1019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708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55308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7010280" cy="99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219320" y="3124080"/>
            <a:ext cx="6933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15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91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505320"/>
            <a:ext cx="739152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39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6:16Z</dcterms:modified>
  <cp:revision>206</cp:revision>
  <dc:subject/>
  <dc:title>Slide 1</dc:title>
</cp:coreProperties>
</file>