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6BE-6BED-43D6-BA29-386ACB41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3C0-1C34-4C18-8A1E-0789EB7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249-7E28-479C-B920-C3421245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87D-660B-4453-B93D-B2FF94CB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AA0-F64E-4A0A-B153-34513116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642-CD9B-46F3-959F-B7A8FC05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056-8257-49D4-8020-6AEDE313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BBC-AD0B-4452-A549-F5F5411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A4B-A0B1-4955-BF0D-E921BE5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141-B63B-4B4F-B090-981EAAB6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81D-7CE0-484C-9C72-09D02D7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F94-4385-4274-A1E4-2F0904B0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94E2-50FC-4E91-A540-B6A348A5E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800" y="1447920"/>
            <a:ext cx="449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5867280"/>
            <a:ext cx="1219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6095880"/>
            <a:ext cx="4876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16Z</dcterms:modified>
  <cp:revision>210</cp:revision>
  <dc:subject/>
  <dc:title>Slide 1</dc:title>
</cp:coreProperties>
</file>