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F28-CE20-44DC-93E0-D73111FE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3AC-C991-40E7-BCD8-276D6D56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6D1-D690-427E-8118-68CEC1E8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6A4-C31E-43C6-A41B-C70A2D5A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C75-05BC-478C-8400-F2CF4090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F27-82F7-4B0F-B9D3-BA588AF5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167-B8C7-4FCD-9375-2887EBE7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82E-512C-4FCC-AD38-108C578B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268-ACBE-425B-837F-05298DF1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012-9479-4040-AE15-8959CA58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CAD-4698-45CD-93FB-60440DB9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877-60C3-42F2-9EAB-7878B530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F6A6-48AC-4995-936B-862220E7C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 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 EPI Issu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84872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70866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16256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7315200" cy="59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670536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143000" y="4343400"/>
            <a:ext cx="6553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4495680" cy="482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7239240" cy="76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1295280"/>
            <a:ext cx="541044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371600" y="388620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23924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5615280" cy="480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39152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371600" y="10666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43000" y="2590920"/>
            <a:ext cx="67057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1271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7467840" cy="1551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5800" y="4724280"/>
            <a:ext cx="8001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0720" y="1219320"/>
            <a:ext cx="739116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85800" y="426708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6:17Z</dcterms:modified>
  <cp:revision>102</cp:revision>
  <dc:subject/>
  <dc:title>The Art in the State of the Art</dc:title>
</cp:coreProperties>
</file>