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382-B6CB-424F-A12B-7CDF611F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C7D-EE99-438F-9184-C66AC57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1DE-FEFA-43DC-A5C5-30F42465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8F4-90C1-45FF-B4A8-6F205D26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468-6EA6-4F94-AB6C-1F1D8FBF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F39-31D7-4372-B7BF-7F548010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F07-2FF5-4B2C-885C-BC5B4D12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858-50E1-4A91-9893-FCD142DF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284-A1C4-4F6C-9C81-1358CD4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7F2-DA7B-4204-A80B-A5B6545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55C-F5AE-432F-9CF1-2144B0F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D5F-43FA-4417-9639-D833D50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C828-C035-4E14-B9D7-E2FBA7E48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4254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0" y="39625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9608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971800" y="4038480"/>
            <a:ext cx="25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4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696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960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1680" y="44197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1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696440" cy="1067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34320" y="33526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620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04812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7816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781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10080" y="2971800"/>
            <a:ext cx="1752840" cy="914400"/>
          </a:xfrm>
          <a:prstGeom prst="rect">
            <a:avLst/>
          </a:prstGeom>
          <a:solidFill>
            <a:srgbClr val="fff7ca"/>
          </a:solidFill>
          <a:ln w="9360">
            <a:solidFill>
              <a:srgbClr val="ffe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281952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37160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91320" y="838080"/>
            <a:ext cx="2361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7162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1629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54Z</dcterms:modified>
  <cp:revision>41</cp:revision>
  <dc:subject/>
  <dc:title>PowerPoint Presentation</dc:title>
</cp:coreProperties>
</file>