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77E-2241-408D-89E9-EEDA793F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23B-C793-4F75-AA0A-473BEFD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3B8-5E59-47FF-83B2-BD456607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E31-BB43-49AF-8F6C-6EEE607F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BDA-5035-4D05-ACA5-20679CF6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4E1-FD04-4C5A-B7B4-83DCF9ED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C03-E4C5-4628-A21D-0EE6499E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207-6357-4259-A1BA-28D988F3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7BC-B514-4628-9F70-9DA2BE57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389-D55B-4188-A181-AEE258B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DB9-6ADE-43A7-B039-6A107DF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81D-D7F1-499B-9C5A-77E884E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5190-5A36-4C14-873E-EC82A4FD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IR-MATCHED 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4674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46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705360" cy="193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162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44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3962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77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e Analysis of McNemar’s Table Involves Only the Discordant Pairs  </a:t>
            </a: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X and 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391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3:37:08Z</dcterms:modified>
  <cp:revision>82</cp:revision>
  <dc:subject/>
  <dc:title>The Art in the State of the Art</dc:title>
</cp:coreProperties>
</file>