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6D8-6AD0-4F90-95A4-97EE92E3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434F-2009-45DC-804C-8A525D10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DE66-EDD3-4B86-A216-DC23A8F4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9FF5-77A7-4502-BDCA-55E820F4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C0DD-9373-4F07-BD36-D6C9BA21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6CD9-0354-4AA9-99F2-37228CA7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97B-E3DD-4821-B9A9-A8723329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7EA9-5990-45C2-9318-BEA49F38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AE5C-8B00-4191-B12F-073B9A3D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A6C9-9A3B-48AE-8837-01F6A32A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2C01-9AD5-4067-BEF7-BAC83DEF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0FD-5BA0-4858-91F6-B75DC78D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435C-3DA5-4179-AFCE-C28F5D2BD9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7240" y="1523880"/>
            <a:ext cx="7713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ecision- bas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djusted Odds 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(aOR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22957"/>
          <a:stretch/>
        </p:blipFill>
        <p:spPr>
          <a:xfrm>
            <a:off x="990720" y="990720"/>
            <a:ext cx="7391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7998"/>
          <a:stretch/>
        </p:blipFill>
        <p:spPr>
          <a:xfrm>
            <a:off x="990720" y="533520"/>
            <a:ext cx="76197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8699"/>
          <a:stretch/>
        </p:blipFill>
        <p:spPr>
          <a:xfrm>
            <a:off x="838080" y="8380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28214"/>
          <a:stretch/>
        </p:blipFill>
        <p:spPr>
          <a:xfrm>
            <a:off x="914400" y="6094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20003"/>
          <a:stretch/>
        </p:blipFill>
        <p:spPr>
          <a:xfrm>
            <a:off x="1371600" y="762120"/>
            <a:ext cx="6934320" cy="4876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784760" y="24764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00"/>
                </a:solidFill>
                <a:latin typeface="Times New Roman"/>
              </a:rPr>
              <a:t>Precision-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9087"/>
          <a:stretch/>
        </p:blipFill>
        <p:spPr>
          <a:xfrm>
            <a:off x="838080" y="609480"/>
            <a:ext cx="74678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965"/>
          <a:stretch/>
        </p:blipFill>
        <p:spPr>
          <a:xfrm>
            <a:off x="762120" y="76212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0978"/>
          <a:stretch/>
        </p:blipFill>
        <p:spPr>
          <a:xfrm>
            <a:off x="838080" y="6094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914400" y="533520"/>
            <a:ext cx="7391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17149"/>
          <a:stretch/>
        </p:blipFill>
        <p:spPr>
          <a:xfrm>
            <a:off x="838080" y="533520"/>
            <a:ext cx="7543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30442"/>
          <a:stretch/>
        </p:blipFill>
        <p:spPr>
          <a:xfrm>
            <a:off x="838080" y="1219320"/>
            <a:ext cx="79250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1169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18:47:07Z</dcterms:modified>
  <cp:revision>218</cp:revision>
  <dc:subject/>
  <dc:title>Slide 1</dc:title>
</cp:coreProperties>
</file>