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2234-4FBE-4387-909E-429BC7515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451A-B134-407D-8FEA-E2130AF3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1E15-5067-45A1-914B-8E8D28C83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2203-EA3A-4452-8806-F24A04430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72DA-E042-4146-AB5C-CC708EDF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7205-9CAF-461F-8008-2D83E0E1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A64D-0597-44AA-B105-402915A7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5F9E-208E-4217-A1D6-C3043619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3DFA-D062-4182-BB5E-A0B16B6D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3981-BA30-486F-9034-FE0A190B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F3C1-7C6E-425E-A9F4-DEDB05C8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072C-98D2-491B-8C49-B1EAE6BA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4D69-9164-4D9A-873F-CF932C7C2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Hypothesis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Testing -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838080" y="838080"/>
            <a:ext cx="7467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20866"/>
          <a:stretch/>
        </p:blipFill>
        <p:spPr>
          <a:xfrm>
            <a:off x="838080" y="838080"/>
            <a:ext cx="76201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990720" y="838080"/>
            <a:ext cx="7086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838080" y="762120"/>
            <a:ext cx="73915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990720" y="990720"/>
            <a:ext cx="7315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066680" y="838080"/>
            <a:ext cx="7315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9325"/>
          <a:stretch/>
        </p:blipFill>
        <p:spPr>
          <a:xfrm>
            <a:off x="990720" y="685800"/>
            <a:ext cx="71625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34109"/>
          <a:stretch/>
        </p:blipFill>
        <p:spPr>
          <a:xfrm>
            <a:off x="990720" y="1066680"/>
            <a:ext cx="7238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609480" y="762120"/>
            <a:ext cx="78487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31456"/>
          <a:stretch/>
        </p:blipFill>
        <p:spPr>
          <a:xfrm>
            <a:off x="990720" y="3200400"/>
            <a:ext cx="7391160" cy="3276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rcRect l="0" t="0" r="0" b="7610"/>
          <a:stretch/>
        </p:blipFill>
        <p:spPr>
          <a:xfrm>
            <a:off x="990720" y="380880"/>
            <a:ext cx="7391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914400" y="838080"/>
            <a:ext cx="73915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0" b="50006"/>
          <a:stretch/>
        </p:blipFill>
        <p:spPr>
          <a:xfrm>
            <a:off x="990720" y="838080"/>
            <a:ext cx="7162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914400" y="68580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066680" y="762120"/>
            <a:ext cx="716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14400" y="838080"/>
            <a:ext cx="73915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990720" y="838080"/>
            <a:ext cx="72388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31456"/>
          <a:stretch/>
        </p:blipFill>
        <p:spPr>
          <a:xfrm>
            <a:off x="838080" y="762120"/>
            <a:ext cx="73915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7573"/>
          <a:stretch/>
        </p:blipFill>
        <p:spPr>
          <a:xfrm>
            <a:off x="990720" y="609480"/>
            <a:ext cx="71625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7047"/>
          <a:stretch/>
        </p:blipFill>
        <p:spPr>
          <a:xfrm>
            <a:off x="685800" y="457200"/>
            <a:ext cx="7696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44711"/>
          <a:stretch/>
        </p:blipFill>
        <p:spPr>
          <a:xfrm>
            <a:off x="1066680" y="838080"/>
            <a:ext cx="70106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48579" r="0" b="11428"/>
          <a:stretch/>
        </p:blipFill>
        <p:spPr>
          <a:xfrm>
            <a:off x="990720" y="2743200"/>
            <a:ext cx="7238880" cy="3276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rcRect l="0" t="0" r="0" b="44711"/>
          <a:stretch/>
        </p:blipFill>
        <p:spPr>
          <a:xfrm>
            <a:off x="990720" y="533520"/>
            <a:ext cx="7238880" cy="2286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553080" y="5715000"/>
            <a:ext cx="16002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48579" r="0" b="11428"/>
          <a:stretch/>
        </p:blipFill>
        <p:spPr>
          <a:xfrm>
            <a:off x="990720" y="2133720"/>
            <a:ext cx="7238880" cy="2079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0" t="0" r="0" b="44711"/>
          <a:stretch/>
        </p:blipFill>
        <p:spPr>
          <a:xfrm>
            <a:off x="990720" y="533520"/>
            <a:ext cx="7238880" cy="1600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553080" y="3962520"/>
            <a:ext cx="16002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066680" y="4495680"/>
            <a:ext cx="7162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31456"/>
          <a:stretch/>
        </p:blipFill>
        <p:spPr>
          <a:xfrm>
            <a:off x="685800" y="838080"/>
            <a:ext cx="7543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0-31T16:00:53Z</dcterms:modified>
  <cp:revision>44</cp:revision>
  <dc:subject/>
  <dc:title>PowerPoint Presentation</dc:title>
</cp:coreProperties>
</file>