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8.png" ContentType="image/png"/>
  <Override PartName="/ppt/media/image27.png" ContentType="image/png"/>
  <Override PartName="/ppt/media/image26.png" ContentType="image/png"/>
  <Override PartName="/ppt/media/image5.wmf" ContentType="image/x-wmf"/>
  <Override PartName="/ppt/media/image10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4.wmf" ContentType="image/x-wmf"/>
  <Override PartName="/ppt/media/image3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577-507C-4B80-8FAC-68B97489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088-4146-4E23-8585-0E235269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AA6F-C20E-452C-B188-CA2B2F02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BA4-EF86-49A7-A282-29AED8FB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95A9-841E-42A2-92A4-77E73A1D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DC99-DA3E-4D3C-BF01-A5061A59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635-060F-41AD-B8D8-10EA6A4A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45B-C680-475A-AFB0-A08D02FA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8FB-470C-4768-8DA4-2CC4F5CE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3BA6-5EB5-4E03-AD05-DF3C630F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AC5-21F6-47A4-BC89-0F5FA65F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4B2-5672-4144-9E14-695341C2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F4E6-8070-4F36-A134-33E0F64445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0574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easures of </a:t>
            </a:r>
            <a:br>
              <a:rPr sz="6000"/>
            </a:b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sease Frequency</a:t>
            </a:r>
            <a:br>
              <a:rPr sz="6000"/>
            </a:b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(part 1)</a:t>
            </a:r>
            <a:br>
              <a:rPr sz="6000"/>
            </a:b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55308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172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400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162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4648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use Gues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Hypothetical data on the frequency of hepatitis in two citi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Location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New cases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Year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A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58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00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B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35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2001-200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7010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Location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New cases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Year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A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58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00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B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35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2001-200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nnual rate of occurrence of hepatit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A:  58 / 25,000 / 1 year =  232/10</a:t>
            </a:r>
            <a:r>
              <a:rPr b="1" lang="en-US" sz="2800" spc="-1" strike="noStrike" baseline="34000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/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B:  35 / 7000 / 2 years = 17.5 / 7000 / 1 ye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= 250/10</a:t>
            </a:r>
            <a:r>
              <a:rPr b="1" lang="en-US" sz="2800" spc="-1" strike="noStrike" baseline="34000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Hypothetical data on the frequency of hepatitis in two citi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502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66680" y="5638680"/>
            <a:ext cx="472464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tios, Proportions, Ra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ree general classes of mathematical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•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ften used to relate the number of cases of a disease or health outcome to the size of the source population in which they occur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ti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btained by dividing one quantity by another.  These quantities may be related or may be totally indepen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sually expressed 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umber of stillbirths per thousand live birth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eneral term that includes Rates and Propor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43200" y="4343400"/>
            <a:ext cx="25146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267080" y="2438280"/>
            <a:ext cx="1143000" cy="10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opor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ratio in which the numerator is included in the denomina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ressed as: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ere, 10</a:t>
            </a:r>
            <a:r>
              <a:rPr b="1" lang="en-US" sz="2400" spc="-1" strike="noStrike" baseline="30000">
                <a:solidFill>
                  <a:srgbClr val="000099"/>
                </a:solidFill>
                <a:latin typeface="Arial"/>
              </a:rPr>
              <a:t>n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s often 1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 The number of fetal deaths out of the total number of bir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 often read as a perc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4038480" cy="95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219320" cy="1087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419112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Rat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measure of how quickly something of interest happen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ressed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 The number of new cases of Parkinson’s disease which develops per 1,000 person-years of follow-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ime, place and population must be specified for each type of 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6248160" cy="874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352680" y="2286000"/>
            <a:ext cx="114300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asures of Disease Frequenc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e701"/>
                </a:solidFill>
                <a:uFillTx/>
                <a:latin typeface="Arial"/>
              </a:rPr>
              <a:t>Incidence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 (I):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Measures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e701"/>
                </a:solidFill>
                <a:uFillTx/>
                <a:latin typeface="Arial"/>
              </a:rPr>
              <a:t>new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 cases of a disease that develop over a period of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38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38ca"/>
                </a:solidFill>
                <a:uFillTx/>
                <a:latin typeface="Arial"/>
              </a:rPr>
              <a:t>Prevalence</a:t>
            </a:r>
            <a:r>
              <a:rPr b="1" lang="en-US" sz="2800" spc="-1" strike="noStrike">
                <a:solidFill>
                  <a:srgbClr val="a538ca"/>
                </a:solidFill>
                <a:latin typeface="Arial"/>
              </a:rPr>
              <a:t> (P):  Measures </a:t>
            </a:r>
            <a:r>
              <a:rPr b="1" lang="en-US" sz="2800" spc="-1" strike="noStrike" u="sng">
                <a:solidFill>
                  <a:srgbClr val="a538ca"/>
                </a:solidFill>
                <a:uFillTx/>
                <a:latin typeface="Arial"/>
              </a:rPr>
              <a:t>existing</a:t>
            </a:r>
            <a:r>
              <a:rPr b="1" lang="en-US" sz="2800" spc="-1" strike="noStrike">
                <a:solidFill>
                  <a:srgbClr val="a538ca"/>
                </a:solidFill>
                <a:latin typeface="Arial"/>
              </a:rPr>
              <a:t> cases of a disease at a particular point in time or over a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evalence vs.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14111" t="15269" r="7598" b="31662"/>
          <a:stretch/>
        </p:blipFill>
        <p:spPr>
          <a:xfrm>
            <a:off x="2438280" y="1066680"/>
            <a:ext cx="4496040" cy="23623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1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•</a:t>
            </a:r>
            <a:r>
              <a:rPr b="1" lang="en-US" sz="2300" spc="-1" strike="noStrike">
                <a:solidFill>
                  <a:srgbClr val="00b000"/>
                </a:solidFill>
                <a:latin typeface="Arial"/>
              </a:rPr>
              <a:t> </a:t>
            </a:r>
            <a:r>
              <a:rPr b="1" lang="en-US" sz="2300" spc="-1" strike="noStrike" u="sng">
                <a:solidFill>
                  <a:srgbClr val="a538ca"/>
                </a:solidFill>
                <a:uFillTx/>
                <a:latin typeface="Arial"/>
              </a:rPr>
              <a:t>Prevalence</a:t>
            </a:r>
            <a:r>
              <a:rPr b="1" lang="en-US" sz="2300" spc="-1" strike="noStrike">
                <a:solidFill>
                  <a:srgbClr val="a538ca"/>
                </a:solidFill>
                <a:latin typeface="Arial"/>
              </a:rPr>
              <a:t> can be viewed as describing a pool of disease in a populat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701"/>
                </a:solidFill>
                <a:latin typeface="Arial"/>
              </a:rPr>
              <a:t>•  </a:t>
            </a:r>
            <a:r>
              <a:rPr b="1" lang="en-US" sz="2300" spc="-1" strike="noStrike" u="sng">
                <a:solidFill>
                  <a:srgbClr val="ffe701"/>
                </a:solidFill>
                <a:uFillTx/>
                <a:latin typeface="Arial"/>
              </a:rPr>
              <a:t>Incidence</a:t>
            </a:r>
            <a:r>
              <a:rPr b="1" lang="en-US" sz="2300" spc="-1" strike="noStrike">
                <a:solidFill>
                  <a:srgbClr val="ffe701"/>
                </a:solidFill>
                <a:latin typeface="Arial"/>
              </a:rPr>
              <a:t> describes the input flow of new cases into the pool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atality and recovery reflects the output flow from the pool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2T17:26:32Z</dcterms:modified>
  <cp:revision>168</cp:revision>
  <dc:subject/>
  <dc:title/>
</cp:coreProperties>
</file>