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382-C172-4028-8A74-48104BEF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108-3115-41F3-B72A-24F44DBF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898-0B6F-4654-BD77-06A8CF39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2EF-E5E1-4D09-B16B-BB47E2D9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DF9-8D21-4D72-B740-740F1D21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918-4368-463E-9493-C77EEBBC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DD1-8AF4-4A70-BA35-3DDDE6E6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4C7-35E1-45DD-AA67-B98BBBF6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246-8C9A-4F1E-B3A7-F05486D2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9C9-3268-45F8-9A2E-CB9A9536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32C-BA37-4E3C-BCE1-AF7EC620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03F-9150-4864-B5E2-C5A31D34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C740-DDE0-4639-8987-C0C06DD79E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69236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ates, Ratios and Proportions</a:t>
            </a:r>
            <a:br>
              <a:rPr sz="40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nd Measures of Disease Frequenc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cy D. Barker, M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easures of Disease Frequenc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</a:rPr>
              <a:t>Incidence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(I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Measures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ses of a disease that develop over a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00"/>
                </a:solidFill>
                <a:uFillTx/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 (P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Measures </a:t>
            </a:r>
            <a:r>
              <a:rPr b="0" lang="en-US" sz="2800" spc="-1" strike="noStrike" u="sng">
                <a:solidFill>
                  <a:srgbClr val="669900"/>
                </a:solidFill>
                <a:uFillTx/>
                <a:latin typeface="Arial"/>
              </a:rPr>
              <a:t>exis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ses of a disease at a particular point in time or over a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valence vs.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14111" t="15269" r="7598" b="31662"/>
          <a:stretch/>
        </p:blipFill>
        <p:spPr>
          <a:xfrm>
            <a:off x="2362320" y="1295280"/>
            <a:ext cx="4495680" cy="2362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n be viewed as describing a pool of disease in a pop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Inc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scribes the input flow of new cases into the p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tality and recovery reflects the output flow from the p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= # of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ew c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uring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= # of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sease-free subjec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start of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frequency of addition of new cases of  disease and is always calculated for a given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76720" y="1219320"/>
                <a:ext cx="251460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5189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859360" y="394128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14758" r="0" b="0"/>
          <a:stretch/>
        </p:blipFill>
        <p:spPr>
          <a:xfrm>
            <a:off x="1981080" y="1295280"/>
            <a:ext cx="5029200" cy="3364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81080" y="4648320"/>
            <a:ext cx="50292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way to estimate ri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a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s a fixed co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brief specified periods of time, e.g. an outbreak, commonly called an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ttack “R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ware of at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 does not reflect continually changing population size for dynamic coh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allow subjects to be followed for different time peri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existing cases of a health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feature of a cross-sectiona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ypes of Preva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oint preva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eriod preva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oint Preval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= # of observed cases at time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= Population size at time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frequency of disease at a given point in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00400" y="1295280"/>
                <a:ext cx="22860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oint Prevalenc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there are 150 individuals in a population and, on a certain day, 15 are ill with the flu.  What is the estimated prevalence for this popul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14600" y="4267080"/>
                <a:ext cx="335268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riod Preval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the # of prevalent cases at the beginning of the time peri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= the # of incident cases that develop during th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= size of the population for this same ti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666880" y="1600200"/>
                <a:ext cx="358164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seful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ing the health status of a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 health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t Useful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es, Ratios, Propor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general classes of mathematical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used to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number of c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 disease or health outcome to the </a:t>
            </a: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size of the source popul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which they occur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we followed a population of 150 persons for one year, and 25 had a disease of interest at the start of follow-up and another 15 new cases developed during the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eriod 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ye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   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oint 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the start of the peri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   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mulative inc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one year peri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we followed a population of 150 persons for one year, and 25 had a disease of interest at the start of follow-up and another 15 new cases developed during the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eriod 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ye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 = (25 + 15) / 150 = 0.27 or 2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 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oint 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the start of the peri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25/150 = 0.17 = 1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 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mulative inc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one year peri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 = 15/125 = 0.12 = 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isk (proportion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≤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I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≤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% ≤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percent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≤ 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y risk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10-year risk that a 45-year-old male will develop prostate cancer is 5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s how rapidly health events are occurring in a population of inter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pidemiologic studies, we typically measure the average rate at which a disease is occurring over a period of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new cases per 10,000 person-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Interpretatio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verage of 50 cases occurs for every 10,000 years of disease free follow-up time observed on a cohort of su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f these describes a r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new cases per 100 person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 miles per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new cases out of 100 disease-free pe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 new murders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 deaths out of 200 lung cancer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cidence 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= # of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ew c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uring follow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 =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otal 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disease–free individuals in the cohort are observed over the study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Synonym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zard rate, incidence density 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the rapidity with which new cases are occurring in a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124080" y="1219320"/>
                <a:ext cx="281952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xample</a:t>
            </a:r>
            <a:br>
              <a:rPr sz="36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ypothetical cohort of 12 initially disease-free subjects followed over a 5-year period from 1990 to 1995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, cont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value of 0.20 a propor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value of 0.20 represent the risk of developing disea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1295280"/>
                <a:ext cx="6096240" cy="22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R</m:t>
                            </m:r>
                          </m:e>
                          <m:lim/>
                        </m:limUpp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20 new cases per 100 person-yea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kinson’s Disea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572000" cy="2724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09680" y="4267080"/>
            <a:ext cx="4572000" cy="885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209680" y="5105520"/>
            <a:ext cx="457200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using Risk with 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rm “Rate” is often been used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ncorrect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describe a measure of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.g.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ttack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ea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se-Fatality 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reading Epidemiologic literature, one should be careful to determine the actual measure being re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hetical data on the frequency of Hepatitis in two citi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cati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w case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Yea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6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3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isk (proportion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Proba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an individual with certain characteristics 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moking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experience a health status change over a specified follow-up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</a:rPr>
              <a:t>Assumes: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Does not have disease at start of follow-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Does not die from other cause during follow-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udy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point prevalence a propor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13 people from a population of size 406,245 had a particular disease at time t.  What is the point prevalence of this disease at time 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of the following expressions is equivalent to the point prevalence estimate of 0.000032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2 per 1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2 per 1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2 per 1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tality Ris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-Specific Mortality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-causes Mortality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Fatality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00400" y="3581280"/>
                <a:ext cx="266688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tality 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-Specific Mortality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-causes Mortality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Fatality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0400" y="3657600"/>
                <a:ext cx="251460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pi CD-ROM; Kleinba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pi Companion Textbook; Kleinbaum, Sullivan, Bar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ology in Medicine, Hennek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hetical data on the frequency of Hepatitis in two citi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cati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w case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Yea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6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3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nual occurrence of Hepatit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A:  62 / 25,000  =  2.5 per 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B:  35 / 7,000 = 5.0 per 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i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ained by dividing one quantity by another.  These quantities may be related or may be totally indepen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expressed as: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Number of stillbirths per thousand live bir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term that includes Rates and Propor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743200" y="4343400"/>
                <a:ext cx="2514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stillbirth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# live births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267080" y="2438280"/>
                <a:ext cx="11430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i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A foodborne epidemic occurred in an elementary school.  The attack rate in the first grade was 24% while the attack rate in the second grade was 16%.  Compare these two attack r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Ratio or Relative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797280" y="3913200"/>
                <a:ext cx="1476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%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atio in which the numerator is included in the denomina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ed a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,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often 1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number of fetal deaths out of the total number of bir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 often read as a perc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0" y="4648320"/>
                <a:ext cx="4038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fetal death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births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429000" y="2133720"/>
                <a:ext cx="12193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666880" y="4114800"/>
                <a:ext cx="41911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fetal death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ive births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fetal deaths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500 people attended a company picnic and 50 became ill with acute enteric disease.  Calculate the proportion of ill pers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0" y="4648320"/>
                <a:ext cx="4038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fetal death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births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362400" y="3581280"/>
                <a:ext cx="2646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a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asure of how quickly something of interest happen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ed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number of new cases of Parkinson’s disease which develops per 1,000 person-years of follow-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, place and population must be specified for each type of 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676520" y="4343400"/>
                <a:ext cx="62481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new cases of Parkinson's disea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time disease-free subjects observ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352680" y="2286000"/>
                <a:ext cx="1143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Nancy Barker</dc:creator>
  <dc:description/>
  <dc:language>en-US</dc:language>
  <cp:lastModifiedBy>Nancy Barker</cp:lastModifiedBy>
  <dcterms:modified xsi:type="dcterms:W3CDTF">2004-09-22T15:48:14Z</dcterms:modified>
  <cp:revision>172</cp:revision>
  <dc:subject/>
  <dc:title>Slide 1</dc:title>
</cp:coreProperties>
</file>