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C792-3662-4F55-8517-8288D940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0549-C854-4B2A-855F-CB6CE476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CAA-E0ED-4A91-A282-3E71A79A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E671-06DC-4413-895E-3AAA2663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987A-68CB-4061-B713-5A79A6A1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0A28-1F1B-49E9-A4BB-4A5D8C39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F770-D234-468A-BDFE-998918FC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5A1A-1960-4216-9760-46C0FDCD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8339-DAC8-4CEE-8162-B1F258FE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032B-0401-4CCC-9E61-05A8AE91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4479-6E81-4292-A59F-088F12C3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CA9B-8458-42DC-BD6F-B02C7DB8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3CBC-5062-412C-BEC6-EEEFDE1C07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4640" y="2286000"/>
            <a:ext cx="584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he Concept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f Confound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8336"/>
          <a:stretch/>
        </p:blipFill>
        <p:spPr>
          <a:xfrm>
            <a:off x="1219320" y="1066680"/>
            <a:ext cx="67816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6697" r="0" b="64689"/>
          <a:stretch/>
        </p:blipFill>
        <p:spPr>
          <a:xfrm>
            <a:off x="685800" y="4343400"/>
            <a:ext cx="7620120" cy="1630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0" t="43072" r="0" b="8336"/>
          <a:stretch/>
        </p:blipFill>
        <p:spPr>
          <a:xfrm>
            <a:off x="685800" y="1371600"/>
            <a:ext cx="762012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12505" r="0" b="72963"/>
          <a:stretch/>
        </p:blipFill>
        <p:spPr>
          <a:xfrm>
            <a:off x="1143000" y="2819520"/>
            <a:ext cx="6934320" cy="761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43072" r="0" b="13193"/>
          <a:stretch/>
        </p:blipFill>
        <p:spPr>
          <a:xfrm>
            <a:off x="1143000" y="609480"/>
            <a:ext cx="6934320" cy="2229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47003" t="56669" r="14002" b="22000"/>
          <a:stretch/>
        </p:blipFill>
        <p:spPr>
          <a:xfrm>
            <a:off x="1143000" y="3581280"/>
            <a:ext cx="693432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1940" r="0" b="70872"/>
          <a:stretch/>
        </p:blipFill>
        <p:spPr>
          <a:xfrm>
            <a:off x="914400" y="3886200"/>
            <a:ext cx="739152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1616" t="2654" r="0" b="68219"/>
          <a:stretch/>
        </p:blipFill>
        <p:spPr>
          <a:xfrm>
            <a:off x="990720" y="4952880"/>
            <a:ext cx="731520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rcRect l="0" t="0" r="0" b="21142"/>
          <a:stretch/>
        </p:blipFill>
        <p:spPr>
          <a:xfrm>
            <a:off x="914400" y="685800"/>
            <a:ext cx="7391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17887" r="1918" b="7948"/>
          <a:stretch/>
        </p:blipFill>
        <p:spPr>
          <a:xfrm>
            <a:off x="914400" y="91440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447920"/>
            <a:ext cx="594360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19289"/>
          <a:stretch/>
        </p:blipFill>
        <p:spPr>
          <a:xfrm>
            <a:off x="1295280" y="1371600"/>
            <a:ext cx="670572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43848"/>
          <a:stretch/>
        </p:blipFill>
        <p:spPr>
          <a:xfrm>
            <a:off x="990720" y="1120680"/>
            <a:ext cx="723888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762120" y="685800"/>
            <a:ext cx="7162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0527"/>
          <a:stretch/>
        </p:blipFill>
        <p:spPr>
          <a:xfrm>
            <a:off x="838080" y="609480"/>
            <a:ext cx="74678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1219320" y="1752480"/>
            <a:ext cx="64767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8336"/>
          <a:stretch/>
        </p:blipFill>
        <p:spPr>
          <a:xfrm>
            <a:off x="914400" y="917640"/>
            <a:ext cx="7010280" cy="4035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0" t="50332" r="0" b="20528"/>
          <a:stretch/>
        </p:blipFill>
        <p:spPr>
          <a:xfrm>
            <a:off x="914400" y="4386240"/>
            <a:ext cx="70102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295280" y="1143000"/>
            <a:ext cx="66294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8449"/>
          <a:stretch/>
        </p:blipFill>
        <p:spPr>
          <a:xfrm>
            <a:off x="1371600" y="1447920"/>
            <a:ext cx="63244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1600200" y="1523880"/>
            <a:ext cx="617220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447920" y="1371600"/>
            <a:ext cx="60958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8T17:35:20Z</dcterms:modified>
  <cp:revision>218</cp:revision>
  <dc:subject/>
  <dc:title>Slide 1</dc:title>
</cp:coreProperties>
</file>