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7400-13E6-43B8-812A-C01671E85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3878-1D22-4E58-8DF8-F4F4D67DE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C4AE-DC72-4F2E-9C75-3B700860E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98E6-697F-4FC2-8A5B-A6E928394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5AEF-88FD-4A3A-9EB8-A1CE231C5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8207-9C7D-4F70-89B1-419F452B3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CD18-9186-4298-8827-6DC80C601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A36F-4B82-426F-B8DE-FC479A49E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C743-6E0E-454E-B30C-F135B1FEF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CA79-C88C-4F55-81FE-8DAFC321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4904-9303-4202-B9F2-49AA6623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06A4-8F66-4FD5-9DDB-29805051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C431A-B757-4614-80A0-954367229F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Reasons for Contro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914400" y="762120"/>
            <a:ext cx="7238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838080" y="685800"/>
            <a:ext cx="74678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7610" r="0" b="34109"/>
          <a:stretch/>
        </p:blipFill>
        <p:spPr>
          <a:xfrm>
            <a:off x="1143000" y="1143000"/>
            <a:ext cx="68580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990720" y="914400"/>
            <a:ext cx="7086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914400" y="609480"/>
            <a:ext cx="72388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0" b="12918"/>
          <a:stretch/>
        </p:blipFill>
        <p:spPr>
          <a:xfrm>
            <a:off x="990720" y="762120"/>
            <a:ext cx="71625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0" b="36763"/>
          <a:stretch/>
        </p:blipFill>
        <p:spPr>
          <a:xfrm>
            <a:off x="990720" y="838080"/>
            <a:ext cx="70102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990720" y="914400"/>
            <a:ext cx="7238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0" r="0" b="28815"/>
          <a:stretch/>
        </p:blipFill>
        <p:spPr>
          <a:xfrm>
            <a:off x="1066680" y="685800"/>
            <a:ext cx="7239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467480" cy="3200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914400" y="4343400"/>
            <a:ext cx="75438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34109"/>
          <a:stretch/>
        </p:blipFill>
        <p:spPr>
          <a:xfrm>
            <a:off x="990720" y="1447920"/>
            <a:ext cx="67816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7238880" cy="2057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990720" y="3124080"/>
            <a:ext cx="7238880" cy="1067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990720" y="4343400"/>
            <a:ext cx="72388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90720" y="2057400"/>
            <a:ext cx="723888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238880" cy="1911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914400" y="3200400"/>
            <a:ext cx="71629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75438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543800" cy="2438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38080" y="3505320"/>
            <a:ext cx="75438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76197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620120" cy="2438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914400" y="3124080"/>
            <a:ext cx="76201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0" t="0" r="0" b="36763"/>
          <a:stretch/>
        </p:blipFill>
        <p:spPr>
          <a:xfrm>
            <a:off x="990720" y="533520"/>
            <a:ext cx="73152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914400" y="1066680"/>
            <a:ext cx="7238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066680" y="838080"/>
            <a:ext cx="69343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990720" y="685800"/>
            <a:ext cx="7238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838080" y="762120"/>
            <a:ext cx="74678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914400" y="838080"/>
            <a:ext cx="71629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838080" y="762120"/>
            <a:ext cx="72392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838080" y="609480"/>
            <a:ext cx="7239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1-05T04:09:24Z</dcterms:modified>
  <cp:revision>45</cp:revision>
  <dc:subject/>
  <dc:title>PowerPoint Presentation</dc:title>
</cp:coreProperties>
</file>