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56C-610D-4596-B267-D60087B5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0C2-F476-4960-A38B-9B2E00C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EA7-8908-494A-AAFE-3827CDA8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66B-9B8B-4505-8CF9-52F710A1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89F-3F6B-4F74-8E6F-55C9DD3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311-A4F5-4F9A-BC1B-602A4F4A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4DB-D83B-4FF9-B36A-B3EF5243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91C-C1A5-48F5-B712-E3A4DABB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8A0-A424-4943-BA04-9734E04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E4A-056D-4FB4-B63B-B5DDC68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515-5A95-4219-A1BB-217E551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2D4-D393-4E92-AC17-2CADAD1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8CE-08D6-478E-AEB8-6DE1EA43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DESIG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560"/>
            <a:ext cx="624816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3911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2808360"/>
            <a:ext cx="6705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922480"/>
            <a:ext cx="6477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166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19320" y="2801880"/>
            <a:ext cx="67053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732040"/>
            <a:ext cx="6477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934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29Z</dcterms:modified>
  <cp:revision>94</cp:revision>
  <dc:subject/>
  <dc:title>The Art in the State of the Art</dc:title>
</cp:coreProperties>
</file>