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399A-EAA4-4F3A-81D8-5F888C098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189C-D9CB-45FA-ADD3-B52859B7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E2C4-4755-4E78-89F9-A7D7D56C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1F8D-4649-4381-8DA7-AFE9A4381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3040-8A45-491C-9E3D-BB3FD34A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ACED-F877-4D2B-8EF9-A7B27B30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AED9-6A2B-4008-B7B5-065D26F1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1C26-8208-47B0-AAD4-05034C2B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7BF2-23C2-40AD-9139-493D6DEB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7FA5-87CE-4BF9-8A06-18198D8E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BDE2-8353-433B-BF56-6DC6ADDD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5AFD-5A95-4241-AFD6-5EDE3D9C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E4FF-4556-4BA6-883B-808EE1480D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8120" y="1600200"/>
            <a:ext cx="4245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Validit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e701"/>
                </a:solidFill>
                <a:latin typeface="Arial"/>
              </a:rPr>
              <a:t>vers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recis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6960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848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5438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3733920"/>
            <a:ext cx="7848720" cy="609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7848720" cy="2971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33520" y="4343400"/>
            <a:ext cx="7772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848360" cy="2819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7848360" cy="685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09480" y="4114800"/>
            <a:ext cx="7772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848720" cy="289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9480" y="3429000"/>
            <a:ext cx="7848720" cy="542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78487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848720" cy="2895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09480" y="3352680"/>
            <a:ext cx="7848720" cy="685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09480" y="4038480"/>
            <a:ext cx="784872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467480" cy="5867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58000" y="5791320"/>
            <a:ext cx="152388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91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410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6257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1T15:40:07Z</dcterms:modified>
  <cp:revision>211</cp:revision>
  <dc:subject/>
  <dc:title>Slide 1</dc:title>
</cp:coreProperties>
</file>