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5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6.png" ContentType="image/png"/>
  <Override PartName="/ppt/media/image56.wmf" ContentType="image/x-wmf"/>
  <Override PartName="/ppt/media/image15.png" ContentType="image/png"/>
  <Override PartName="/ppt/media/image55.wmf" ContentType="image/x-wmf"/>
  <Override PartName="/ppt/media/image14.png" ContentType="image/png"/>
  <Override PartName="/ppt/media/image5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7.wmf" ContentType="image/x-wmf"/>
  <Override PartName="/ppt/media/image40.png" ContentType="image/png"/>
  <Override PartName="/ppt/media/image58.wmf" ContentType="image/x-wmf"/>
  <Override PartName="/ppt/media/image43.wmf" ContentType="image/x-wmf"/>
  <Override PartName="/ppt/media/image44.png" ContentType="image/png"/>
  <Override PartName="/ppt/media/image45.wmf" ContentType="image/x-wmf"/>
  <Override PartName="/ppt/media/image46.png" ContentType="image/png"/>
  <Override PartName="/ppt/media/image9.png" ContentType="image/png"/>
  <Override PartName="/ppt/media/image42.wmf" ContentType="image/x-wmf"/>
  <Override PartName="/ppt/media/image39.png" ContentType="image/png"/>
  <Override PartName="/ppt/media/image41.png" ContentType="image/png"/>
  <Override PartName="/ppt/media/image50.png" ContentType="image/png"/>
  <Override PartName="/ppt/media/image52.wmf" ContentType="image/x-wmf"/>
  <Override PartName="/ppt/media/image34.wmf" ContentType="image/x-wmf"/>
  <Override PartName="/ppt/media/image13.png" ContentType="image/png"/>
  <Override PartName="/ppt/media/image53.wmf" ContentType="image/x-wmf"/>
  <Override PartName="/ppt/media/image38.png" ContentType="image/png"/>
  <Override PartName="/ppt/media/image8.png" ContentType="image/png"/>
  <Override PartName="/ppt/media/image11.png" ContentType="image/png"/>
  <Override PartName="/ppt/media/image48.png" ContentType="image/png"/>
  <Override PartName="/ppt/media/image51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30.wmf" ContentType="image/x-wmf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1161-9A84-4DA6-800B-32086EB69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95A4-F4D0-4E4C-A248-16839AA7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1587-B103-440D-963A-522E02C52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44C9-EFE4-4424-B03E-66608B8D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D7D5-1E02-47DE-B404-CC77593A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2D3D-3F77-4832-875E-001E9273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F25F-1CA0-4A3D-BA49-6C4D5549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018D-463E-40B9-BEF8-9A280808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39E2-9BBE-48DC-8CB0-43D5B3EE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8981-92D8-497A-9C18-237C2935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6B29-64B0-4C19-BE93-87B84167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BC52-D879-4B58-9C94-D41449DA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A6AD-5F02-4188-80E4-1355BBE35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5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5.wmf"/><Relationship Id="rId3" Type="http://schemas.openxmlformats.org/officeDocument/2006/relationships/image" Target="../media/image20.wmf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5.wmf"/><Relationship Id="rId3" Type="http://schemas.openxmlformats.org/officeDocument/2006/relationships/image" Target="../media/image34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25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25.wmf"/><Relationship Id="rId3" Type="http://schemas.openxmlformats.org/officeDocument/2006/relationships/image" Target="../media/image42.wmf"/><Relationship Id="rId4" Type="http://schemas.openxmlformats.org/officeDocument/2006/relationships/image" Target="../media/image20.wmf"/><Relationship Id="rId5" Type="http://schemas.openxmlformats.org/officeDocument/2006/relationships/image" Target="../media/image43.wmf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4.png"/><Relationship Id="rId3" Type="http://schemas.openxmlformats.org/officeDocument/2006/relationships/image" Target="../media/image25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1.wmf"/><Relationship Id="rId3" Type="http://schemas.openxmlformats.org/officeDocument/2006/relationships/image" Target="../media/image58.wmf"/><Relationship Id="rId4" Type="http://schemas.openxmlformats.org/officeDocument/2006/relationships/image" Target="../media/image59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980720"/>
            <a:ext cx="7238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Logistic Regression Analysis of </a:t>
            </a:r>
            <a:br>
              <a:rPr sz="6000"/>
            </a:b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Matched D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914400" y="762120"/>
            <a:ext cx="73152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762120" y="609480"/>
            <a:ext cx="76197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31080" y="457200"/>
            <a:ext cx="60418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GENERAL LOGISTIC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3962520"/>
            <a:ext cx="7696080" cy="1630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t form of logistic mod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git P(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305920" cy="2362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934320" y="2819520"/>
            <a:ext cx="45396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772400" cy="2209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6477120" cy="830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914400" y="4648320"/>
            <a:ext cx="7162920" cy="1295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16200" y="4191120"/>
            <a:ext cx="19486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it fo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1676520"/>
            <a:ext cx="7696080" cy="2209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3880" y="3276720"/>
            <a:ext cx="6019920" cy="1930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162920" cy="1295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838080" y="914400"/>
            <a:ext cx="5715000" cy="685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37920" y="4952880"/>
            <a:ext cx="6828120" cy="57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cial Case: No Interaction, I.e., all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=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2209680" y="5410080"/>
            <a:ext cx="4480200" cy="762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523880" y="3276720"/>
            <a:ext cx="6019920" cy="160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835640" y="457200"/>
            <a:ext cx="5225040" cy="947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W LOGISTIC MODEL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TCH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1676520"/>
            <a:ext cx="8458200" cy="699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t P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98280" y="2743200"/>
            <a:ext cx="5516280" cy="39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= (0, 1) exp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denote dummy variables use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matching str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denote potential confounders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 matching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denote potential effect mod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ually other than matching vari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2666880"/>
            <a:ext cx="548640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2209680"/>
            <a:ext cx="7391520" cy="1312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08520" y="547560"/>
            <a:ext cx="5916960" cy="947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justed OR Comparing E=1 vs. E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ling for the V’s and W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74720" y="4145040"/>
            <a:ext cx="6828120" cy="57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cial Case: No Interaction, I.e., all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=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6705720" cy="1066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600200" y="4635360"/>
            <a:ext cx="6550200" cy="1098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286000" y="4724280"/>
            <a:ext cx="5181480" cy="844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2209680"/>
            <a:ext cx="73915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07320" y="2338560"/>
            <a:ext cx="688320" cy="764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15200" cy="5257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914400" y="3124080"/>
            <a:ext cx="7315200" cy="1067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72000" y="3429000"/>
            <a:ext cx="5731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467480" cy="5410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7467480" cy="1067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648320" y="1828800"/>
            <a:ext cx="5731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838080" y="762120"/>
            <a:ext cx="76964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4114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7543800" cy="1219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3124080"/>
            <a:ext cx="4267080" cy="11937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648320" y="2209680"/>
            <a:ext cx="53316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25000" y="3352680"/>
            <a:ext cx="79200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086600" cy="4496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14600" y="3657600"/>
            <a:ext cx="5181480" cy="1143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914400" y="2362320"/>
            <a:ext cx="7086600" cy="1295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419720" y="2743200"/>
            <a:ext cx="53316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7620120" cy="4267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286000" y="2209680"/>
            <a:ext cx="4952880" cy="990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62120" y="533520"/>
            <a:ext cx="7467480" cy="1447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495680" y="990720"/>
            <a:ext cx="5335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66680" y="3048120"/>
            <a:ext cx="7086600" cy="2590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14400" y="1295280"/>
            <a:ext cx="73152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086600" cy="1676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453320" y="5334120"/>
            <a:ext cx="60894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he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note 62 dummy variab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63 matched 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6934320" cy="1981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943600" y="3733920"/>
            <a:ext cx="533520" cy="1130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467480" cy="1524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143000" y="2895480"/>
            <a:ext cx="7162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619760" cy="3124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209680" y="2590920"/>
            <a:ext cx="5334120" cy="1143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62120" y="533520"/>
            <a:ext cx="7467480" cy="1600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2209680" y="4572000"/>
            <a:ext cx="5791320" cy="787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572000" y="1066680"/>
            <a:ext cx="5335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7391160" cy="3657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09680" y="2590920"/>
            <a:ext cx="5334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905120" y="5334120"/>
            <a:ext cx="5790960" cy="711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762120" y="533520"/>
            <a:ext cx="7467480" cy="1600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0" y="1066680"/>
            <a:ext cx="5335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543800" cy="5105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666880" y="914400"/>
            <a:ext cx="5334120" cy="1143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905120" y="3581280"/>
            <a:ext cx="57909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91520" cy="722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7315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1143000" y="1066680"/>
            <a:ext cx="7010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238880" cy="946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14400" y="2743200"/>
            <a:ext cx="7162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238880" cy="4343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133720" y="2133720"/>
            <a:ext cx="5333760" cy="990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438280" y="5638680"/>
            <a:ext cx="3886200" cy="586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762120" y="533520"/>
            <a:ext cx="7467480" cy="1600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2057400" y="4876920"/>
            <a:ext cx="4343400" cy="768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572000" y="1066680"/>
            <a:ext cx="5335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238880" cy="4191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62120" y="4648320"/>
            <a:ext cx="7162560" cy="1412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981080" y="457200"/>
            <a:ext cx="5334120" cy="990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905120" y="3200400"/>
            <a:ext cx="4724280" cy="846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514600" y="4038480"/>
            <a:ext cx="25146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90720" y="4114800"/>
            <a:ext cx="7086600" cy="1847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371600" y="1981080"/>
            <a:ext cx="6019920" cy="1981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295280" y="838080"/>
            <a:ext cx="6400800" cy="806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05120" y="2590920"/>
            <a:ext cx="4876560" cy="137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2514600" y="2819520"/>
            <a:ext cx="335268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36760" y="1233360"/>
            <a:ext cx="676584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ACTION MOD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63 matched 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70280" y="380880"/>
            <a:ext cx="759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Previous model was a no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981080" y="3809880"/>
            <a:ext cx="5639040" cy="1143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10880" y="2590920"/>
            <a:ext cx="9095760" cy="631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ogit P(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E +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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1i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GALL +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GAL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88000" y="2362320"/>
            <a:ext cx="4093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057400" y="914400"/>
            <a:ext cx="558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5% CI for OR involving interac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60680" y="2529000"/>
            <a:ext cx="47401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g., What is the 95% CI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8153280" y="3505320"/>
            <a:ext cx="609840" cy="1008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371600" y="3352680"/>
            <a:ext cx="662940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2280" y="380880"/>
            <a:ext cx="7509600" cy="947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ERAL 100(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 CI FORMULA IN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ISTIC MODEL FOR MATCHED 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219320" y="3657600"/>
            <a:ext cx="5943600" cy="5097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5715000" cy="1600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914400" y="1905120"/>
            <a:ext cx="7086600" cy="11174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705720" y="2133720"/>
            <a:ext cx="53316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58600" y="471600"/>
            <a:ext cx="401220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RIANCE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7162920" cy="3048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8305920" cy="9144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162920" y="1752480"/>
            <a:ext cx="53316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67080" y="3657600"/>
            <a:ext cx="457200" cy="703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5105520"/>
            <a:ext cx="3808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5105520"/>
            <a:ext cx="380880" cy="489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57800" y="5105520"/>
            <a:ext cx="533520" cy="489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65640" y="6581880"/>
            <a:ext cx="18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9960" y="4648320"/>
            <a:ext cx="3574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11480" y="5562720"/>
            <a:ext cx="46260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76200" y="0"/>
            <a:ext cx="657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mple: 95% CI formu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5334120" cy="9144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914400" y="838080"/>
            <a:ext cx="6629400" cy="10670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676520" y="3276720"/>
            <a:ext cx="5333760" cy="1143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1066680" y="4419720"/>
            <a:ext cx="67820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914400" y="83808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838080" y="76212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990720" y="609480"/>
            <a:ext cx="73911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838080" y="762120"/>
            <a:ext cx="7467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990720" y="685800"/>
            <a:ext cx="7238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990720" y="533520"/>
            <a:ext cx="7238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2-07-02T17:08:35Z</dcterms:modified>
  <cp:revision>97</cp:revision>
  <dc:subject/>
  <dc:title>The Art in the State of the Art</dc:title>
</cp:coreProperties>
</file>