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64C-5BE8-4677-8D9C-5A2E9183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4F6-9F85-4825-B20F-6DEA12E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A82-AEBC-4BF9-958C-CFF0BE85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AD8-97B8-4FB4-A918-E252057B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F60-B6B2-434F-B049-FD6C78F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298-F541-4BF9-B261-8D0239C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1E8-0B30-43D9-8EDB-B3A4571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AC9-8E17-412E-8718-84838BF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550-E528-420C-8A0F-B5BC1F43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C11-A8D9-4780-8002-947C2291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9FF-F3BE-44D8-A6B8-079B1C52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4B4-328F-4C0A-97AC-BAAC141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7C8A-30A4-495B-880B-698CC2CC29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080" y="1447920"/>
            <a:ext cx="68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veral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647712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005" t="84391" r="0" b="7836"/>
          <a:stretch/>
        </p:blipFill>
        <p:spPr>
          <a:xfrm>
            <a:off x="1066680" y="5943600"/>
            <a:ext cx="647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762120" y="5335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936"/>
          <a:stretch/>
        </p:blipFill>
        <p:spPr>
          <a:xfrm>
            <a:off x="99072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6858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094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2580"/>
          <a:stretch/>
        </p:blipFill>
        <p:spPr>
          <a:xfrm>
            <a:off x="1143000" y="91440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7621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1:05:22Z</dcterms:modified>
  <cp:revision>217</cp:revision>
  <dc:subject/>
  <dc:title>Slide 1</dc:title>
</cp:coreProperties>
</file>