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539-CAD0-48D8-88D1-A4F6AF17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EFE-CB6F-4BBD-BA82-17CF20F0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84C-0F38-438A-98C9-D6E6BABD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22D-C5C0-4052-883A-D63A688D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FCE-C0C1-45B5-934D-3C2F5EF6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B84-F674-44A2-A9ED-D6CE0B19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CD3-5679-41A0-9977-35AC9A8A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F6A-1E1A-4A44-AE9C-92474A21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581-D045-4AE9-A57E-4E716A4D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F6E-4D74-4090-89FE-F460DF6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7FA-4ABF-4F78-84F3-1B9CF7A7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254-97B4-4251-B6D4-D9D617D5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8F03-4287-4526-9912-C44447D285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2160" y="1905120"/>
            <a:ext cx="7305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Quantitativel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 Bi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157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69608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3124080"/>
            <a:ext cx="7543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142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7848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20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1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350496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762120"/>
            <a:ext cx="7010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496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19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3047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7696080" cy="993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705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9644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6964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696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205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792504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7925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96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1:43:37Z</dcterms:modified>
  <cp:revision>216</cp:revision>
  <dc:subject/>
  <dc:title>Slide 1</dc:title>
</cp:coreProperties>
</file>