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0D8-4F61-43E4-9EAA-2CA388D6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1AA-BF2B-4E99-8F41-70A8C8D1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6A3-9934-4BB1-A617-7F3296D6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0C9-2BF8-40C1-B454-F22C3382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E92-83BD-4FA3-8A65-96BBA419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918-79EF-4192-9418-FBD1EE84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DA9-0700-4BE1-B24A-3C7F5D6C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F4F-CBD9-414E-95FA-AF5D4C6E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15D-32B1-4F31-8D08-0D72FCF1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515-124B-47FB-A346-B04BC1CB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2E8-EF8F-4D33-BD82-BAE7CCD1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5E9-509C-47D8-BC7D-EF7DDFBE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A990-CB21-45F7-A1CB-45921399B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ASE-CONTROL STUDI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2006640" cy="2210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200400" y="24382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943600" y="25146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133720" y="4648320"/>
            <a:ext cx="464796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200400" y="1828800"/>
            <a:ext cx="2819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858000" cy="1904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6858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62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4724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37335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49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90720" y="990720"/>
            <a:ext cx="19605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52480" y="4724280"/>
            <a:ext cx="5105520" cy="1155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31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934320" cy="2336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3880" y="3276720"/>
            <a:ext cx="640080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3880" y="4191120"/>
            <a:ext cx="6400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39240" cy="162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411480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43840" y="4419720"/>
            <a:ext cx="44204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CHILD’S MEDICA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.g., aspiri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701028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49680" y="1828800"/>
            <a:ext cx="3833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1028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76720" y="4114800"/>
            <a:ext cx="2819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10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30T14:15:56Z</dcterms:modified>
  <cp:revision>107</cp:revision>
  <dc:subject/>
  <dc:title>The Art in the State of the Art</dc:title>
</cp:coreProperties>
</file>