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AA4-8D69-4CD8-B462-540D0F1B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F48-1933-4629-978B-9F18D06F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224-179B-47B6-B216-83C2A3F4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CA7-4979-4DAB-970C-494DBAA7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805-99A7-4883-8DB7-E7CB3C1A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E70-8BCE-47B3-9735-06E8B80B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F4B-E7DD-4A31-BA11-5E3A59BD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2A7-4A1F-4F29-8119-97FE5F5D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B4B-0844-4862-A3E1-80136E50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845-870F-4B46-A411-5D31E11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BC8-9312-4261-9D98-EBBED6B7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446-E97A-44F1-97BB-E1F2951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B2C5-60FA-40A5-BDF5-EF21B1884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905120"/>
            <a:ext cx="85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: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 Examp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533520" y="762120"/>
            <a:ext cx="792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69795"/>
          <a:stretch/>
        </p:blipFill>
        <p:spPr>
          <a:xfrm>
            <a:off x="533520" y="838080"/>
            <a:ext cx="792468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66294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6462"/>
          <a:stretch/>
        </p:blipFill>
        <p:spPr>
          <a:xfrm>
            <a:off x="609480" y="11430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28138" r="0" b="57290"/>
          <a:stretch/>
        </p:blipFill>
        <p:spPr>
          <a:xfrm>
            <a:off x="609480" y="20574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3048120"/>
            <a:ext cx="7162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86462"/>
          <a:stretch/>
        </p:blipFill>
        <p:spPr>
          <a:xfrm>
            <a:off x="914400" y="167652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42719" r="0" b="43743"/>
          <a:stretch/>
        </p:blipFill>
        <p:spPr>
          <a:xfrm>
            <a:off x="914400" y="251460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010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87505"/>
          <a:stretch/>
        </p:blipFill>
        <p:spPr>
          <a:xfrm>
            <a:off x="685800" y="144792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56267" r="0" b="27067"/>
          <a:stretch/>
        </p:blipFill>
        <p:spPr>
          <a:xfrm>
            <a:off x="685800" y="23623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010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380880" y="838080"/>
            <a:ext cx="8305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840"/>
          <a:stretch/>
        </p:blipFill>
        <p:spPr>
          <a:xfrm>
            <a:off x="990720" y="53352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590"/>
          <a:stretch/>
        </p:blipFill>
        <p:spPr>
          <a:xfrm>
            <a:off x="5335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437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3759"/>
          <a:stretch/>
        </p:blipFill>
        <p:spPr>
          <a:xfrm>
            <a:off x="9907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598"/>
          <a:stretch/>
        </p:blipFill>
        <p:spPr>
          <a:xfrm>
            <a:off x="609480" y="609480"/>
            <a:ext cx="8077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8862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2669"/>
          <a:stretch/>
        </p:blipFill>
        <p:spPr>
          <a:xfrm>
            <a:off x="762120" y="53352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03:35Z</dcterms:created>
  <dc:creator>david g. kleinbaum</dc:creator>
  <dc:description/>
  <dc:language>en-US</dc:language>
  <cp:lastModifiedBy>dkleinb</cp:lastModifiedBy>
  <dcterms:modified xsi:type="dcterms:W3CDTF">2003-11-18T15:21:44Z</dcterms:modified>
  <cp:revision>19</cp:revision>
  <dc:subject/>
  <dc:title> Confounding Involving Several Risk Factors</dc:title>
</cp:coreProperties>
</file>