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B892-F6E0-434C-868B-417DABD0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BE3-0711-425E-8562-B7526120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32A-91CD-47A5-B8F7-B6122CD4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B431-5F1C-431B-8799-3CCA0125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DA4-7028-4DE4-8952-B50A44CA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5E2-8D46-48A3-9C02-8258F7C1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206-DA1C-4DE5-A5BE-1BB2764C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8C1-6A54-47CB-8B95-64BC6959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709-C4C4-49AE-A5E9-3D43BB18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191-4ED1-44DF-94E5-299A105A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899-7352-43D4-8F1A-20B77176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EF9F-6996-4B9A-AE59-8C3CCEA8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1D72-656B-41C9-8E6A-4AB56F5BD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The EVW </a:t>
            </a:r>
            <a:br>
              <a:rPr sz="6600"/>
            </a:b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  Logistic 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00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924680" cy="4038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4343400"/>
            <a:ext cx="7924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848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77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22:06:20Z</dcterms:modified>
  <cp:revision>44</cp:revision>
  <dc:subject/>
  <dc:title>PowerPoint Presentation</dc:title>
</cp:coreProperties>
</file>