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FC34-42E9-47F3-AC57-E4A02FFC6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5371-AD3C-4659-95F7-E60B3D6B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F747-A42B-4DF3-B725-83A6BFFCD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B131-53A5-4C08-87EF-EBC670533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1441-043E-458E-BF8A-B9AF6086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2756-D3AA-4E7B-836C-1011EDB7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FB90-AA1B-4CDB-8654-170169E5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DA3C-D9A1-4E5B-B066-459F6582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771C-826C-407C-BEA9-AE02B707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5B27-BB49-4C2D-914F-8922880D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A65E-6A0C-4934-9E57-EBEC2642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4CDE-7441-4C49-9ED5-05C6DC0F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667F-84FE-4D63-BEC3-97634B4254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63760" y="2286000"/>
            <a:ext cx="3949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Rate Rati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934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162920" cy="4572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066680" y="5181480"/>
            <a:ext cx="7162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91520" cy="5181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486400" y="480060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467480" cy="5181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638680" y="4648320"/>
            <a:ext cx="25146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8120" y="2590920"/>
            <a:ext cx="2286000" cy="1460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838080" y="533520"/>
            <a:ext cx="7543800" cy="2057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914400" y="4038480"/>
            <a:ext cx="7543800" cy="2210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934320" y="2209680"/>
            <a:ext cx="144756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4038480"/>
            <a:ext cx="182880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4038480"/>
            <a:ext cx="25909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400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086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1629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4674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76520" y="3276720"/>
            <a:ext cx="5562360" cy="2819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90720" y="609480"/>
            <a:ext cx="70102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010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1629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858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23:01Z</dcterms:modified>
  <cp:revision>219</cp:revision>
  <dc:subject/>
  <dc:title>Slide 1</dc:title>
</cp:coreProperties>
</file>