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545-998F-4D8C-864C-783AAE90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A30-1B4E-4A40-8710-AA6523E5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B50-3D90-4107-8114-CAB9F16C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9FE-18A9-4372-B352-33E57C6E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605-2281-43ED-8365-6D9E40F9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ECB-5684-4CF9-80DA-33334267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954-F26E-4EF4-BF28-1282FEB7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7D4-9F52-4A88-8569-3F2C286D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BA2-EEB5-4928-90E6-1502D465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FAA-97E1-41C4-AE33-F5E0F64D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159-2C47-4121-84AC-C6F7E3E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6DA-5F5F-4C39-8996-DE719970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D31-5588-4FCC-B74B-37018C5EAE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1828800"/>
            <a:ext cx="654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arge-samp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fidence Interv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for the m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6873"/>
          <a:stretch/>
        </p:blipFill>
        <p:spPr>
          <a:xfrm>
            <a:off x="60948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873"/>
          <a:stretch/>
        </p:blipFill>
        <p:spPr>
          <a:xfrm>
            <a:off x="609480" y="457200"/>
            <a:ext cx="77724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70822" r="0" b="9939"/>
          <a:stretch/>
        </p:blipFill>
        <p:spPr>
          <a:xfrm>
            <a:off x="609480" y="4343400"/>
            <a:ext cx="7772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9638"/>
          <a:stretch/>
        </p:blipFill>
        <p:spPr>
          <a:xfrm>
            <a:off x="68580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389"/>
          <a:stretch/>
        </p:blipFill>
        <p:spPr>
          <a:xfrm>
            <a:off x="609480" y="6094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28840" y="438156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a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do thi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0491"/>
          <a:stretch/>
        </p:blipFill>
        <p:spPr>
          <a:xfrm>
            <a:off x="838080" y="12952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3760" y="533520"/>
            <a:ext cx="75067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stituting the cell frequencies from each stratum i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variance formula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5610"/>
          <a:stretch/>
        </p:blipFill>
        <p:spPr>
          <a:xfrm>
            <a:off x="685800" y="380880"/>
            <a:ext cx="79246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323"/>
          <a:stretch/>
        </p:blipFill>
        <p:spPr>
          <a:xfrm>
            <a:off x="457200" y="304920"/>
            <a:ext cx="83818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2054"/>
          <a:stretch/>
        </p:blipFill>
        <p:spPr>
          <a:xfrm>
            <a:off x="685800" y="533520"/>
            <a:ext cx="7848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1:14:02Z</dcterms:modified>
  <cp:revision>217</cp:revision>
  <dc:subject/>
  <dc:title>Slide 1</dc:title>
</cp:coreProperties>
</file>