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CA28-E2A0-4ECD-9902-F59F2E4A6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B8E0-B71E-4F24-BEE5-C9A2182D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DDAA-DAED-457A-B695-C5B51B288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C3DE-CBD0-46C1-A346-0F83FBC1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7B3B-DA67-476E-B511-00C93D18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FC5A-2105-4AFB-BD25-9864C671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6540-0D73-4366-B146-74DC3A81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D834-ADA2-4F93-B740-73785CCB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6C62-0F53-420A-A983-4915C95C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2010-B62C-4007-A22B-E0AF843E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E390-3F43-483E-BECB-76E2A575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2BAE-E18E-4BAF-8F63-0A670AC5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5269-E4F3-4660-BB31-1FC3CFDF1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nalysis of </a:t>
            </a:r>
            <a:br>
              <a:rPr sz="6000"/>
            </a:b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R-to-1 Matched </a:t>
            </a:r>
            <a:br>
              <a:rPr sz="6000"/>
            </a:b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Case-Control D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467480" cy="838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90720" y="2590920"/>
            <a:ext cx="73911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543800" cy="64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14400" y="2362320"/>
            <a:ext cx="7315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1066680" y="1371600"/>
            <a:ext cx="701064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066680" y="2438280"/>
            <a:ext cx="71629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914400" y="838080"/>
            <a:ext cx="74674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>
            <a:lum bright="-8000"/>
          </a:blip>
          <a:stretch/>
        </p:blipFill>
        <p:spPr>
          <a:xfrm>
            <a:off x="1066680" y="1143000"/>
            <a:ext cx="7315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-8000"/>
          </a:blip>
          <a:stretch/>
        </p:blipFill>
        <p:spPr>
          <a:xfrm>
            <a:off x="1066680" y="914400"/>
            <a:ext cx="7315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990720" y="609480"/>
            <a:ext cx="72388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1629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162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162920" cy="3276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>
            <a:lum bright="2000"/>
          </a:blip>
          <a:stretch/>
        </p:blipFill>
        <p:spPr>
          <a:xfrm>
            <a:off x="1066680" y="4114800"/>
            <a:ext cx="7086600" cy="1905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1066680" y="6019920"/>
            <a:ext cx="701064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cp:lastPrinted>2002-06-27T18:28:52Z</cp:lastPrinted>
  <dcterms:modified xsi:type="dcterms:W3CDTF">2002-07-02T15:13:45Z</dcterms:modified>
  <cp:revision>80</cp:revision>
  <dc:subject/>
  <dc:title>The Art in the State of the Art</dc:title>
</cp:coreProperties>
</file>