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D5B-E791-4F15-96F8-B62D38EF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CA6-A6BE-4FC4-BF9D-266126A6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329-C887-4970-8FDD-6FCA1CEE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1E7-8C47-4742-A411-8F2BC957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0BD-2DC9-4989-BAE5-54F7C814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E8A-7740-427C-B917-CBAD5E0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824-4F3D-4217-8F04-89433E06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78C-1B98-4BBC-B725-30DB522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D5D-70BC-44F5-80E3-851CE97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218-C5B2-4F9F-968D-05490BC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0AB-3485-4752-83D1-8495FC7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BE8-A095-4D76-A2C5-9D82BFE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C8B-9724-4F6E-9382-1E001F91D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800" y="251460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ssessing Confounding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Case-Control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1447920"/>
            <a:ext cx="647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95280"/>
            <a:ext cx="6248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6:15Z</dcterms:modified>
  <cp:revision>218</cp:revision>
  <dc:subject/>
  <dc:title>Slide 1</dc:title>
</cp:coreProperties>
</file>