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BE4-E6C0-49C7-85DA-11EDA68F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286-2F0A-43C8-B105-210CE0A1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472-4287-44FB-B22A-8D0F782F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D9D-C697-4DCF-9951-4BD65CBB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096-72F6-49B5-AB24-0DB265F4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352-E5FE-4730-AB56-E22AFEF9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929-D464-4F51-976F-CFDF32A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57D-3060-4A02-B14C-75A030B5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E28-D2D1-43F1-B76B-0395EBF1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10D-55B8-4CB9-A59E-AA90BFB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FF3-36B0-4236-9DFF-69F14FB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CC4-3135-4AAC-98DB-F4ED712B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07E9-8052-4717-BAAC-837D6ABEB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ISSUES IN EPI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40Z</dcterms:modified>
  <cp:revision>98</cp:revision>
  <dc:subject/>
  <dc:title>The Art in the State of the Art</dc:title>
</cp:coreProperties>
</file>