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A1E-084B-45A0-9B4A-2BEAF300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6EA-77B4-4626-BEA9-FEA5A98A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D39-0E56-424E-9700-169E01D0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EB4-39A9-445E-A1D7-E30E2F8A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BAF-6D5F-4F01-8B07-48F8427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444-AF2A-4F20-9ECF-3405CE3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3CC-7E02-44B5-BFC7-5B90B50F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867-E6BD-4EDD-8C38-0C84206D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DAF-BC0B-4BBE-87DC-D5465993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606-6EAA-4948-9F8D-FBAF5192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DB3-74A8-4868-B97D-55944EA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417-CEEF-4117-8B46-C5B703D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EB80-6C21-45D0-9D87-9816A4F56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 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86200"/>
            <a:ext cx="8434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What is epidemi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Symbol"/>
                <a:ea typeface="Symbol"/>
              </a:rPr>
              <a:t>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verview of epi methodologic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Sydney Beach Users Study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•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Introduction to ActivE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HE SYDNEY BEACH USERS STU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1200" y="1736640"/>
            <a:ext cx="797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              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Epidemiology</a:t>
            </a: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s the study of health and ill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in human or other (e.g., veterinary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pul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523880"/>
            <a:ext cx="8229600" cy="312444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648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733920" cy="5181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838080"/>
            <a:ext cx="3504960" cy="51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41520" y="0"/>
            <a:ext cx="32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18c6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543800" cy="111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543800" cy="3783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5029200"/>
            <a:ext cx="304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981080"/>
            <a:ext cx="990360" cy="381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5438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3570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54840" y="5105520"/>
            <a:ext cx="23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= 1.3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9400" y="48481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2084400"/>
            <a:ext cx="7619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383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4495680"/>
            <a:ext cx="8153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350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7467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7640" y="1828800"/>
            <a:ext cx="23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590920"/>
            <a:ext cx="7010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A CD-ROM MULTIMED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LEARNER-INTERACTIVE COURS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18c6"/>
                </a:solidFill>
                <a:latin typeface="Arial"/>
              </a:rPr>
              <a:t>FUNDAMENTALS OF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fa62a"/>
                </a:solidFill>
                <a:latin typeface="Arial"/>
              </a:rPr>
              <a:t>(FOR WINDOWS AND M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6720" y="685800"/>
            <a:ext cx="85446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Initially,  study and control of epide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•   </a:t>
            </a:r>
            <a:r>
              <a:rPr b="1" lang="en-US" sz="3600" spc="-1" strike="noStrike">
                <a:solidFill>
                  <a:srgbClr val="4618c6"/>
                </a:solidFill>
                <a:latin typeface="Times New Roman"/>
              </a:rPr>
              <a:t>Now,  much broader in scop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acute and infectious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quality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mental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occupational dis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4618c6"/>
                </a:solidFill>
                <a:latin typeface="Times New Roman"/>
              </a:rPr>
              <a:t>bio-terroris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3120" y="167652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WHO DEVELOPED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438280"/>
            <a:ext cx="7010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VID G. KLEINBAUM- AUTHO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DATA DESCRIPTION (Ithaca, NY)-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MEDIA 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SPRINGER-VERLAG- PUBLIS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4618c6"/>
                </a:solidFill>
                <a:latin typeface="Arial"/>
              </a:rPr>
              <a:t>200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ourse outline covers topics in most      intro epi text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Chapter Topics </a:t>
            </a: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(e.g., Measures of Effect, Confounding)</a:t>
            </a: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 are called “Less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18c6"/>
                </a:solidFill>
                <a:latin typeface="Arial"/>
              </a:rPr>
              <a:t>15 Lessons, each with several “Activ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3480" y="1143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W ORGANIZ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Activ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E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Video and/or Animated Expo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Narrated Instructional Exposition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Study and/or Multiple-Choice Ques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Interactively-designed Short Quizz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Computer Exercises</a:t>
            </a:r>
            <a:r>
              <a:rPr b="1" lang="en-US" sz="2000" spc="-1" strike="noStrike">
                <a:solidFill>
                  <a:srgbClr val="4618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618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18c6"/>
                </a:solidFill>
                <a:latin typeface="Arial"/>
              </a:rPr>
              <a:t>Linkage to World Wide We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3720" y="1523880"/>
            <a:ext cx="692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LESSON COMPONENTS (“ACTIVITIE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809880"/>
            <a:ext cx="7543800" cy="22269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ologic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test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Explanatory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Variables</a:t>
            </a:r>
            <a:r>
              <a:rPr b="1" lang="en-US" sz="2800" spc="-1" strike="noStrike">
                <a:solidFill>
                  <a:srgbClr val="ef1f1d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8c11ae"/>
                </a:solidFill>
                <a:latin typeface="Times New Roman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200" y="1676520"/>
            <a:ext cx="7511040" cy="224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8a4b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estimate disease frequency and time tren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fa62a"/>
                </a:solidFill>
                <a:latin typeface="Times New Roman"/>
              </a:rPr>
              <a:t>generate etiologic hypotheses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solidFill>
            <a:srgbClr val="eeb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pidemiolog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56840" y="230040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ef6f1"/>
                </a:solidFill>
                <a:latin typeface="Times New Roman"/>
              </a:rPr>
              <a:t>Key Challenges in etiologic re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OLOGIC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ISSUES IN EPI ?</a:t>
            </a: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63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1800" y="3032280"/>
            <a:ext cx="369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cc18"/>
                </a:solidFill>
                <a:latin typeface="Times New Roman"/>
              </a:rPr>
              <a:t> = exposur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c6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8dc6ff"/>
                </a:solidFill>
                <a:latin typeface="Times New Roman"/>
              </a:rPr>
              <a:t> = contro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720" y="2895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11ae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5:28Z</dcterms:modified>
  <cp:revision>103</cp:revision>
  <dc:subject/>
  <dc:title>The Art in the State of the Art</dc:title>
</cp:coreProperties>
</file>