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0B3F-5E28-455A-9CEC-159F9A0A4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F8CD-41AB-407C-B246-0463213EA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0E37-9D65-4362-AD39-C773EE24C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3413-9A40-496F-A592-0F6E82252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E73F-8804-45BA-9266-A51CAA860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2327-26E5-443B-BC1A-DDE56F73A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686A-5E05-423E-A9BA-2374A466E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F0CE-6B50-4E43-9C70-1197876AE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BDE9-D10C-4575-8A41-EC79B078D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9868-11AB-4CA2-B75A-C400100C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CED0-4D89-47C7-B0C2-BF2578F6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CF93-DECA-4E74-90E0-3B1E7164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FBEE1-CB27-47CB-BBA0-8AD64298DF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ANALYSI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2388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70102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3911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16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3152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7086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0866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69343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01064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1629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0866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1625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625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4678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391160" cy="1117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447920" y="2852640"/>
            <a:ext cx="6476760" cy="24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238880" cy="14097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295280" y="2719440"/>
            <a:ext cx="647712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6933960" cy="1917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371600" y="2852640"/>
            <a:ext cx="6324480" cy="29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0866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1629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238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162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315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2388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70102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09-29T14:59:59Z</dcterms:modified>
  <cp:revision>94</cp:revision>
  <dc:subject/>
  <dc:title>The Art in the State of the Art</dc:title>
</cp:coreProperties>
</file>