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9A9-53EA-4135-BA89-73E087E9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A25-5683-495D-BD65-5D16D483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5FD-38FA-49B2-9DD4-6121C5C9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2FC-77F5-4C0C-8D7E-5582EE17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694-B061-4AA9-B66D-50769B65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F97-D765-4BEB-9272-3EA47228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5E0-EC2E-4DA2-96B8-B81DF367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97B-DAEE-40B6-B601-AC282BF5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182-8979-48BD-BA51-C8820A56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983-51F2-4174-BDB4-C98EC6AB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1B9-C57B-40DF-A82E-F198F435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397-7CB2-41F7-8D91-B2BACCCE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502C-E076-4E36-91B7-37835DCE2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MEASURING THE VARIABL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625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858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858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238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66680" y="2935440"/>
            <a:ext cx="69343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2890800"/>
            <a:ext cx="70866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6553080" cy="1092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3094200"/>
            <a:ext cx="662940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162920" cy="138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2795760"/>
            <a:ext cx="66294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73320" y="1951200"/>
            <a:ext cx="478800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915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6T15:50:09Z</dcterms:modified>
  <cp:revision>95</cp:revision>
  <dc:subject/>
  <dc:title>The Art in the State of the Art</dc:title>
</cp:coreProperties>
</file>