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81C2-618A-4946-9297-C749DEAD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02C9-B20E-4F33-84DD-8191F01F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4E6-7E64-489D-BE8D-5C6A72EA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ACD-071C-41B0-85F1-61C40749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004-D1AF-4171-BCEF-5A5B83E9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0D3A-AFDD-4DBA-BEB4-2E99F9CB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798-A749-4EC3-BE96-927F28A7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CC5-56C9-48B6-85FC-95EF51E5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BE6-4A0F-4B7F-8B68-EDA7090F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FB5-F996-4D85-895F-7EFE83C0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232-C384-4247-8D04-EF4ED958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B71F-BB73-4478-ADC6-41CCB53C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FE10-3D8B-4D4A-A49F-ABF4FFF6B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HE STUDY   QUESTION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467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91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25T14:17:13Z</dcterms:modified>
  <cp:revision>94</cp:revision>
  <dc:subject/>
  <dc:title>The Art in the State of the Art</dc:title>
</cp:coreProperties>
</file>