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08A-87D7-486C-9F2B-0EEF1065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5C5-205F-4D2C-894D-025CA3BF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C58-C1BF-4305-88C6-935BEBC9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52B-EE64-40FF-9A66-65E9C111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0C2-9793-4457-96B0-66ADA1E9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541-F4DA-46BA-855F-65ED4085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CEA-BC79-4635-80B0-6BFD9C10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EF8-48F5-446B-ACB2-DED84C02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EC6-A9F2-41F0-8DBE-0B6D79C7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96A-6609-455A-8CF8-3B7446C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DA31-1BEE-4E4B-8E65-4A50FF25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D51-CDAA-41A1-93BD-CDCC3EA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619-92A4-4EA5-A54C-8FF455B0F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BI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162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91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086600" cy="3195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05120" y="4114800"/>
            <a:ext cx="3657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9T14:59:32Z</dcterms:modified>
  <cp:revision>95</cp:revision>
  <dc:subject/>
  <dc:title>The Art in the State of the Art</dc:title>
</cp:coreProperties>
</file>