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CA9A-C45D-4A6D-B861-00B1626B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2DDE-D5DD-4869-9535-EFC9E1E4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95B0-3E9E-452C-A2C3-CF3B5269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5C53-5163-4D18-92D1-FE904773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6AE1-FD31-4116-B842-4C6C1F95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B8DA-D33A-46BB-9A4E-C493FF5A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9BAF-AD52-4644-A488-9E1E9DAD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E90C-6660-4876-B432-77A43006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6316-E5D5-4B55-9BF6-325A9D14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F924-D2DD-4305-9D6D-F4E2EA89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B567-6319-4889-8B8F-034E2009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E9AA-C981-45DC-BEF2-8CA13055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C2E6-6795-4CC1-918B-DEB12ECA1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76197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xercises 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on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 EPI Issue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848720" cy="1219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70866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162560" cy="685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7315200" cy="598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90720" y="1523880"/>
            <a:ext cx="670536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143000" y="4343400"/>
            <a:ext cx="6553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4495680" cy="482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95280" y="2819520"/>
            <a:ext cx="7239240" cy="761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295280" y="1295280"/>
            <a:ext cx="5410440" cy="1219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371600" y="3886200"/>
            <a:ext cx="7086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8487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239240" cy="685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95280" y="1905120"/>
            <a:ext cx="5615280" cy="480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914400" y="4114800"/>
            <a:ext cx="7391520" cy="1155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371600" y="1066680"/>
            <a:ext cx="6858000" cy="762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143000" y="2590920"/>
            <a:ext cx="6705720" cy="1371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914400" y="5410080"/>
            <a:ext cx="7391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467840" cy="1271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3429000"/>
            <a:ext cx="800100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38080" y="1752480"/>
            <a:ext cx="7467840" cy="1551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85800" y="4724280"/>
            <a:ext cx="8001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5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162920" cy="609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5800" y="3429000"/>
            <a:ext cx="739152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90720" y="1219320"/>
            <a:ext cx="7391160" cy="1752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85800" y="4267080"/>
            <a:ext cx="7391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7T22:26:17Z</dcterms:modified>
  <cp:revision>102</cp:revision>
  <dc:subject/>
  <dc:title>The Art in the State of the Art</dc:title>
</cp:coreProperties>
</file>