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FA3-E96E-4318-847A-C41D1F2E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C0C-747C-4383-991D-10EC4339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5BC-C92C-4461-8B5C-FF13CAB9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9E0-CDF9-4BD1-98C4-01150F3A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B29-9A82-4ABC-BE00-C871F9C8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EEF-93AE-4BD5-A743-5C3FBA59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93F-2178-4B4C-8D95-0E1D0B68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788-E584-435A-A8EF-B46EE95F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9B9-CCF9-4213-AA1D-CE6A550A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C83-F20E-4D51-8E02-B17922A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57D-5714-4E80-9E27-149561DB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7A99-DACC-456F-ACE8-A534FF3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99DB-3BD5-4D64-9228-E2E311361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THE SYDNEY BEACH USERS STU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55200" y="510552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54840" y="5105520"/>
            <a:ext cx="23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1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62120" y="2084400"/>
            <a:ext cx="7619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383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8153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35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733920" cy="5181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350496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41520" y="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25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111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543800" cy="378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28800" y="5029200"/>
            <a:ext cx="3049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99036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54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09-15T20:56:44Z</dcterms:modified>
  <cp:revision>97</cp:revision>
  <dc:subject/>
  <dc:title>The Art in the State of the Art</dc:title>
</cp:coreProperties>
</file>