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C4B-AD19-4C59-BAF8-F77B482C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339-771D-484F-95FA-E4BC6217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64E-2803-4AB5-A74F-EBD1F424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FBE-1D71-42CD-9E00-151BB694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990-97F4-47C6-9832-855E5265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F0F-1A28-45BA-9610-CA46894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4E7-7B70-4921-B2E9-81C1E88D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3F0-0E60-4D28-B2F3-C6C87FB9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4E9-E08A-4AB7-91C2-32FD7C05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DDD-96AC-43C5-BB9C-29E5CD6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F3B-E4B1-471B-8B6A-EA465FD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DB8-3A62-4144-84E7-3D03133A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BA25-C8C9-4171-B0BA-6AE3EC09F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DESIG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16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934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86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3049560"/>
            <a:ext cx="6248160" cy="1979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3911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2808360"/>
            <a:ext cx="6705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922480"/>
            <a:ext cx="64771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543800" cy="1663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19320" y="2801880"/>
            <a:ext cx="670536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01028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71600" y="2732040"/>
            <a:ext cx="6477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934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29Z</dcterms:modified>
  <cp:revision>94</cp:revision>
  <dc:subject/>
  <dc:title>The Art in the State of the Art</dc:title>
</cp:coreProperties>
</file>