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C2F-DD4E-466F-8BBE-A8813E1F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9C6-D179-4D44-8F6C-ACCC1502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C75-ED66-418C-89F5-9DC2221D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99B-7934-4C2C-816E-A420EE5D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E0A-1887-4206-B890-0E5184A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D73-225F-459B-B4DC-01CA67BE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793-87E6-48A2-BBAD-2DB54F46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9D0E-20F9-4AEF-AC59-52F8725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72D-2FDE-400A-A69B-8A19D94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A49-F241-404D-B76B-8C7094F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185-20B0-4933-BB08-9442596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D626-5E7E-4799-8F9C-9C3B89D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F78E-3D94-4B08-BBE9-9647E763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WHAT IS EPIDEMIOLOGY 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7360" y="838080"/>
            <a:ext cx="833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this cours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 consider real-world health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llness problem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we show how epidemiologic concep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and methods allow us to study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understand, and solve such probl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8T17:17:59Z</dcterms:modified>
  <cp:revision>96</cp:revision>
  <dc:subject/>
  <dc:title>The Art in the State of the Art</dc:title>
</cp:coreProperties>
</file>