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918-2A4D-4DA0-9425-80B88298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DF3-277F-464F-B281-7333E476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7D6-6FD7-4A32-B6CB-79EFC666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848-02EB-4D00-A0A6-79A64777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003-DF8C-4554-8CFC-DF84D7BD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759-B910-441D-B20F-3CD79464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81D-DE31-4FF4-99EE-AFA9CBF2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F78-40EE-4F68-BBAC-C7C876A0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70F-80DE-47C4-A198-00ACFF51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EEF-3BAA-4603-90F5-90D26DE8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E8F-EE42-439B-BA3A-481BB55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6F0-8A42-42BC-A671-37A8237C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89A2-652C-4080-ADD7-7D2F95D03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Study De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361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784836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38080" y="5715000"/>
            <a:ext cx="777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84872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5800" y="5105520"/>
            <a:ext cx="7848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349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2120" y="5638680"/>
            <a:ext cx="777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772400" cy="322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772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7925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48720" cy="151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84872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85800" y="5943600"/>
            <a:ext cx="7848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924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273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76201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5486400"/>
            <a:ext cx="7620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6964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2012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14400" y="5562720"/>
            <a:ext cx="754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8:04Z</dcterms:modified>
  <cp:revision>103</cp:revision>
  <dc:subject/>
  <dc:title>The Art in the State of the Art</dc:title>
</cp:coreProperties>
</file>