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10CB-409A-4F63-8F04-F27A2BD6D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B03E-301F-42A2-802C-1044EA3BF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D908-1E44-45BB-8A11-E417A79FC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CC2A-7CE3-4941-BB2F-3D838EBA1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91B7-F1E6-4036-962A-D79A5B560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BD9B-75F1-4B75-9838-6A80881CA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7F67-CB53-4A16-B33F-0AF57E392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DE8A-67E3-482C-B5C5-D0E10E310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AADA-58AB-4E5D-A8B9-4CDA06808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06A5-4A02-4559-B35E-93A8EB767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7493-D3DF-4B41-8810-DBA00578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2581-D70C-4F9F-B1C5-CD9C5679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91C17-DB17-40D0-97B3-2D32296D11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37160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HYBRID DESIGNS</a:t>
            </a: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2388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3911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0102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70106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16256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0866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0866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219320" y="762120"/>
            <a:ext cx="7086600" cy="43956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219320" y="5105520"/>
            <a:ext cx="708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2392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219320" y="762120"/>
            <a:ext cx="693396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14440" y="914400"/>
            <a:ext cx="8629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f1f1d"/>
                </a:solidFill>
                <a:latin typeface="Times New Roman"/>
              </a:rPr>
              <a:t>Hybrid Designs</a:t>
            </a: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 combine the elements o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at least two basic designs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                           </a:t>
            </a: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o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extend the strategy of one basic desig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through repeti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15120" y="4191120"/>
            <a:ext cx="7269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Two popular hybrid designs are the</a:t>
            </a:r>
            <a:r>
              <a:rPr b="1" lang="en-US" sz="3600" spc="-1" strike="noStrike">
                <a:solidFill>
                  <a:srgbClr val="ef1f1d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f1f1d"/>
                </a:solidFill>
                <a:latin typeface="Times New Roman"/>
              </a:rPr>
              <a:t>case-cohort study </a:t>
            </a: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and the</a:t>
            </a:r>
            <a:r>
              <a:rPr b="1" lang="en-US" sz="3600" spc="-1" strike="noStrike">
                <a:solidFill>
                  <a:srgbClr val="ef1f1d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f1f1d"/>
                </a:solidFill>
                <a:latin typeface="Times New Roman"/>
              </a:rPr>
              <a:t>nested case-control study</a:t>
            </a:r>
            <a:r>
              <a:rPr b="1" lang="en-US" sz="2800" spc="-1" strike="noStrike">
                <a:solidFill>
                  <a:srgbClr val="ef1f1d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4038480"/>
            <a:ext cx="7772400" cy="2133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12360" y="1143000"/>
            <a:ext cx="801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f1f1d"/>
                </a:solidFill>
                <a:latin typeface="Times New Roman"/>
              </a:rPr>
              <a:t>Incomplete Desig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are studies in which information i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missing on one or more relevant facto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6080" y="3352680"/>
            <a:ext cx="7998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Two typ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a800"/>
                </a:solidFill>
                <a:latin typeface="Times New Roman"/>
              </a:rPr>
              <a:t>Ecologic Desig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b01bf5"/>
                </a:solidFill>
                <a:latin typeface="Times New Roman"/>
              </a:rPr>
              <a:t>Proportional (Morbidity or Mortality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01bf5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b01bf5"/>
                </a:solidFill>
                <a:latin typeface="Times New Roman"/>
              </a:rPr>
              <a:t>Desig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2120" y="3352680"/>
            <a:ext cx="7924680" cy="2438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238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2388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238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143000" y="762120"/>
            <a:ext cx="69343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086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086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238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80773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0102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7239240" cy="19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1629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010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69343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0102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62120" y="4876920"/>
            <a:ext cx="2235240" cy="1066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1066680"/>
            <a:ext cx="7315200" cy="38228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971800" y="4876920"/>
            <a:ext cx="510552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086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81536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238880" cy="51055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270880" y="227160"/>
            <a:ext cx="29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aiwan Stud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7238880" cy="26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716256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3-11-13T17:52:26Z</dcterms:modified>
  <cp:revision>111</cp:revision>
  <dc:subject/>
  <dc:title>The Art in the State of the Art</dc:title>
</cp:coreProperties>
</file>