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5CC-A522-4C6F-B0D2-4AD1365A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B47-1D6A-490A-A94E-84A4ABCF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DC4-60BC-4258-9429-B9147F34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F8B-17B2-4FDC-8B6C-D392845A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78A-C5AF-40D8-910E-AE5AFE2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3EA-C6F3-4ABF-80E3-64AD078D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948-F42F-4F43-BFE1-4B8CEF4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556-7BB6-4AFE-89AD-3E114E6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14E-0720-4B01-857D-DA83534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7C4-F72C-486B-BE40-D5CD42A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985-93CD-4EB0-ACE3-04F8653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468-56E9-4A00-839A-6AA17D9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D37-9124-4FC9-81C9-CE541445E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INTRODUCTION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TO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EPI STUDY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760" y="3576600"/>
            <a:ext cx="693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xperimental versus Observation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irectionality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iming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Clinical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Overview of observational designs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6212"/>
          <a:stretch/>
        </p:blipFill>
        <p:spPr>
          <a:xfrm>
            <a:off x="762120" y="18288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61979" r="0" b="8447"/>
          <a:stretch/>
        </p:blipFill>
        <p:spPr>
          <a:xfrm>
            <a:off x="762120" y="3657600"/>
            <a:ext cx="7315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784" t="0" r="0" b="81844"/>
          <a:stretch/>
        </p:blipFill>
        <p:spPr>
          <a:xfrm>
            <a:off x="1143000" y="914400"/>
            <a:ext cx="70102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28796" r="35878" b="0"/>
          <a:stretch/>
        </p:blipFill>
        <p:spPr>
          <a:xfrm>
            <a:off x="1143000" y="182880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39152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64714" r="0" b="0"/>
          <a:stretch/>
        </p:blipFill>
        <p:spPr>
          <a:xfrm>
            <a:off x="914400" y="52578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5085" r="-1069" b="0"/>
          <a:stretch/>
        </p:blipFill>
        <p:spPr>
          <a:xfrm>
            <a:off x="838080" y="3962520"/>
            <a:ext cx="7696440" cy="25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54843" t="24647" r="0" b="53559"/>
          <a:stretch/>
        </p:blipFill>
        <p:spPr>
          <a:xfrm>
            <a:off x="4800600" y="15238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843" t="35544" r="0" b="53559"/>
          <a:stretch/>
        </p:blipFill>
        <p:spPr>
          <a:xfrm>
            <a:off x="4800600" y="3124080"/>
            <a:ext cx="3200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5280" y="495288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7:45Z</dcterms:modified>
  <cp:revision>108</cp:revision>
  <dc:subject/>
  <dc:title>Intro to Epi Study Designs</dc:title>
</cp:coreProperties>
</file>