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21D-3ED5-41CF-AA9D-9E12EFC1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275-9D41-47CD-9C91-3F9EFCC5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82B-8E1B-450D-B267-050C7981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9D1-F31D-4449-8EDD-485FF1AB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064-523B-45FF-BCCF-93819AA9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6F97-DF7A-4057-8A1A-3B99CF76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C570-0BA6-4A7B-B85E-8B931E67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25D3-E1D8-4A6E-A149-62E4735B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E04-A142-4DEA-8BEA-F9BBE3A4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30C-88CA-43BF-BC09-7F3BD9B7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444-0F9B-443C-AC3B-C3852283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6CB3-9624-46F0-B7DE-9F9A8F5B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950E-B959-4CD6-8C99-77337A44B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ASE-CONTROL STUDI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010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858000" cy="1066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2006640" cy="2210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200400" y="2438280"/>
            <a:ext cx="2743200" cy="221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943600" y="25146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133720" y="4648320"/>
            <a:ext cx="4647960" cy="1523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200400" y="1828800"/>
            <a:ext cx="2819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858000" cy="1904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6858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62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933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4724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37335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495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90720" y="990720"/>
            <a:ext cx="19605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52480" y="4724280"/>
            <a:ext cx="5105520" cy="1155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31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934320" cy="2336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3880" y="3276720"/>
            <a:ext cx="640080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23880" y="4191120"/>
            <a:ext cx="6400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239240" cy="1625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38080" y="2286000"/>
            <a:ext cx="4114800" cy="2158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43840" y="4419720"/>
            <a:ext cx="44204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CHILD’S MEDICA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.g., aspiri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7010280" cy="1828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49680" y="1828800"/>
            <a:ext cx="3833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1028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76720" y="4114800"/>
            <a:ext cx="2819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10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30T14:15:56Z</dcterms:modified>
  <cp:revision>107</cp:revision>
  <dc:subject/>
  <dc:title>The Art in the State of the Art</dc:title>
</cp:coreProperties>
</file>