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829-9215-4A05-B3C6-4A38EC63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018-D64C-461D-844B-6DD734D9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71A6-E76A-4BAB-A64A-06BB8206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0C6-0D52-4D05-BA2E-F99F86DE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665-DD3B-4114-AC38-BD21E36A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519-2393-466B-8275-83755558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A4F-7675-44B3-90F6-097B27B5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FFC5-584C-4AFC-A690-ECEF6CEB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B71-115E-4916-AB28-E47884FE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1D1-D63D-4BCE-A19A-CE503E37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FF83-3AA3-412D-B865-3E83A7AE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D94-9E77-4C7C-BED3-49CD6E90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2EF3-2906-46F5-B78E-EC311F0F5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ROSS-SECTIONAL STUDIES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973240" y="2376360"/>
            <a:ext cx="31878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86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162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934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51:59Z</dcterms:modified>
  <cp:revision>106</cp:revision>
  <dc:subject/>
  <dc:title>The Art in the State of the Art</dc:title>
</cp:coreProperties>
</file>