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57C-3F94-408C-8E2B-828CA7A2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5FF-2AD0-44E9-BD0B-C4F42B1C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C2B-6383-4775-9FDE-70D0C4C3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44F-95FE-465A-84CA-B51AB6AB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233-576D-4004-A07F-6EAB61AD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68E-F120-4B70-B010-E56A20E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C4E-C02D-4F5B-93FC-FB2CEA9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D02-25B2-4A58-8F81-B4B1A7A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DB7-CD4F-49EA-BE6E-44F94080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0A4-4A40-4AF7-B2B8-FC9E0F8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091-568C-4C0E-A606-42F4AAC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CD2-8700-42C9-A435-1C22D89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EAAF-82D4-4AE2-AA2A-4B5D032AD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OF EPI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2:58Z</dcterms:modified>
  <cp:revision>96</cp:revision>
  <dc:subject/>
  <dc:title>The Art in the State of the Art</dc:title>
</cp:coreProperties>
</file>