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71C-535C-4795-85B9-3DCC7A1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286-6B77-47B5-887A-F73E3D1D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765-5759-4F7B-8892-3BA4AC6D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78C-7FE4-4086-B61C-951ED1F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AFC-911A-4B89-A1BC-6698E09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74D-409A-4A3E-BF84-6ECC32B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CCE-EA6E-48A3-A26D-346D0CD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478-7C44-4C4A-8F01-5F2DE93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545-3E7A-40F5-9788-F15D658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429-D2E7-442E-9DFD-236CB29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AB6-2B9D-49F5-953B-0891277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3E8-F233-4AA7-A611-B41ED96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B3AC-EABD-4182-B3E3-0B1DB1E39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ASE-CONTRO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73356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638680"/>
            <a:ext cx="32004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990720"/>
            <a:ext cx="54864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724280"/>
            <a:ext cx="12193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3505320"/>
            <a:ext cx="5335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3000" y="5715000"/>
            <a:ext cx="6934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162920" cy="162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19720"/>
            <a:ext cx="2743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82880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8288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23Z</dcterms:modified>
  <cp:revision>108</cp:revision>
  <dc:subject/>
  <dc:title>The Art in the State of the Art</dc:title>
</cp:coreProperties>
</file>