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98B-2581-4163-BA7A-3D260973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7FE-0DF2-4C4D-A686-1411F8F2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145-C041-4C64-A303-8A2DC1E0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DB9-0471-4036-9497-39AE0F82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2F0-2F15-469C-ADCE-1D5E64C7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F99-7701-4054-B2AC-6AFBB5D9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F71-9ADF-4E42-B5E1-A5E493F7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C33-B4CA-4B04-BC06-3C8DD24B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C537-6344-4B25-9637-DA12BDF4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B84-B130-44BC-8365-B7AE5587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B21D-6EC0-4BFB-B9C4-9E5AE2E3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687-3FB3-488C-B3FA-8F160808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2080-4278-4A17-99C2-55D5ED34E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OHORT STUDIE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162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1028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914400" cy="711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4880" y="30492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29680" y="24300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mou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93396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6324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1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5960" y="228600"/>
            <a:ext cx="25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48-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3276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444760" y="91440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933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151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2485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3000" y="2155680"/>
            <a:ext cx="67816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50:31Z</dcterms:modified>
  <cp:revision>107</cp:revision>
  <dc:subject/>
  <dc:title>The Art in the State of the Art</dc:title>
</cp:coreProperties>
</file>