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5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2851-2B74-458D-A617-A9C632DB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1685-4185-4A4D-8180-1CEB3432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3D22-E880-417D-BCD7-A7C7FE0B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04D7-EC60-4FC0-A0EC-0C5919C9C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C9A5-F80B-4400-B805-5F2C6642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6981-93C5-4303-85CC-21133AA0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F573-F5D6-4CAD-A342-C2CA3E01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BB4B-440D-48A5-A14F-0AF5EAF9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8663-3E6A-4788-9307-1EF12374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08D8-3B39-46BC-BAE4-3E603B41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5606-9FE4-4B8F-8BDD-6A272812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09E1-70D8-48AF-ABEA-8D7E71BB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5AFE-0B16-4BD8-A98A-B5F704308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HYBRID DESIGN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10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858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106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914400"/>
            <a:ext cx="862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Hybrid Designs</a:t>
            </a: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 combine the elements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at least two basic designs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                           </a:t>
            </a: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extend the strategy of one basic desig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through repeti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0200" y="4191120"/>
            <a:ext cx="7269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Two popular hybrid designs are the</a:t>
            </a: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case-cohort study </a:t>
            </a: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and the</a:t>
            </a: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nested case-control study</a:t>
            </a: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23888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16256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238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91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23888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10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23924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086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239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2392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858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315200" cy="4116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363680" y="5105520"/>
            <a:ext cx="711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The control for an earlier case may b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later c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4243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363680" y="5105520"/>
            <a:ext cx="711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The control for an earlier case may b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later c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553080" cy="3733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440000" y="4419720"/>
            <a:ext cx="711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The control for an earlier case may b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later c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4876920"/>
            <a:ext cx="2235240" cy="1041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62120" y="1066680"/>
            <a:ext cx="731520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086600" cy="3862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219320" y="4876920"/>
            <a:ext cx="708660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239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531200" cy="1231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38080" y="2514600"/>
            <a:ext cx="7467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7315200" cy="2971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7391520" cy="1218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90720" y="1752480"/>
            <a:ext cx="73152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23888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629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70102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9339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10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0-02T17:25:30Z</dcterms:modified>
  <cp:revision>107</cp:revision>
  <dc:subject/>
  <dc:title>The Art in the State of the Art</dc:title>
</cp:coreProperties>
</file>