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461-4E7C-4BBB-86D0-89D9DF6F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439-D5E0-4A5A-82D0-9AF5B651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81E-3F9B-44D0-BA2E-1797266D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486-0838-4872-B1B6-56C1D5BD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DEF-255C-4427-B642-9C0755AC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02F-4B50-46E6-A41B-2FA9599A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EA1-C8F3-43DE-8CAB-A942DEDE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A1C-F40C-4D9F-95C9-21EF7BA6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A21-CE4E-4865-8C88-96ADDC5E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93D-4B5C-4F78-9EEA-8BC90304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04B-A9FA-4F49-9657-5966C843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8F5-89CB-4066-B356-BA2D22F4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E2AD-71FD-4F61-A3F7-A5D1EE799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ROSS-SECTIONAL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5105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73240" y="2376360"/>
            <a:ext cx="3187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8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28680" y="1697040"/>
            <a:ext cx="4876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30T14:16:25Z</dcterms:modified>
  <cp:revision>105</cp:revision>
  <dc:subject/>
  <dc:title>The Art in the State of the Art</dc:title>
</cp:coreProperties>
</file>