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382-BFED-4C58-AF9E-3CEEA466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CF8-DAF3-4575-A8AB-4C23A74B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B34-F598-4686-9D6A-4DCA9F7C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72C-E12F-494A-BB44-F6F41B78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B9A-4057-4E97-AFB6-80E957B6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52B-99DC-4081-8D5A-F1AB4D95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5B4-91E2-449A-A77A-A516D028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6DC-5792-4E86-B1D8-346EE5A4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1B9-B57F-40A4-94C9-7615B846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E36-D8FA-403A-B261-C240DCAB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8CA-F379-4C2B-A796-21E2FB1C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EC4-F16A-47F4-98BF-1023D9EC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3D8B-BCFA-4E3D-AB27-81C9977C7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IMING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70102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3:47Z</dcterms:modified>
  <cp:revision>100</cp:revision>
  <dc:subject/>
  <dc:title>The Art in the State of the Art</dc:title>
</cp:coreProperties>
</file>