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DA7-0D1C-4277-8CF5-B25441C4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219-69D6-4D64-8556-68B2F1B4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7FC-70DC-495F-93A6-C85D91C2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38A-7D70-499D-A565-2DDEAA20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C6D-23F2-42B1-85B4-69E50789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C7F-AAF2-4018-8A01-7C982C63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792-5707-43E2-8834-64D98765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573-1734-4C4D-A1AB-4565BAF7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1DE-0D62-461F-B72C-C5BDA19C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7AA-B61D-42F1-8566-1D8B2428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03B-B40B-4871-A12E-8F290D92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E17-335A-44FA-8553-E92B9EF1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5F8C-4861-4CA0-8B49-84D6A8B6E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OBSERVATIONAL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Observational Study Desig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43000"/>
            <a:ext cx="84582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There are three general categories of observational desig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Basic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ohort, Case-Control, Cross-S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def6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Hybrid Designs: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ase-Cohort, Nested Case-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Incomplete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Ecologic, Propor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10280" cy="487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914400" cy="711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4880" y="30492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3396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324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327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44760" y="91440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99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7162920" cy="358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429000" y="762120"/>
            <a:ext cx="22096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248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43000" y="2155680"/>
            <a:ext cx="67816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46:49Z</dcterms:modified>
  <cp:revision>105</cp:revision>
  <dc:subject/>
  <dc:title>The Art in the State of the Art</dc:title>
</cp:coreProperties>
</file>