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F3C-2197-4AA5-9135-B71F66D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608-ADEE-49E0-BC0B-ACA49122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DB3-DAA2-40C6-B26B-88133103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F19-7875-4C2C-AF02-BD539D60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5E6-A88D-4FF0-B832-C59DC7B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65-2B0F-4488-9DED-AD3FB4B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C9D-EB51-413D-BAB0-A67DF7D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9A3-1B4B-4EF0-AA7B-DE68387A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A8F-410E-4B11-BC0E-A0F222A9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2A6-5DE0-4902-96C2-6A39F37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746-7277-426C-B70F-868D1FC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51E-0F47-4AB9-934E-80AEF50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631-169A-4EAE-872D-EDCCBE03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RECTIONALIT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16Z</dcterms:modified>
  <cp:revision>99</cp:revision>
  <dc:subject/>
  <dc:title>The Art in the State of the Art</dc:title>
</cp:coreProperties>
</file>