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809-EE7A-4078-8CA5-E96DD004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C66-CE24-46AF-9F29-6C34BEA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F9A-D5FF-4531-BFF9-499B0E47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943-E63C-4B66-9949-6EB4C305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E24-885C-4CA1-9683-2DE73D12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02F-6D8F-4786-9BE6-98961F76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3B9-14A5-43C1-8352-09A76576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652-C452-4506-9BE4-760A6AFF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44C-E120-4AC8-A6D6-B8A9D330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21-A2A8-487D-97D9-FB40728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971-6144-434A-BD2F-9E1655C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6A2-E4CA-4861-A9CF-9708EC6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89B-B8E7-4FC0-BA7E-09465CD6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55Z</dcterms:modified>
  <cp:revision>110</cp:revision>
  <dc:subject/>
  <dc:title>The Art in the State of the Art</dc:title>
</cp:coreProperties>
</file>