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587-1494-4143-8DBB-5153372A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561-3A47-4A84-9677-F3CAD3D2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C71-F610-4B87-8C1B-A428191A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036-459D-4525-A9C4-DCEC08DA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E69-FA40-41EB-8678-85883EF6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0AA-F753-4702-BB45-46A42356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B28-96A0-47E6-81CA-4D7081DC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D5E-26F3-4CDC-920E-AED8FD4E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952-00D2-4977-95E2-A1755573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72C-5609-41FA-9AFB-854DD04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B3A-7B20-40CB-A906-A5BBBF89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AF3-FCC1-4160-B553-596F8B0C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6B1B-C6AE-4B1E-8556-DD29C75C9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LINICAL TRIAL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LINICAL TRIAL EXAMPL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2565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76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39116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518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391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91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608800" cy="426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27432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774720" cy="106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257800" y="2819520"/>
            <a:ext cx="156204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0" y="297180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73911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7391160" cy="289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637080" y="2209680"/>
            <a:ext cx="1600200" cy="153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2133720"/>
            <a:ext cx="54612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237280" y="2438280"/>
            <a:ext cx="1562040" cy="117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010280" y="2209680"/>
            <a:ext cx="927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4:14Z</dcterms:modified>
  <cp:revision>102</cp:revision>
  <dc:subject/>
  <dc:title>The Art in the State of the Art</dc:title>
</cp:coreProperties>
</file>