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8BF9-FF8F-47E6-9876-5EFC600F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B6B-B408-4573-8DD5-E747666E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181B-BC65-415C-A974-AC1E6EF1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7134-6218-448B-BF79-75B53DC3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011-896B-4CD6-B1B6-D078E806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DF7-88A8-4237-94FC-588A97D8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220E-07EF-4BE0-916F-BE5E63F7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5E0C-2EDA-4638-952E-8E7E66EE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F38C-FD59-4ABE-B496-2B17FAD5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C0DF-D6C7-47C0-9454-2C987A7A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3878-E225-4E24-845C-3F838849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7ED5-0930-4121-96F2-881CF19E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7831-D6D2-4160-BC01-1EC4B07C3D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4480" y="2514600"/>
            <a:ext cx="183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a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86600" cy="2895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21720" y="1235160"/>
            <a:ext cx="34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 Epidemiolog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21720" y="1235160"/>
            <a:ext cx="34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 Epidemiolog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162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91520" cy="495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38680" y="3886200"/>
            <a:ext cx="1676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 ea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72388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238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7820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010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858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239240" cy="5638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553080" y="5410080"/>
            <a:ext cx="15242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9000" y="304920"/>
            <a:ext cx="59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athematics of a R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thematics of a Ra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534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1600" y="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thematics of a Ra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077320" cy="4876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90720" y="380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thematics of a Ra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162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34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86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7T15:08:09Z</dcterms:modified>
  <cp:revision>179</cp:revision>
  <dc:subject/>
  <dc:title>Slide 1</dc:title>
</cp:coreProperties>
</file>