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4.png" ContentType="image/png"/>
  <Override PartName="/ppt/media/image17.wmf" ContentType="image/x-wmf"/>
  <Override PartName="/ppt/media/image35.png" ContentType="image/png"/>
  <Override PartName="/ppt/media/image12.png" ContentType="image/png"/>
  <Override PartName="/ppt/media/image36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20.png" ContentType="image/png"/>
  <Override PartName="/ppt/media/image21.wmf" ContentType="image/x-wmf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B6C9-E941-4ED1-BB73-7ECA4E50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5D5-4055-4043-A650-ECDAABFC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4057-DCAC-4435-819D-ACB61E07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F5D-06B5-48BB-9699-77BCE3A5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C7F-50DA-4594-AA7F-D2687EBC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462-6F2A-495C-B5AC-908B0FB4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5BF-25FE-4EE2-8F39-011F78F8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343-2C0A-4EED-88FF-B759036C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BCC-6C44-47EE-A5D0-85B91936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1B0-6C95-444F-966A-BA919226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2298-BBCA-4EBF-A4CC-7EDC3237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691E-B6F6-4DFF-8007-100963E7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4ADF-5C51-43E2-98EF-A8F185BEF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Measures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of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Disease Frequency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12560" y="3962520"/>
            <a:ext cx="452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ates, Ratios, and Propo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idence versus Preva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 versus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/Rat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ouse Guest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724640" cy="3581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73440" y="5450040"/>
            <a:ext cx="667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uests arrive 2 per day and stay 5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w many guests in the house after a w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swer: 10 (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P=10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I=2, </a:t>
            </a: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D=5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robability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at an individual with certain characteristics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S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Smoking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ill experience a health status change over a specified follow-up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cc33"/>
                </a:solidFill>
                <a:uFillTx/>
                <a:latin typeface="Arial"/>
              </a:rPr>
              <a:t>Assumes:</a:t>
            </a: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Does not have disease at start of follow-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cc33"/>
                </a:solidFill>
                <a:latin typeface="Arial"/>
              </a:rPr>
              <a:t>Does not die from other cause during follow-up</a:t>
            </a:r>
            <a:r>
              <a:rPr b="1" lang="en-US" sz="2600" spc="-1" strike="noStrike">
                <a:solidFill>
                  <a:srgbClr val="ff505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 ≤ RISK≤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% ≤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rcentag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≤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risk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10-year risk that a 45-year-old male will develop prostate cancer is 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 = # of new cases during follow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 = # of disease-free subjects at start of follow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asures the frequency of addition of new cases of  disease and is always calculated for a given perio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514600" cy="19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51892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859360" y="3941280"/>
            <a:ext cx="328464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14758" r="0" b="0"/>
          <a:stretch/>
        </p:blipFill>
        <p:spPr>
          <a:xfrm>
            <a:off x="685800" y="1295280"/>
            <a:ext cx="7772400" cy="3364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4648320"/>
            <a:ext cx="7772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umulative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st common way to estimate 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lways a pro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ssumes a fixed co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 brief specified periods of time, e.g. an outbreak, commonly called an Attack “Ra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ware of at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ormula does not reflect continually changing population size for dynamic coh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es not allow subjects to be followed for different time peri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30162" r="0" b="0"/>
          <a:stretch/>
        </p:blipFill>
        <p:spPr>
          <a:xfrm>
            <a:off x="1143000" y="2438280"/>
            <a:ext cx="7086600" cy="3353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0" t="0" r="0" b="80021"/>
          <a:stretch/>
        </p:blipFill>
        <p:spPr>
          <a:xfrm>
            <a:off x="1143000" y="1371600"/>
            <a:ext cx="708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28584" r="0" b="0"/>
          <a:stretch/>
        </p:blipFill>
        <p:spPr>
          <a:xfrm>
            <a:off x="609480" y="1981080"/>
            <a:ext cx="8001000" cy="3810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0" t="0" r="0" b="80021"/>
          <a:stretch/>
        </p:blipFill>
        <p:spPr>
          <a:xfrm>
            <a:off x="609480" y="914400"/>
            <a:ext cx="8001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23948" r="0" b="0"/>
          <a:stretch/>
        </p:blipFill>
        <p:spPr>
          <a:xfrm>
            <a:off x="762120" y="2057400"/>
            <a:ext cx="754380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0" r="0" b="80021"/>
          <a:stretch/>
        </p:blipFill>
        <p:spPr>
          <a:xfrm>
            <a:off x="762120" y="990720"/>
            <a:ext cx="7543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R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scribes how rapidly health events are occurring in a population of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 Epidemiologic studies, we typically measure the average rate at which a disease is occurring over a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 new cases per 10,000 person-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Interpret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 average of 50 cases occurs for every 10,000 years of disease free follow-up time observed on a cohort of su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ypothetical data on the frequency of hepatitis in two c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233172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Location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New cases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Year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A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58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00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B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3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2001-200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7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ich of these describes a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 new cases per 100 person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0 miles per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 new cases out of 100 disease-free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0 new murders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0 deaths out of 200 lung cancer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cidence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 = # of new cases during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T = total time that disease–free individuals in the cohort are observed over the study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Synonyms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hazard rate, incidence density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asures the rapidity with which new cases are occurring in 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281952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xample</a:t>
            </a:r>
            <a:br>
              <a:rPr sz="36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ypothetical cohort of 12 initially disease-free subjects followed over a 5-year period from 1990 to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udy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s the value of 0.20 a propor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oes the value of 0.20 represent the risk of developing dise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25156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620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arkinson’s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467480" cy="302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467480" cy="885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990720" y="5105520"/>
            <a:ext cx="7467480" cy="696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66680" y="4267080"/>
            <a:ext cx="3048120" cy="838440"/>
          </a:xfrm>
          <a:prstGeom prst="rect">
            <a:avLst/>
          </a:prstGeom>
          <a:solidFill>
            <a:srgbClr val="fffff7"/>
          </a:solidFill>
          <a:ln w="936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fusing Risk with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term “Rate” is often been used incorrectly to describe a measure of ri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e.g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Attack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Case-Fatality Rat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hen reading Epidemiologic literature, one should be careful to determine the actual measure being repor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easures existing cases of a health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rimary feature of a cross-sectional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wo types of Pre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Point pre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Period pre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oint 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 = # of observed cases at time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 = Population size at time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asures the frequency of disease at a given point 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00400" y="1295280"/>
            <a:ext cx="22860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oint Prevalence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ppose there are 150 individuals in a population and, on a certain day, 15 are ill with the flu.  What is the estimated prevalence for this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33526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tudy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s point prevalence a propor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ppose 13 people from a population of size 406,245 had a particular disease at time t.  What is the point prevalence of this disease at time 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ich of the following expressions is equivalent to the point prevalence estimate of 0.00003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2 per 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2 per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2 per 1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ypothetical data on the frequency of hepatitis in two c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Location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New cases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Year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   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A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58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00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B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3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2001-200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7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nual rate of occurrence of hepatit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A:  58 / 25,000 / 1 year =  232/10</a:t>
            </a:r>
            <a:r>
              <a:rPr b="1" lang="en-US" sz="2800" spc="-1" strike="noStrike" baseline="34000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/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ty B:  35 / 7000 / 2 years = 17.5 / 7000 / 1 y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= 250/10</a:t>
            </a:r>
            <a:r>
              <a:rPr b="1" lang="en-US" sz="2800" spc="-1" strike="noStrike" baseline="34000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/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Useful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ssessing the health status of a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lanning health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t Useful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dentifying risk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eriod Pre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 = the # of prevalent cases at the beginning of the time peri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 = the # of incident cases that develop during the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 = size of the population for this same time peri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35816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ppose we followed a population of 150 persons for one year, and 25 had a disease of interest at the start of follow-up and another 15 new cases developed during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at is the period prevalence for the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)    What is the point prevalence at the start of the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)    What is the cumulative incidence for the one year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ppose we followed a population of 150 persons for one year, and 25 had a disease of interest at the start of follow-up and another 15 new cases developed during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at is the period prevalence for the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P = (25 + 15) / 150 = 0.27 or 2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)  What is the point prevalence at the start of the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 = 25/150 = 0.17 = 1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)  What is the cumulative incidence for the one year peri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I = 15/125 = 0.12 =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ortality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ease-Specific Mortality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l-causes Mortality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se-Fatality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00400" y="3581280"/>
            <a:ext cx="26668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Mortality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ease-Specific Mortality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l-causes Mortality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se-Fatality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00400" y="3657600"/>
            <a:ext cx="25146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7440" y="1676520"/>
            <a:ext cx="43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Adjust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0" t="0" r="0" b="20866"/>
          <a:stretch/>
        </p:blipFill>
        <p:spPr>
          <a:xfrm>
            <a:off x="685800" y="6094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0" t="0" r="0" b="16923"/>
          <a:stretch/>
        </p:blipFill>
        <p:spPr>
          <a:xfrm>
            <a:off x="533520" y="457200"/>
            <a:ext cx="7924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239240" cy="3962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7239240" cy="1143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58000" y="1752480"/>
            <a:ext cx="1447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ates, Ratios,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general classes of mathematical parame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ften used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relate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number of cas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f 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disease or health outcome to the size of the source popul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which they occur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0" t="0" r="0" b="14082"/>
          <a:stretch/>
        </p:blipFill>
        <p:spPr>
          <a:xfrm>
            <a:off x="838080" y="762120"/>
            <a:ext cx="7620120" cy="5333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705720" y="5715000"/>
            <a:ext cx="167616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14400" y="5715000"/>
            <a:ext cx="74674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467840" cy="3505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4678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620120" cy="3353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620120" cy="990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705720" y="1828800"/>
            <a:ext cx="17524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0" t="0" r="0" b="20528"/>
          <a:stretch/>
        </p:blipFill>
        <p:spPr>
          <a:xfrm>
            <a:off x="762120" y="53352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76212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685800" y="76212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0" t="39642" r="0" b="17499"/>
          <a:stretch/>
        </p:blipFill>
        <p:spPr>
          <a:xfrm>
            <a:off x="1371600" y="1295280"/>
            <a:ext cx="6324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4267080"/>
            <a:ext cx="73152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0" t="39642" r="0" b="17499"/>
          <a:stretch/>
        </p:blipFill>
        <p:spPr>
          <a:xfrm>
            <a:off x="762120" y="914400"/>
            <a:ext cx="75438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0" r="0" b="19752"/>
          <a:stretch/>
        </p:blipFill>
        <p:spPr>
          <a:xfrm>
            <a:off x="685800" y="304920"/>
            <a:ext cx="79246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btained by dividing one quantity by another.  These quantities may be related or may be totally indepen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sually expressed as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umber of stillbirths per thousand live bir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eneral term that includes Rates and Propor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743200" y="4343400"/>
            <a:ext cx="2514600" cy="838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267080" y="2438280"/>
            <a:ext cx="1143000" cy="10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op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 ratio in which the numerator is included in the denomin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pressed a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here, 1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s often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 number of fetal deaths out of the total number of bir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swer often read as a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4038480" cy="95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1219320" cy="1087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419112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 measure of how quickly something of interest happe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press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 number of new cases of Parkinson’s disease which develops per 1,000 person-years of follow-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ime, place and population must be specified for each type of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440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6248160" cy="874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352680" y="2286000"/>
            <a:ext cx="114300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easures of Disease Frequ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Arial"/>
              </a:rPr>
              <a:t>Incidence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(I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asur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Arial"/>
              </a:rPr>
              <a:t>n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ases of a disease that develop over a perio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9900"/>
                </a:solidFill>
                <a:uFillTx/>
                <a:latin typeface="Arial"/>
              </a:rPr>
              <a:t>Prevalence</a:t>
            </a: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 (P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asur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669900"/>
                </a:solidFill>
                <a:uFillTx/>
                <a:latin typeface="Arial"/>
              </a:rPr>
              <a:t>exis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ases of a disease at a particular point in time or over a perio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revalence vs. Inc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14111" t="15269" r="7598" b="31662"/>
          <a:stretch/>
        </p:blipFill>
        <p:spPr>
          <a:xfrm>
            <a:off x="2362320" y="1295280"/>
            <a:ext cx="4495680" cy="2362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1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reval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n be viewed as describing a pool of disease in a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Inci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scribes the input flow of new cases into the p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atality and recovery reflects the output flow from the po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1:37:56Z</dcterms:created>
  <dc:creator>David G. Kleinbaum</dc:creator>
  <dc:description/>
  <dc:language>en-US</dc:language>
  <cp:lastModifiedBy>dkleinb</cp:lastModifiedBy>
  <dcterms:modified xsi:type="dcterms:W3CDTF">2005-01-10T19:55:51Z</dcterms:modified>
  <cp:revision>1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86904489</vt:r8>
  </property>
  <property fmtid="{D5CDD505-2E9C-101B-9397-08002B2CF9AE}" pid="3" name="_AuthorEmail">
    <vt:lpwstr>dgk0@cdc.gov</vt:lpwstr>
  </property>
  <property fmtid="{D5CDD505-2E9C-101B-9397-08002B2CF9AE}" pid="4" name="_AuthorEmailDisplayName">
    <vt:lpwstr>Kleinbaum, David</vt:lpwstr>
  </property>
  <property fmtid="{D5CDD505-2E9C-101B-9397-08002B2CF9AE}" pid="5" name="_EmailSubject">
    <vt:lpwstr>meas of disease freq pp attached</vt:lpwstr>
  </property>
  <property fmtid="{D5CDD505-2E9C-101B-9397-08002B2CF9AE}" pid="6" name="_ReviewingToolsShownOnce">
    <vt:lpwstr/>
  </property>
</Properties>
</file>