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4B81-A887-4D7D-BA65-0CBFE329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2A48-3144-4675-A901-8C4D59E0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0793-0E97-4956-94E6-35E02842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746A-69AC-42EC-B558-DDFB99A6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5903-83E5-4DA5-BA45-DBC34A54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C2B6-7FA4-442E-86E1-9CA0A5C6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D342-19D3-4834-AA85-EE549A80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254D-3E19-45C5-8FC2-920EEF57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C209-E75A-456D-A4C5-43BA9499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1D5A-6390-4793-A5BF-36A04098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2A5B-2C83-4088-93E2-66B58CCB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8E2E-C244-4573-A11C-79431D65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2594-C29B-447A-924C-3C3006B14C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7440" y="2209680"/>
            <a:ext cx="428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alculat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a  Ra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781680" cy="1612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19320" y="2286000"/>
            <a:ext cx="6781680" cy="1444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219320" y="3657600"/>
            <a:ext cx="6781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46748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7467480" cy="1384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7467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239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760" y="2057400"/>
            <a:ext cx="7124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etermin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erson-Time (PT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543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391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638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90920" y="3352680"/>
            <a:ext cx="4952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962520"/>
            <a:ext cx="1524240" cy="205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467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239240" cy="4952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490920" y="32076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15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96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858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7T15:08:36Z</dcterms:modified>
  <cp:revision>183</cp:revision>
  <dc:subject/>
  <dc:title>Slide 1</dc:title>
</cp:coreProperties>
</file>