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2E6-2B46-4FA3-8C9E-E2F11DCF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695-E8B6-461F-958E-1D9A3F5F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046-53B8-41BF-85CE-F79E5C48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A86-E521-4F21-9A29-EC0C63AC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794-5A43-4ACA-9CFB-0C45D581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9E9-9950-41D4-9878-FEFC67BC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6056-025D-4D7D-B496-D50558D5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4E0-FFFF-443B-B0CD-B6072C2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AAE-892F-49BD-8E84-E6A1360A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123-5A49-489C-8B9B-1566243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24B-8ED7-4DE1-A158-18130400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6B2-E41D-4850-AD54-8C02F488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323B-2455-4BAA-A2FF-2FA7E21953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7280" y="1447920"/>
            <a:ext cx="284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versu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3396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86400"/>
            <a:ext cx="457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334120"/>
            <a:ext cx="914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086600" cy="241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3809880"/>
            <a:ext cx="1371600" cy="762120"/>
          </a:xfrm>
          <a:prstGeom prst="rect">
            <a:avLst/>
          </a:pr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84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17Z</dcterms:modified>
  <cp:revision>189</cp:revision>
  <dc:subject/>
  <dc:title>Slide 1</dc:title>
</cp:coreProperties>
</file>