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494-4841-4A81-A100-DEAF110A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0EE-C54A-446E-A3A7-9910D7F3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4EE-95C3-424C-8BD3-3B7F5D90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EC3F-F6D0-4531-BA15-A8000309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6BF-A811-4DAA-A513-C199366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F4F-349B-4A94-9FB9-35189B9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411-F1A2-4BA9-9CDE-3812FD8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E81-16DD-446F-9509-7C9F170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C92-62C2-4396-A09D-75C1D21E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EEA-7E58-477E-A321-CBEDDC2E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392-CDDD-4806-9917-24A1BAE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131-843B-432A-AAA1-092D724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28A-16DB-47E2-8C6D-292CFD66FB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320" y="1295280"/>
            <a:ext cx="801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Problem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              </a:t>
            </a: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wit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Cumulative Inciden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0" y="571500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01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7:25Z</dcterms:modified>
  <cp:revision>177</cp:revision>
  <dc:subject/>
  <dc:title>Slide 1</dc:title>
</cp:coreProperties>
</file>