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03F-3D48-43C0-9209-D00242F3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79D5-178A-4037-84C1-8001DBE1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5E9D-7176-4C34-8B88-150B0B01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88B8-3EDE-4232-AFF4-826114B2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35D9-5C0C-4975-A794-78CC75DF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CFA-C0A9-4680-8F8B-37A373A9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73E-E2F6-4E87-8C02-7C62DEAE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04D-C35F-4865-9BB3-800184E2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0D9-CC97-4E04-9F4E-0E12DA66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4B2-85A5-43D6-B761-D79B13CD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188C-AF26-48A4-82A2-43A576B7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C21-3B9C-457D-AAAD-4C875FC8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72F6-9CDA-40F6-A6D2-2A082DFA7C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0720" y="2362320"/>
            <a:ext cx="378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ortalit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933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34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858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934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20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53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77240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934320" y="586728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543800" cy="1447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7467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67840" cy="1282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7467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1371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05720" y="1523880"/>
            <a:ext cx="16002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7543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858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315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10:08Z</dcterms:modified>
  <cp:revision>195</cp:revision>
  <dc:subject/>
  <dc:title>Slide 1</dc:title>
</cp:coreProperties>
</file>