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842-FA24-48DF-A7CA-ADA42B6B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9A3-F307-45A6-B107-944C289A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A70-4C5A-486D-B6A5-27807E3E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09E-2FC4-484D-93CC-705F7BC5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9C37-C3EE-4FE3-A6B1-7CA6C61F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A30-EA77-4D74-9C20-2A31CAB4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6D5-BD8F-4312-B8DC-9AFA2645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DCD-E8A3-4965-AA3D-34297660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4DD-C99B-4E0E-B2F6-A9462807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15E-2B3E-4659-A85C-9CBCE903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CA91-1DC7-4B88-86DB-DE7F248A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61B-D440-4DF9-B7DA-A5BD0488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8C7D-96DF-4D71-8DB2-CD527562A9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440" y="1676520"/>
            <a:ext cx="43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g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djust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1143000" y="838080"/>
            <a:ext cx="7010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20528"/>
          <a:stretch/>
        </p:blipFill>
        <p:spPr>
          <a:xfrm>
            <a:off x="838080" y="838080"/>
            <a:ext cx="7391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066680" y="1371600"/>
            <a:ext cx="72392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83808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762120" y="83808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6094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9144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76212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114300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14633"/>
          <a:stretch/>
        </p:blipFill>
        <p:spPr>
          <a:xfrm>
            <a:off x="685800" y="60948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17499"/>
          <a:stretch/>
        </p:blipFill>
        <p:spPr>
          <a:xfrm>
            <a:off x="762120" y="533520"/>
            <a:ext cx="7619760" cy="5790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666880" y="2895480"/>
            <a:ext cx="3810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85017"/>
          <a:stretch/>
        </p:blipFill>
        <p:spPr>
          <a:xfrm>
            <a:off x="990720" y="228600"/>
            <a:ext cx="761976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0" t="39642" r="0" b="17499"/>
          <a:stretch/>
        </p:blipFill>
        <p:spPr>
          <a:xfrm>
            <a:off x="990720" y="1600200"/>
            <a:ext cx="7619760" cy="251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76197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39642" r="0" b="17499"/>
          <a:stretch/>
        </p:blipFill>
        <p:spPr>
          <a:xfrm>
            <a:off x="838080" y="1447920"/>
            <a:ext cx="7620120" cy="3047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13932" r="0" b="75366"/>
          <a:stretch/>
        </p:blipFill>
        <p:spPr>
          <a:xfrm>
            <a:off x="838080" y="380880"/>
            <a:ext cx="7620120" cy="1067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46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39642" r="0" b="17499"/>
          <a:stretch/>
        </p:blipFill>
        <p:spPr>
          <a:xfrm>
            <a:off x="914400" y="1600200"/>
            <a:ext cx="7620120" cy="3048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24646" r="0" b="66329"/>
          <a:stretch/>
        </p:blipFill>
        <p:spPr>
          <a:xfrm>
            <a:off x="914400" y="609480"/>
            <a:ext cx="762012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90720" y="4648320"/>
            <a:ext cx="7467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0" b="19752"/>
          <a:stretch/>
        </p:blipFill>
        <p:spPr>
          <a:xfrm>
            <a:off x="685800" y="685800"/>
            <a:ext cx="7924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6923"/>
          <a:stretch/>
        </p:blipFill>
        <p:spPr>
          <a:xfrm>
            <a:off x="762120" y="533520"/>
            <a:ext cx="7924680" cy="5333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777240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86600" y="6095880"/>
            <a:ext cx="1447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239240" cy="396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23924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0" y="175248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4082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05720" y="5715000"/>
            <a:ext cx="16761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5715000"/>
            <a:ext cx="74674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4678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5384"/>
          <a:stretch/>
        </p:blipFill>
        <p:spPr>
          <a:xfrm>
            <a:off x="685800" y="914400"/>
            <a:ext cx="7848720" cy="4343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7619760" cy="99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05720" y="5257800"/>
            <a:ext cx="17524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619760" cy="3353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7619760" cy="99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0" y="1371600"/>
            <a:ext cx="17524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36713"/>
          <a:stretch/>
        </p:blipFill>
        <p:spPr>
          <a:xfrm>
            <a:off x="838080" y="1219320"/>
            <a:ext cx="76964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9T17:29:20Z</dcterms:modified>
  <cp:revision>201</cp:revision>
  <dc:subject/>
  <dc:title>Slide 1</dc:title>
</cp:coreProperties>
</file>