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762-2AFE-4B4B-951F-3C5891F4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CB1-0829-45C9-8A72-6F54FC4C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A47-57C4-454E-9E47-42A3CB34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DB5-E638-496E-8C60-749378B2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178-0864-4FE6-8E83-3D1D0F3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E2B-5F65-4E8E-ADB7-0764E12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375-A10B-4FE3-BE69-9358BEFF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2A8-11A0-4465-8A03-095839A3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B78-7CA0-4A53-9B90-C0B6AF21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7D6-CF8B-4BE2-AC7D-6D4AE1DC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5EA-12EE-4B17-A677-F07B046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EE2-3584-4C42-9539-0F0EB98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0619-65F9-4EE6-BFA6-F0033B702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92360"/>
            <a:ext cx="83822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s, Ratios and Proportions</a:t>
            </a:r>
            <a:br>
              <a:rPr sz="40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Measures of Disease Frequenc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ncy D. Barker, M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Incidence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(I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that develop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 </a:t>
            </a:r>
            <a:r>
              <a:rPr b="0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ses of a disease at a particular point in time or over a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viewed as describing a pool of disease in a pop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scribes the input flow of new cases into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ality and recovery reflects the output flow from the p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# of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isease-free subjec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t start of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76720" y="1219320"/>
                <a:ext cx="2514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1981080" y="1295280"/>
            <a:ext cx="5029200" cy="3364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50292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way to estimate ris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a propor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s a fixed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rief specified periods of time, e.g. an outbreak, commonly called an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ttack “Rat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ware of 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allow subjects to be followed for different time peri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1295280"/>
                <a:ext cx="22860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int Prevalen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4267080"/>
                <a:ext cx="3352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size of the population for this same ti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666880" y="1600200"/>
                <a:ext cx="35816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used t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e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number of ca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disease or health outcome to the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ize of the source popu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which they occur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iod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ye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int preval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the start of the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What is th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mulative inc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e one year perio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5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≤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I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≤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% ≤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Interpreta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= # of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ew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uring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T =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tal 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disease–free individuals in the cohort are observed over the study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Synonym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124080" y="1219320"/>
                <a:ext cx="281952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xample</a:t>
            </a:r>
            <a:br>
              <a:rPr sz="3600"/>
            </a:b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1295280"/>
                <a:ext cx="60962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R</m:t>
                            </m:r>
                          </m:e>
                          <m:lim/>
                        </m:limUpp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20 new cases per 100 person-yea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572000" cy="2724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572000" cy="885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209680" y="5105520"/>
            <a:ext cx="4572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“Rate” is often been used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ncor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scribe a measure of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.g.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ttack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ath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se-Fatality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isk (proportion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Arial"/>
              </a:rPr>
              <a:t>Assumes: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have disease at start of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Does not die from other cause during follow-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00400" y="3581280"/>
                <a:ext cx="26668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0400" y="3657600"/>
                <a:ext cx="251460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D-ROM; Kleinba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pi Companion Textbook; Kleinbaum, Sullivan, Ba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 in Medicine, Hennek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io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w cas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ear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3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nual occurrence of Hepatit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A:  62 / 25,000  =  2.5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B:  35 / 7,000 = 5.0 per 1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Number of stillbirths per thousand live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term that includes Rates and Propor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43200" y="4343400"/>
                <a:ext cx="2514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stillbir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live bir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267080" y="2438280"/>
                <a:ext cx="11430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foodborne epidemic occurred in an elementary school.  The attack rate in the first grade was 24% while the attack rate in the second grade was 16%.  Compare these two attack 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Ratio or Relative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7280" y="3913200"/>
                <a:ext cx="147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,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fetal deaths out of the total number of bir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2133720"/>
                <a:ext cx="12193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666880" y="4114800"/>
                <a:ext cx="4191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ve births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fetal deaths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00 people attended a company picnic and 50 became ill with acute enteric disease.  Calculate the proportion of ill pers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0" y="4648320"/>
                <a:ext cx="4038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fetal death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births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362400" y="3581280"/>
                <a:ext cx="2646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number of new cases of Parkinson’s disease which develops per 1,000 person-years of follow-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, place and population must be specified for each type of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4343400"/>
                <a:ext cx="62481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new cases of Parkinson's dise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time disease-free subjects observ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52680" y="2286000"/>
                <a:ext cx="1143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Nancy Barker</dc:creator>
  <dc:description/>
  <dc:language>en-US</dc:language>
  <cp:lastModifiedBy>Nancy Barker</cp:lastModifiedBy>
  <dcterms:modified xsi:type="dcterms:W3CDTF">2004-09-22T15:48:14Z</dcterms:modified>
  <cp:revision>172</cp:revision>
  <dc:subject/>
  <dc:title>Slide 1</dc:title>
</cp:coreProperties>
</file>