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12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wmf" ContentType="image/x-wmf"/>
  <Override PartName="/ppt/media/image45.png" ContentType="image/png"/>
  <Override PartName="/ppt/media/image10.png" ContentType="image/png"/>
  <Override PartName="/ppt/media/image37.png" ContentType="image/png"/>
  <Override PartName="/ppt/media/image7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33885-A25D-4F1C-B645-9AE6FEC77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FD038-A6DB-48D5-8017-03D647DA5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33607-52A8-4D44-A7CD-56749967E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AD93F-56CC-4EE2-BDF4-904C0FB40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E7034-B663-4769-AFF1-A3ECD4318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DA814-4CDE-400D-9389-7AF319243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EE032-3BC9-4734-900A-9BB2D0919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ECBFD-92C9-46A3-A3EE-09DBCB6A4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EA134-6111-41EA-919B-75DF19C18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44E34-763A-42DC-86D7-B630FA0CA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FB233-B383-47AF-B292-C7E964415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5A6DB-6D02-4FD8-B5B2-6CDFB8B95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29A10-BD5C-45BB-8BA8-D362500F65F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image" Target="../media/image45.png"/><Relationship Id="rId3" Type="http://schemas.openxmlformats.org/officeDocument/2006/relationships/image" Target="../media/image45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560" y="2057400"/>
            <a:ext cx="838188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Measures of </a:t>
            </a:r>
            <a:br>
              <a:rPr sz="6000"/>
            </a:b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Disease Frequency-</a:t>
            </a:r>
            <a:br>
              <a:rPr sz="6000"/>
            </a:b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Risk</a:t>
            </a:r>
            <a:br>
              <a:rPr sz="6000"/>
            </a:br>
            <a:endParaRPr b="0" lang="en-US" sz="60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990720" y="838080"/>
            <a:ext cx="7391160" cy="2362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990720" y="3200400"/>
            <a:ext cx="739116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838080" y="914400"/>
            <a:ext cx="7467840" cy="20574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838080" y="2968560"/>
            <a:ext cx="7467840" cy="20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4674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372680" y="2438280"/>
            <a:ext cx="5897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Estimating Risk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0866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914400" y="914400"/>
            <a:ext cx="739152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7162920" cy="3962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988920" y="5181480"/>
            <a:ext cx="773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Technically, CI is not equivalent to Individual Risk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but these two terms are often used interchangeabl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914400" y="990720"/>
            <a:ext cx="7467480" cy="48765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5867280" y="4038480"/>
            <a:ext cx="213372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3152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828800" y="3352680"/>
            <a:ext cx="5562720" cy="24386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1523880" y="990720"/>
            <a:ext cx="617220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746748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066680" y="914400"/>
            <a:ext cx="7315200" cy="5029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1523880" y="4038480"/>
            <a:ext cx="175284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066680" y="838080"/>
            <a:ext cx="7162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762120" y="762120"/>
            <a:ext cx="754380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838080" y="533520"/>
            <a:ext cx="7696440" cy="53337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1066680" y="5867280"/>
            <a:ext cx="69343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915120" y="2362320"/>
            <a:ext cx="7078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Shifting the Cohort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143000" y="990720"/>
            <a:ext cx="701028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066680" y="533520"/>
            <a:ext cx="7162920" cy="449892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767160" y="5257800"/>
            <a:ext cx="7808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What if we allow subjects to enter the cohor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afterthe start of the study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905120"/>
            <a:ext cx="175248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066680" y="990720"/>
            <a:ext cx="70866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914400" y="838080"/>
            <a:ext cx="731520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1219320" y="990720"/>
            <a:ext cx="7162560" cy="495288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5029200" y="990720"/>
            <a:ext cx="60948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4674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838080" y="762120"/>
            <a:ext cx="7620120" cy="533376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3962520" y="2666880"/>
            <a:ext cx="2593800" cy="12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1143000" y="838080"/>
            <a:ext cx="716292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143000" y="1523880"/>
            <a:ext cx="723888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990720" y="914400"/>
            <a:ext cx="7238880" cy="25146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990720" y="3429000"/>
            <a:ext cx="723888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066680" y="990720"/>
            <a:ext cx="73152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143000" y="762120"/>
            <a:ext cx="7315200" cy="33526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1143000" y="4114800"/>
            <a:ext cx="73152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914400" y="1828800"/>
            <a:ext cx="74674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990720" y="762120"/>
            <a:ext cx="7467480" cy="2689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990720" y="3048120"/>
            <a:ext cx="746748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143000" y="838080"/>
            <a:ext cx="723888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Cumulative Incidenc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I = # of new cases during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N = # of disease-free subjects at start of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Measures the frequency of addition of new cases of  disease and is always calculated for a given period of tim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3276720" y="1219320"/>
            <a:ext cx="2514600" cy="190188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0" y="2518920"/>
            <a:ext cx="4038480" cy="269244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5859360" y="3941280"/>
            <a:ext cx="3284640" cy="218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990720" y="838080"/>
            <a:ext cx="72388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Cumulative Incidenc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Most common way to estimate risk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Always a propor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Assumes a fixed coh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For brief specified periods of time, e.g. an outbreak, commonly called an Attack “Rate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eware of attri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Formula does not reflect continually changing population size for dynamic cohor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Does not allow subjects to be followed for different time period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746748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6705360" cy="28191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1219320" y="3962520"/>
            <a:ext cx="6705360" cy="167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914400" y="914400"/>
            <a:ext cx="73152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66680" y="838080"/>
            <a:ext cx="716292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990720" y="914400"/>
            <a:ext cx="73152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6T01:37:56Z</dcterms:created>
  <dc:creator>david g. kleinbaum</dc:creator>
  <dc:description/>
  <dc:language>en-US</dc:language>
  <cp:lastModifiedBy>dkleinb</cp:lastModifiedBy>
  <dcterms:modified xsi:type="dcterms:W3CDTF">2003-10-02T17:26:53Z</dcterms:modified>
  <cp:revision>177</cp:revision>
  <dc:subject/>
  <dc:title>Slide 1</dc:title>
</cp:coreProperties>
</file>