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9DD-B4A4-42E0-86F6-5762B2C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C37-BA40-4C53-B577-31870C91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13F-7D12-4C46-A500-A8D2EF3A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C12-83C3-4045-9F7A-8A5FAE05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4FD-9B99-4038-A164-908A55E9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5F0-7594-4091-8120-581EB341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3226-3A87-4521-8691-5925447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7C0-F28F-4388-8601-D93EBE7C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6A6-E2B9-4C9B-9AAF-C1E4AEC6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FD0-2602-4971-94CA-5590FA4C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2FB-3330-4A3D-B04C-79BAD1AC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D53-922A-4DAB-AC1D-EAB27EE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8F0E-71E9-492F-AA33-BC53DD1EE3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4280" y="1447920"/>
            <a:ext cx="759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arkinson’s Diseas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in  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utch Elderl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opu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91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696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7543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140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162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4572000" cy="117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457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2388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723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9:00Z</dcterms:modified>
  <cp:revision>184</cp:revision>
  <dc:subject/>
  <dc:title>Slide 1</dc:title>
</cp:coreProperties>
</file>