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130-F552-4C2E-98D0-FEE55055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27-455F-4181-941F-2CF3ACE2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6A5-13AC-4357-B4BB-8887C583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FBE-AEB2-498A-9ACC-E2B32296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21F-7EC0-4BB7-9F1C-0F08C945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072-E7BC-46F3-9A34-16042CC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AF2-0771-48E5-9A69-2F29794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5D2-6A4F-4A26-8716-5A594CE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576-3EEF-49A9-A756-2619204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F31-F6EF-4AB5-9E1E-B1F37B4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444-F5D9-43A7-A45F-19D3EA6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EEB-DA59-49E8-9EC4-F83FB7B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3DC-606F-40AA-8D63-573F79AC5A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Measures of 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Disease Frequency</a:t>
            </a:r>
            <a:br>
              <a:rPr sz="6000"/>
            </a:br>
            <a:r>
              <a:rPr b="1" lang="en-US" sz="6000" spc="-1" strike="noStrike">
                <a:solidFill>
                  <a:srgbClr val="ffe701"/>
                </a:solidFill>
                <a:latin typeface="Arial"/>
              </a:rPr>
              <a:t>(part 1)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55308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7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99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ypothetical data on the frequency of hepatitis in two c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16292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5638680"/>
            <a:ext cx="472464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s, Proportions, Ra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ften used to relate the number of cases of a disease or health outcome to the size of the source population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sually expressed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umber of stillbirths per thousand live birth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nswer often read as a perc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e701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 cases of a disease that develop over a period of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38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(P):  Measures </a:t>
            </a:r>
            <a:r>
              <a:rPr b="1" lang="en-US" sz="2800" spc="-1" strike="noStrike" u="sng">
                <a:solidFill>
                  <a:srgbClr val="a538ca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a538ca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438280" y="1066680"/>
            <a:ext cx="4496040" cy="2362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23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en-US" sz="2300" spc="-1" strike="noStrike" u="sng">
                <a:solidFill>
                  <a:srgbClr val="a538ca"/>
                </a:solidFill>
                <a:uFillTx/>
                <a:latin typeface="Arial"/>
              </a:rPr>
              <a:t>Prevalence</a:t>
            </a:r>
            <a:r>
              <a:rPr b="1" lang="en-US" sz="2300" spc="-1" strike="noStrike">
                <a:solidFill>
                  <a:srgbClr val="a538ca"/>
                </a:solidFill>
                <a:latin typeface="Arial"/>
              </a:rPr>
              <a:t> can be viewed as describing a pool of disease in a popul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e701"/>
                </a:solidFill>
                <a:latin typeface="Arial"/>
              </a:rPr>
              <a:t>•  </a:t>
            </a:r>
            <a:r>
              <a:rPr b="1" lang="en-US" sz="2300" spc="-1" strike="noStrike" u="sng">
                <a:solidFill>
                  <a:srgbClr val="ffe701"/>
                </a:solidFill>
                <a:uFillTx/>
                <a:latin typeface="Arial"/>
              </a:rPr>
              <a:t>Incidence</a:t>
            </a:r>
            <a:r>
              <a:rPr b="1" lang="en-US" sz="2300" spc="-1" strike="noStrike">
                <a:solidFill>
                  <a:srgbClr val="ffe701"/>
                </a:solidFill>
                <a:latin typeface="Arial"/>
              </a:rPr>
              <a:t> describes the input flow of new cases into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Arial"/>
              </a:rPr>
              <a:t>•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tality and recovery reflects the output flow from the poo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3-10-02T17:26:32Z</dcterms:modified>
  <cp:revision>168</cp:revision>
  <dc:subject/>
  <dc:title/>
</cp:coreProperties>
</file>