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935-CB59-4BDE-B06B-2D18C9BD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1C9-A7EE-47E9-8A3C-EAFF45C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83B-AB7F-4E70-9293-BBDF6F32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0D3-F845-48A0-B0B0-B3A79A12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307-E630-4699-94D7-F4FCEFAF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A0D-6F51-415A-A44D-096F9D6B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194-3A7F-435B-8266-3AA5AAAA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0B0-E2B9-45AC-A353-BA1D7E1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B12-C6EC-41DA-A850-B9D7AF13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AFD-A1CD-4A44-BED9-06AC4DA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F9B-380A-4F9A-AB44-46D8534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E3E1-26E7-43DB-8BA1-871574BB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7002-FD1F-463F-9FE5-814D692D84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2520" y="2362320"/>
            <a:ext cx="462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eval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858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40080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7924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238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46Z</dcterms:modified>
  <cp:revision>191</cp:revision>
  <dc:subject/>
  <dc:title>Slide 1</dc:title>
</cp:coreProperties>
</file>