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5656-5C54-4A08-986A-D3B6ECD15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D702-C37F-467E-94A7-5AEABFF4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48D2-80E4-4EE1-8219-DADA57B6F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938C-7ABA-4F76-BF6A-A2DBAB26D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9B6E-C066-4FD3-A4FA-7D8DCB4A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1AF4-DCED-4EF2-9F45-1D77EA19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A9DF-1924-4704-8EC8-7B1EA322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4C0A-19BD-45BB-B795-E96D859C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BB61-B713-4902-8147-810C7D06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677C-D0E6-4774-9786-50F5E916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F5F2-83EC-4D17-9D07-26A7E539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0131-CE0D-44E6-B8EB-2604F159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767C-A5D5-4760-B9F4-26E142D24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Exercises</a:t>
            </a:r>
            <a:br>
              <a:rPr sz="6000"/>
            </a:b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on</a:t>
            </a:r>
            <a:br>
              <a:rPr sz="6000"/>
            </a:b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Measures of</a:t>
            </a:r>
            <a:br>
              <a:rPr sz="6000"/>
            </a:b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Disease Frequenc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238880" cy="4267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14400" y="4952880"/>
            <a:ext cx="7238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4952880"/>
            <a:ext cx="7467480" cy="1067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74674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467480" cy="4419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90720" y="4800600"/>
            <a:ext cx="7467480" cy="1066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581280" y="5867280"/>
            <a:ext cx="16131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4419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14400" y="4876920"/>
            <a:ext cx="746748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4419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14400" y="4876920"/>
            <a:ext cx="7467480" cy="990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086600" y="5257800"/>
            <a:ext cx="110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cb017"/>
                </a:solidFill>
                <a:uFillTx/>
                <a:latin typeface="Arial"/>
              </a:rPr>
              <a:t>33 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7467480" cy="4319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990720" y="4572000"/>
            <a:ext cx="74674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30477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914400" y="3581280"/>
            <a:ext cx="7467480" cy="2514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600200" y="4419720"/>
            <a:ext cx="60199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38862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7467480" cy="990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676520" y="5486400"/>
            <a:ext cx="5867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3886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914400" y="4419720"/>
            <a:ext cx="7467480" cy="990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676520" y="5410080"/>
            <a:ext cx="5257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39621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7467480" cy="990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914400" y="5486400"/>
            <a:ext cx="74674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543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3962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7467480" cy="990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914400" y="5486400"/>
            <a:ext cx="7467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467480" cy="3962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343400"/>
            <a:ext cx="7467480" cy="990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990720" y="5334120"/>
            <a:ext cx="74674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467480" cy="3962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914400" y="4267080"/>
            <a:ext cx="7467480" cy="990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914400" y="5257800"/>
            <a:ext cx="74674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543800" cy="5562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162920" y="5867280"/>
            <a:ext cx="12952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1600200"/>
            <a:ext cx="624816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7820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7010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934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9343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15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8580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91160" cy="2362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90720" y="3200400"/>
            <a:ext cx="7391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239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467840" cy="2057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38080" y="2968560"/>
            <a:ext cx="74678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19320" y="5105520"/>
            <a:ext cx="6705360" cy="1143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72388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238880" cy="4267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14400" y="4952880"/>
            <a:ext cx="72388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238880" cy="4267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14400" y="4952880"/>
            <a:ext cx="72388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238880" cy="4267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990720" y="4800600"/>
            <a:ext cx="72388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238880" cy="4419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914400" y="4952880"/>
            <a:ext cx="72388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11-17T22:28:54Z</dcterms:modified>
  <cp:revision>105</cp:revision>
  <dc:subject/>
  <dc:title>The Art in the State of the Art</dc:title>
</cp:coreProperties>
</file>