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12D-A4FE-4F6F-910C-7D55AA78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FB5-DAA3-4534-A267-168F7A31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D249-0577-4178-8A7D-F0F5F6EC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69F-F176-4989-A2A0-BFFFE930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3F8-C580-4167-AA2E-DA3C7204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D28-7F6C-459F-9284-4F892AA7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1F4-62D2-4781-A4BA-6491E089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5E5-9B0B-44A1-ABE5-0F15491F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00A-5249-483D-95AE-D7F8B5A2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461-C047-476F-AEEB-11D0C384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E35A-4C7C-451A-B8C1-4B145C1B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590-2996-4F8F-B209-82C20CC3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57A6-253F-481B-80B4-2F9FFEE3E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1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1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1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easures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f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   Effect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733920"/>
            <a:ext cx="6172200" cy="1922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dds ratio as estimate of risk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fferenc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tiologic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18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73929" r="0" b="14495"/>
          <a:stretch/>
        </p:blipFill>
        <p:spPr>
          <a:xfrm>
            <a:off x="914400" y="5562720"/>
            <a:ext cx="72388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181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20120" y="5410080"/>
            <a:ext cx="457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781680" y="5638680"/>
            <a:ext cx="1676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58000" cy="441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914400"/>
            <a:ext cx="68580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versus Difference Measures of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1280" y="1371600"/>
            <a:ext cx="5979600" cy="4361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to R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1428ff"/>
                </a:solidFill>
                <a:latin typeface="Arial"/>
              </a:rPr>
              <a:t>(Cohort Stud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705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010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6858000" cy="1447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95280" y="4495680"/>
            <a:ext cx="6858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781680" cy="2514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6781680" cy="99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6781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22760" y="1906560"/>
            <a:ext cx="3720960" cy="3110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428ff"/>
                </a:solidFill>
                <a:latin typeface="Arial"/>
              </a:rPr>
              <a:t>Potent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428ff"/>
                </a:solidFill>
                <a:latin typeface="Arial"/>
              </a:rPr>
              <a:t>  </a:t>
            </a:r>
            <a:r>
              <a:rPr b="1" lang="en-US" sz="6600" spc="-1" strike="noStrike">
                <a:solidFill>
                  <a:srgbClr val="1428ff"/>
                </a:solidFill>
                <a:latin typeface="Arial"/>
              </a:rPr>
              <a:t>Impa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68320" y="1981080"/>
            <a:ext cx="3397680" cy="283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Etiologi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Fr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3200400"/>
            <a:ext cx="685800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86880" y="369720"/>
            <a:ext cx="5662440" cy="520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ion formula for EF = I* /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18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162920" y="4724280"/>
            <a:ext cx="1295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696440" cy="259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00200" y="685800"/>
            <a:ext cx="58226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re Disease Assum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696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289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701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7010280" cy="990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01028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7010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162560" cy="102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16256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39621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556272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7010280" cy="3352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600200" y="4876920"/>
            <a:ext cx="5562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040" y="1523880"/>
            <a:ext cx="6613560" cy="3751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Etiologic Fr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Amo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The Expo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620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248520" cy="1882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6248520" cy="838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981080" y="3733920"/>
            <a:ext cx="5562720" cy="1904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95280" y="3733920"/>
            <a:ext cx="68580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3581280"/>
            <a:ext cx="3049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1280" y="1371600"/>
            <a:ext cx="5979600" cy="4361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Approxim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to R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1428ff"/>
                </a:solidFill>
                <a:latin typeface="Arial"/>
              </a:rPr>
              <a:t>(Case-Control Stud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781680" y="5486400"/>
            <a:ext cx="16765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2438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467840" cy="1295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781680" y="3886200"/>
            <a:ext cx="15242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7467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01640" y="2362320"/>
            <a:ext cx="5729760" cy="1922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Risk Differ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1-13T18:18:27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</Properties>
</file>