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3FB-F6D2-45CE-806D-2616418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554-FC5E-423A-8D0B-B1698E6A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25D-2D28-48F1-B5C2-6A58437B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EA1-B78C-4729-99DC-E3444CFE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373-AE31-4FE8-AD6C-89B29613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C07-97AA-42E0-8E42-EA766DEB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A34-D489-495B-92F4-CB6250B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A06-B3B8-4DC7-9080-C0E6262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325-0215-4569-9DC8-CC5DAAEE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C3C-9A6F-47D5-879D-C6B214A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6E8-2B5C-44AE-9343-6C5B6EB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A47-9A00-4EAD-AF88-3DA2858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E9A4-0D4A-4772-8986-F8F14CAF7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ID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77240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80560" y="29718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92468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8680" y="299556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92468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658680" y="3124080"/>
            <a:ext cx="223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7070"/>
                </a:solidFill>
                <a:latin typeface="Times New Roman"/>
              </a:rPr>
              <a:t>Source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9144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86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581280" cy="1218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6934320" cy="152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3733920"/>
            <a:ext cx="698688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* = size of source population in stead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= time length of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867640" cy="200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772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4191120"/>
            <a:ext cx="22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772400" cy="241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4:03Z</dcterms:modified>
  <cp:revision>218</cp:revision>
  <dc:subject/>
  <dc:title>Slide 1</dc:title>
</cp:coreProperties>
</file>