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872-5D57-433D-95E4-21271EBC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398-B841-49DE-BCF5-6B7C65D9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E8E-0166-4B92-9CB5-884B70BB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03C-5F86-4292-B0F7-840C3076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97E-CDDA-47A3-AB0A-B884C638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15F-AC66-4018-8595-A3488B41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0CD-3B08-48E6-8DEC-16C4BB36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CF1-68F3-46B3-B2FF-F165172E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FD0-4FBC-41F2-BAB0-9A7AA520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1F3-8019-4E46-BF82-DF1332E0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6B8-EA96-4AD4-B0EA-FC83E1DF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E03-D1DA-43AF-803B-0FB2C697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51C7-CEB6-467E-8D4E-21057B4C0D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5160" y="1447920"/>
            <a:ext cx="4243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705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248520" cy="118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6248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1244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086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172200" cy="1222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60958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553080" cy="156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655308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010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553080" cy="156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65530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1:51Z</dcterms:modified>
  <cp:revision>208</cp:revision>
  <dc:subject/>
  <dc:title>Slide 1</dc:title>
</cp:coreProperties>
</file>