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E53-0721-4C6C-AB37-8134821D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E9A-AA8D-4E7A-83CF-6B3136A9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ECD-ACFB-46B1-AD3C-F1DE6EA9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848-1494-445A-B44D-838F9CF3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8A2-3BCF-4177-9183-E8ABE934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C18-5B1A-419C-8BE0-90ECD124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101-DD74-495A-9A62-7138E710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0A5-DA33-4C30-97C5-B07E8DF1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B3E-EC8E-4261-9D6C-EB767DD1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05F-72EA-4396-9EB6-CB3463F1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651-5BFF-4E6C-9503-34501924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569-EDBA-4249-B816-3063351C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8A5F-E695-4A6D-A3BE-89BC5C141E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9840" y="1219320"/>
            <a:ext cx="6833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Rotterdam Study Examp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73915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38088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0" y="4800600"/>
            <a:ext cx="1447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14400" y="487692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6934320" cy="3610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6934320" cy="1904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76720" y="4038480"/>
            <a:ext cx="20574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257800"/>
            <a:ext cx="55627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934320" cy="300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6934320" cy="1904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14600" y="4572000"/>
            <a:ext cx="55627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276720"/>
            <a:ext cx="2133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5334120"/>
            <a:ext cx="701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4495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7467840" cy="1600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0" y="6248520"/>
            <a:ext cx="1371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467840" cy="3352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46784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86600" y="5029200"/>
            <a:ext cx="1371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5257800"/>
            <a:ext cx="7467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16292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162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01028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7010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4114800"/>
            <a:ext cx="739152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391520" cy="35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5638680"/>
            <a:ext cx="14479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20:38Z</dcterms:modified>
  <cp:revision>216</cp:revision>
  <dc:subject/>
  <dc:title>Slide 1</dc:title>
</cp:coreProperties>
</file>