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EF2-EF10-4D89-AEDF-782720CD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F37-15D0-410E-ACCA-0D3A9A53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49A-6FE2-4B2C-9F6D-DB8F0179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A33-CC32-40E1-8C61-CCE59790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876-181A-4865-B9F1-643AAB11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87C-BA7A-4500-A705-42AAB25D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54C-791C-4DEC-B2BD-FB3DBEEF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528-E50E-40A8-8F2D-CABFEB87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F05-1B2A-4618-A0DE-B4E9D5FB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AA8-5ED5-4164-B999-7888F696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76C-3450-4942-8BAC-6ACFE8E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D45-A633-4C65-AB1E-71B47296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243B-647B-4316-B416-658119ECB1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1676520"/>
            <a:ext cx="390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of Effe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426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3680" y="5181480"/>
            <a:ext cx="74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igarette smoking became increasingly popular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merica after World War I, when cigarettes w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anded out to soldiers as a way to boost mora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19112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28840" y="5068800"/>
            <a:ext cx="71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ut along with the rise in smoking, came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urbing rise in the lung cancer rate and 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arly warnings from a handful of doctors ab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ssible dangers from smo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7238880" cy="1981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7238880" cy="253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51818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1066680"/>
            <a:ext cx="518184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ho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n Cancer Society (19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23924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2392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120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29:47Z</dcterms:modified>
  <cp:revision>203</cp:revision>
  <dc:subject/>
  <dc:title>Slide 1</dc:title>
</cp:coreProperties>
</file>