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980238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7564-62B3-4C7C-B400-EFFCA983F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BE3A-9608-449D-9A5C-49877DF88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17AD-F35D-42D1-B672-A3133002D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0B9A-0692-4A6F-B73D-0E7B0047C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8E99-7276-422F-BC34-CAF098CBF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30DD-BBB9-44DD-8FF7-28C3D7365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3AA6-A8C1-4E71-9601-CFDB7CFDE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FE71-2EAF-4AF2-836B-15AD9A8CA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86E6-6C2E-4C48-884C-0FF1B232A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B356-0E39-4A86-8E45-62DBA1747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6F16-BFCF-43F9-98E6-9F0705DA2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B32D-72AF-4F05-BCD2-E347A960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4DA23-C7DE-4E28-A32A-D224E79A21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3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3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286000"/>
            <a:ext cx="838224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Exercises</a:t>
            </a:r>
            <a:br>
              <a:rPr sz="5400"/>
            </a:b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on</a:t>
            </a:r>
            <a:br>
              <a:rPr sz="5400"/>
            </a:b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Measures of Effec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4419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295280" y="4876920"/>
            <a:ext cx="685800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6960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523880" y="380880"/>
            <a:ext cx="4953240" cy="5335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219320" y="914400"/>
            <a:ext cx="6400800" cy="2286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066680" y="3429000"/>
            <a:ext cx="7696440" cy="1371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1143000" y="4800600"/>
            <a:ext cx="769608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5800" y="441360"/>
            <a:ext cx="7848720" cy="23781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85800" y="2819520"/>
            <a:ext cx="7848720" cy="36576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934320" y="6172200"/>
            <a:ext cx="16002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38080" y="2819520"/>
            <a:ext cx="7696440" cy="14475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696440" cy="16225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1447920" y="380880"/>
            <a:ext cx="62481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62120" y="2743200"/>
            <a:ext cx="7696080" cy="12193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447920" y="380880"/>
            <a:ext cx="6248160" cy="2286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838080" y="3962520"/>
            <a:ext cx="76201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90720" y="2743200"/>
            <a:ext cx="7467480" cy="1143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7391520" y="3505320"/>
            <a:ext cx="10666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447920" y="380880"/>
            <a:ext cx="6248160" cy="2286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1066680" y="3886200"/>
            <a:ext cx="73915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7391160" cy="29718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990720" y="3505320"/>
            <a:ext cx="7391160" cy="25905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2209680" y="5791320"/>
            <a:ext cx="473724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807696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553440" cy="15238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38080" y="1981080"/>
            <a:ext cx="7467840" cy="17528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838080" y="3733920"/>
            <a:ext cx="74678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7724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295280" y="762120"/>
            <a:ext cx="6553440" cy="16761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990720" y="2438280"/>
            <a:ext cx="7086600" cy="990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990720" y="3429000"/>
            <a:ext cx="70866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295280" y="762120"/>
            <a:ext cx="6553440" cy="16761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143000" y="2438280"/>
            <a:ext cx="7086600" cy="10191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1143000" y="3429000"/>
            <a:ext cx="70866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371600" y="457200"/>
            <a:ext cx="6553080" cy="16765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219320" y="2133720"/>
            <a:ext cx="7010280" cy="990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1219320" y="3124080"/>
            <a:ext cx="69339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7620120" cy="4114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38080" y="4572000"/>
            <a:ext cx="76964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772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8001000" cy="3733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7924680" cy="914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762120" y="4952880"/>
            <a:ext cx="7924680" cy="16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7848720" cy="4114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62120" y="4572000"/>
            <a:ext cx="77724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7772400" cy="4419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219320" y="4800600"/>
            <a:ext cx="65530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543800" cy="2733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62120" y="3276720"/>
            <a:ext cx="7543800" cy="1447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219320" y="4876920"/>
            <a:ext cx="60958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1-17T22:29:39Z</dcterms:modified>
  <cp:revision>18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86904489</vt:r8>
  </property>
  <property fmtid="{D5CDD505-2E9C-101B-9397-08002B2CF9AE}" pid="3" name="_AuthorEmail">
    <vt:lpwstr>dgk0@cdc.gov</vt:lpwstr>
  </property>
  <property fmtid="{D5CDD505-2E9C-101B-9397-08002B2CF9AE}" pid="4" name="_AuthorEmailDisplayName">
    <vt:lpwstr>Kleinbaum, David</vt:lpwstr>
  </property>
  <property fmtid="{D5CDD505-2E9C-101B-9397-08002B2CF9AE}" pid="5" name="_EmailSubject">
    <vt:lpwstr>meas of disease freq pp attached</vt:lpwstr>
  </property>
</Properties>
</file>