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D6E-C420-4D00-B5C5-FE422FA4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11E-9C54-416C-AC15-2D74822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48-C093-4B0C-BE67-9FD7BE50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1C9-3D96-4BD0-BE0A-96CC480C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CC1-45DD-41BD-89DB-9FF7067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BA4-B64E-4435-AFEA-69ECD1C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68E-2F0D-4FED-B01D-76883DA1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543-74D6-4473-B08C-88E1EE2C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1A9-861F-4C76-B1C5-C5BE36D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3F6-1969-4128-9AD7-99D7486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78B-79AA-4867-B341-8A4B876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1B0-C7AA-487A-96A5-D0B432B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4D2-978F-45CB-9872-7CCB89E18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462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troduc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49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1:00Z</dcterms:modified>
  <cp:revision>205</cp:revision>
  <dc:subject/>
  <dc:title>Slide 1</dc:title>
</cp:coreProperties>
</file>