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1FC-BC24-4159-B448-3909B4B7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123-6286-4BF8-8365-1CC22A7A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F89-1D4D-4694-A438-183513E7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9C6-17B2-4E02-B1F8-F3038496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EC2-CA09-4D20-AC42-C6ACB9F6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A55-AB10-428B-BA35-94B8EDCE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497-F261-4E4A-8081-0D439CE7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7E9-BA0D-4691-A28B-8409BF9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0C6-5DA9-4244-86EC-C995E2C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DC9-E51C-45D2-955F-A0619DE1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CF3-0346-473D-9157-CE587FA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B01-94D2-4C33-9C16-1C54B60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AA65-4528-4463-8A86-BF52C72E6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648320"/>
            <a:ext cx="7162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11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391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248520" cy="107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248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086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107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30:12Z</dcterms:modified>
  <cp:revision>204</cp:revision>
  <dc:subject/>
  <dc:title>Slide 1</dc:title>
</cp:coreProperties>
</file>