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B89-09C1-44F7-986B-9F62D2DE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06A-18BC-4F42-8013-C0867B0C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EDC-E81A-4E65-B584-0A08A1CB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F81-F79B-4DEF-B254-D5DAC8E6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C75-9B02-42E5-A8FB-B59F8597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B4A-11F8-45EC-8709-85B00AE8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FEB-DBF5-4DA4-BA63-659F7DD2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EE1-06D5-4708-B4D4-8A19BB9B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107-26C3-4BE4-A87C-CE27EF08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03A-3F85-4C4E-842E-B6001CFE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83F7-9B69-4241-AA3E-3F67EE32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DA3-51F2-4AEE-8A64-FBC22EA4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7697-B36F-4917-BA2B-1BCD7EA74A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3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3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e701"/>
                </a:solidFill>
                <a:latin typeface="Arial"/>
              </a:rPr>
              <a:t>(Cohort Stud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327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3809880"/>
            <a:ext cx="7315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696440" cy="2819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7696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4953240" cy="854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6400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9608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7696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8483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943600" cy="1067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295280" y="3048120"/>
            <a:ext cx="59436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08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7086600" cy="2514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8120" y="2590920"/>
            <a:ext cx="155412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(f = 1.3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086600" cy="1067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62120" y="3048120"/>
            <a:ext cx="7086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609588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3276720"/>
            <a:ext cx="7086600" cy="1828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8120" y="2743200"/>
            <a:ext cx="155412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(f = 1.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362320" y="3429000"/>
            <a:ext cx="3504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647960" cy="685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08660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7010640" cy="1523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10080" y="2514600"/>
            <a:ext cx="24386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(f = 1.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335268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440" y="3703680"/>
            <a:ext cx="309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ereas RR is 2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086600" cy="1524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08660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7086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934320" y="5715000"/>
            <a:ext cx="15238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238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38880" cy="472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238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7086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14T14:19:44Z</dcterms:modified>
  <cp:revision>214</cp:revision>
  <dc:subject/>
  <dc:title>Slide 1</dc:title>
</cp:coreProperties>
</file>