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8D1-8E7A-406F-AB75-FBF3BCB5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5EA-1AE7-42DC-A295-D70C321E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051-C4E6-47A9-AE28-570E56C7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CFF-13FD-4112-A3C4-4020282E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9EF-1970-4B38-8D1B-80EF4E3D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C6A-060E-44B5-991D-4FB1AFBA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32B-A7F8-4F5F-BD00-4C0691B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B2C-A731-41AB-896E-D3CB3DA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2C9-6DB7-4859-AA9A-5BFDFD3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30F-AA17-4B83-AE28-F675032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470-1FC8-4D97-B0C8-A1DD721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98B-D48A-4C64-BE86-A069676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7D7-427C-44E3-AB08-F76BCDDDE6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8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28600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543800" cy="221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4320" y="2209680"/>
            <a:ext cx="1447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038480"/>
            <a:ext cx="1828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038480"/>
            <a:ext cx="2590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62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10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3:01Z</dcterms:modified>
  <cp:revision>219</cp:revision>
  <dc:subject/>
  <dc:title>Slide 1</dc:title>
</cp:coreProperties>
</file>