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576C-167C-4ACC-B057-5463ACC4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6B58-8101-434F-9AEE-9E6ADDB7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0CC2-CADC-4813-88D2-85AE4D5A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CDB1-392D-45D9-94D7-C6D1AC74B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2C40-D662-4E1F-90F3-15E9F0E9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920D-D0F2-41CD-B3EE-89E45029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FFEF-8303-4D2C-9279-BDF91FAC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8B6E-A1CC-412F-B116-D85E4B7F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8C81-6D56-42FD-9D17-E8EE4AD1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3DF8-F8C8-4C3B-9657-81AC2BC7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2ABB-C8C7-40DC-8529-AFC996EC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C7D7-48A6-4BF7-95CA-32487F1A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15FC-9C90-44B2-8C03-324116A0A9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1280" y="1371600"/>
            <a:ext cx="597960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R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pproxim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o RR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e701"/>
                </a:solidFill>
                <a:latin typeface="Arial"/>
              </a:rPr>
              <a:t>(Case-Control Stud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181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58000" y="5638680"/>
            <a:ext cx="1447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10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1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4674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477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6934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781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629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7816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1:28Z</dcterms:modified>
  <cp:revision>216</cp:revision>
  <dc:subject/>
  <dc:title>Slide 1</dc:title>
</cp:coreProperties>
</file>