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4C3-A18E-4E58-B5FA-595AD8D4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60C-84D0-468B-9B89-17C3EF88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89F-AE79-406B-9D18-9C828D93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6F3-6460-414D-8DC6-52923849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E39-0BB5-48A0-9844-0DBFCB90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C00-6CD3-4CF2-885E-4E3A4F97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DC0-9AE3-4803-96A3-1B8955DD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1E2-6BFB-43E3-9352-4AB94E6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2E0-C9A1-4E7A-8AC1-8EA9A0F5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A46-4E75-4B00-9634-A0CE05D4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EAF-7C9D-40B8-872F-61158831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5E4-1B34-4D82-8D04-5097C59F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9C5D-A7DF-419A-A809-2F76F0C679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4800" y="1447920"/>
            <a:ext cx="449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lculating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05720" y="5334120"/>
            <a:ext cx="16761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5867280"/>
            <a:ext cx="1219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6095880"/>
            <a:ext cx="48765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228600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51460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6201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2:16Z</dcterms:modified>
  <cp:revision>210</cp:revision>
  <dc:subject/>
  <dc:title>Slide 1</dc:title>
</cp:coreProperties>
</file>