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2CB-10D6-41D3-A9F8-1761AC0C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DBA-5F1B-4D96-9EC7-1D688490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31F-F560-4F68-8FD3-A5827E1B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F80-E5DA-4331-B7F5-F3ED90A1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EC2-BFD7-4E94-B698-22EBB7A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EF7-4CC6-46F3-85F9-3DE70DA4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ACE-C14E-44B2-9CDF-303DF87B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2DF-7F5B-43B3-A7F4-3DD91935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0DC-46FE-4EB2-84AC-446F604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A2F-EA7D-4BDE-8954-7E633AD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9C6-B753-4040-B5BC-9C9114F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BC8-DF52-446A-9625-A92AE4E2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74A6-29F7-4D51-8BB6-59DE17297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Effect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886200"/>
            <a:ext cx="6172200" cy="183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dds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ate ratio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/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density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39720" y="2362320"/>
            <a:ext cx="39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isk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080" y="457200"/>
            <a:ext cx="275616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hor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388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66680" y="4267080"/>
            <a:ext cx="7162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716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657600"/>
            <a:ext cx="45720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118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3911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70866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716256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86600" cy="99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01028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66680" y="3809880"/>
            <a:ext cx="6705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43000" y="4572000"/>
            <a:ext cx="67057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51439"/>
          <a:stretch/>
        </p:blipFill>
        <p:spPr>
          <a:xfrm>
            <a:off x="990720" y="17524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553080" y="579132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9720" y="2362320"/>
            <a:ext cx="42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Odds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19112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886200" cy="441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3800" y="5029200"/>
            <a:ext cx="714528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But along with the rise in smoking, cam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disturbing rise in the lung cancer rate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early warnings from a handful of doctors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ff"/>
                </a:solidFill>
                <a:latin typeface="Arial"/>
              </a:rPr>
              <a:t>possible dangers from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5334120"/>
            <a:ext cx="167616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62012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15200" y="2286000"/>
            <a:ext cx="1219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514600"/>
            <a:ext cx="48769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62012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72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238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3760" y="2286000"/>
            <a:ext cx="394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428ff"/>
                </a:solidFill>
                <a:latin typeface="Arial"/>
              </a:rPr>
              <a:t>Rate Rat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5562360" cy="28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010280" cy="266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3276720"/>
            <a:ext cx="76176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276720"/>
            <a:ext cx="76212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457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181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10080" y="46483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762120"/>
            <a:ext cx="76197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ebff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Cohort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0ebff"/>
                </a:solidFill>
                <a:latin typeface="Arial"/>
              </a:rPr>
              <a:t>American Cancer Society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08660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457200"/>
            <a:ext cx="7086600" cy="947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e2dc"/>
                </a:solidFill>
                <a:latin typeface="Arial"/>
              </a:rPr>
              <a:t>Quantify relationship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e2dc"/>
                </a:solidFill>
                <a:latin typeface="Arial"/>
              </a:rPr>
              <a:t>Measure of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467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95280" y="5410080"/>
            <a:ext cx="6477120" cy="642600"/>
          </a:xfrm>
          <a:prstGeom prst="rect">
            <a:avLst/>
          </a:prstGeom>
          <a:solidFill>
            <a:srgbClr val="859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6:02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