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8A0-F70B-4632-8EE6-CC764DF3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EA3-4C13-4FB4-A38E-B3A084CD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096-E90F-441C-A380-0756929F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7EF-8A69-481A-838B-2233DDF6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B1A-F484-46D3-BB7A-FDCBBDDF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86B-D299-43FD-85EB-8FA411A5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49C-19F6-4147-A7F9-A627A0F1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9F3-58B3-4292-B0B0-02250B19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C20-D231-4391-8877-0E84E3A5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66A-8B3F-49AF-8CA8-5AD44A4F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635-06AA-4EBF-BFC0-DCA215EB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03C-E020-4BA9-A1D6-05FB4E35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FDEC-16F8-4E79-9C4D-59FD9B9941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5680" y="1447920"/>
            <a:ext cx="589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Differ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tudy Design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7920" y="914400"/>
            <a:ext cx="6248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2:42Z</dcterms:modified>
  <cp:revision>214</cp:revision>
  <dc:subject/>
  <dc:title>Slide 1</dc:title>
</cp:coreProperties>
</file>