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9B2-126C-4B86-A84D-147A6C78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EE9-134C-44C8-8753-6F63A3EB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84A-18EC-4BFC-85F1-B05F4BF8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A11-CB5A-4C83-BDA2-DFD2C4EB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10A-A6D3-478C-BD60-80751C03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B01-F1B4-4036-AB78-9ED8EC7E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929-A93B-48AC-BDF9-2C984ED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636-F9BB-4117-9912-5CCC351C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D7F-1183-4664-88EB-5E8AF00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FF6-E3DC-4E15-A1A3-3764521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013-458C-45CA-811F-B1EDCFC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3C8-458E-4F42-8040-E7BA89F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C13-BD0C-4576-B625-5A9ECED71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3400" y="914400"/>
            <a:ext cx="6022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 Mat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Behind the Ra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5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933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781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343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10280" y="5791320"/>
            <a:ext cx="1676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2:10Z</dcterms:modified>
  <cp:revision>218</cp:revision>
  <dc:subject/>
  <dc:title>Slide 1</dc:title>
</cp:coreProperties>
</file>