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E2E-BE7E-43CE-9326-7F8A89B0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3C3-3598-44E7-8255-B4C36B1F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79C-32B0-488C-A174-C4350411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97F-6880-47CC-8AE8-EFB72F67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A08-E020-41B2-8B58-F0C3D7C8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692-2FEC-4D7E-B6BB-34A78F63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714-77BD-4617-8080-C15BBD40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49B-4CFB-4397-A789-5CB09F01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CA9-0D27-4195-A9CD-2C3FFFDF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FB5-9A98-44F6-B81B-1511A287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778-EAD8-4CA6-95A4-85FF51CF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754-45D7-47A3-9EDE-1834DFE7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7C72-D393-46E6-B41F-5ADC4288D8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4440" y="1295280"/>
            <a:ext cx="4332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ffer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ers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010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858000" cy="1447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95280" y="4495680"/>
            <a:ext cx="685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781680" cy="99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6781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95280" y="2514600"/>
            <a:ext cx="678204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95280" y="3581280"/>
            <a:ext cx="67820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705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7:55Z</dcterms:modified>
  <cp:revision>206</cp:revision>
  <dc:subject/>
  <dc:title>Slide 1</dc:title>
</cp:coreProperties>
</file>