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1FA4-CAB7-4703-AAC8-4DF73F3A2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6CFC-35D1-4247-9D69-B3D1E199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E83A-4BEC-4418-AE79-1C0AC5AA8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D5AB-D874-4DF2-83D6-5A7C7B84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CF22-BC8D-4285-93B5-B755392B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5C30-0806-4D97-8E21-1EAF72CC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6703-64E6-493A-948E-6F3298EA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F223-8100-4E2F-A8D2-A4182AB2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492F-CEF0-4A20-95DD-B33B66CA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4C79-45CF-4E36-9EDB-382A276D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DD7E-4C5F-4B28-9128-5132917E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E046-DCE4-410D-A07E-D7ECB90F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6B06-CE64-485A-9EF1-2D53479AA2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720" y="2209680"/>
            <a:ext cx="661356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tiologic Fra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ffe701"/>
                </a:solidFill>
                <a:latin typeface="Arial"/>
              </a:rPr>
              <a:t>Alternative Formul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93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6201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467480" cy="1295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362320" y="2666880"/>
            <a:ext cx="39621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238880" cy="1016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676520" y="2743200"/>
            <a:ext cx="5790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543800" cy="1447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371600" y="3048120"/>
            <a:ext cx="6553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696440" cy="128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3124080"/>
            <a:ext cx="69343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3152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305560" cy="5410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34120" y="4495680"/>
            <a:ext cx="2895480" cy="1524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8077320" y="4648320"/>
            <a:ext cx="761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58676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7816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9:44Z</dcterms:modified>
  <cp:revision>207</cp:revision>
  <dc:subject/>
  <dc:title>Slide 1</dc:title>
</cp:coreProperties>
</file>