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208-05E2-41B1-9284-D785469D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FF3-D94C-4216-B7A6-68847F8E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8AD-C9AF-4D64-AB84-1A9E2D67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82B-82AA-40F8-96FC-FC95A4F5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9BD-A6B6-472E-A570-E87C540F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C3E-E6DA-4DB9-B8EC-1126BA23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DEF-C201-4B92-AB69-DE2522C8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317-D7E7-446E-BC51-DA3FBF9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0B5-3810-460D-891C-FE0ADC8E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FEC-C380-41F4-9ED9-64F849E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BA7-D643-4944-A919-E9ABBECC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2BD-D5B9-4124-BDA0-255A829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B809-17A2-4197-B0AE-11A4D70E2F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760" y="1523880"/>
            <a:ext cx="665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D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28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77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77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5715000"/>
            <a:ext cx="1524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9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7239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5438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75438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114800"/>
            <a:ext cx="1852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3059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1:36Z</dcterms:modified>
  <cp:revision>210</cp:revision>
  <dc:subject/>
  <dc:title>Slide 1</dc:title>
</cp:coreProperties>
</file>