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B17-8A59-4129-8F9A-36CA9E57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C32-9B3D-4DEA-A740-8F7F3F3C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412-FD79-4DB9-9D5F-FB7AE4E9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616-10DF-425B-9723-26F0A1A9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E60-77D7-491E-A287-06704456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DCD-8879-49DD-A693-2401FC1E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92F-F535-4E81-9E07-907ECF6B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982-9F56-411E-A513-DD35C5EB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059-0F78-469B-B1EE-9EBD3E50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41D-15B2-4030-A204-2C504755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8E1-EB01-478D-88A6-C3EC25B9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F25-245A-4333-9675-3B7B7266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5559-C557-46BE-AA94-554158153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1981080"/>
            <a:ext cx="390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114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39116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391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09680" y="5791320"/>
            <a:ext cx="4737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467840" cy="175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86600" cy="1019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7010280" cy="99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6933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9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73915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6:16Z</dcterms:modified>
  <cp:revision>206</cp:revision>
  <dc:subject/>
  <dc:title>Slide 1</dc:title>
</cp:coreProperties>
</file>