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DDB-A977-4CED-AF90-769D8A4F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C98-31C5-445C-A274-769A113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E9E-6445-4347-B6A5-6ED34D5F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FBF-BA27-478E-A92E-521DEDBF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2AB-1623-4CE1-A648-9CF70A8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4B4-D6F2-4EAA-A841-0767936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2D3-06DB-4E84-B6C9-0421B774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ADF-1084-410A-9FDE-DFE7460B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5BC-DE43-4B6B-B651-E4E811AF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FCA-2457-4B7B-82EB-25AB87E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051-876A-4F0C-8C0A-AF81B7E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F4F-0DAE-42A9-B055-A2DCFB2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8FD5-7F12-428D-BB51-428CA9C34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0600" y="1981080"/>
            <a:ext cx="339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t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mp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8:30Z</dcterms:modified>
  <cp:revision>206</cp:revision>
  <dc:subject/>
  <dc:title>Slide 1</dc:title>
</cp:coreProperties>
</file>