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06A7-EE0C-4C7F-ADC1-E71F94F2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F79F-9F71-4378-B00F-5DB34554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E9C-DDF5-45D3-AAB2-5EF13701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8E2-B1D4-4520-9F15-9A5EABB5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221-ADC1-4B48-9B02-6281EABC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89B7-98D9-47B7-B652-8E27A577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9471-497A-47FF-AB2D-A1975DF8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656-0879-465B-BF06-0A73F8A6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5DB9-D52A-4B6A-9171-B2D84FEE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4D04-D87C-4C11-98A5-72290448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38C1-26E1-496F-9AA3-0FC9339F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1C04-C4B8-4534-82BD-F8453255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D07B-BC67-4528-ACEE-65948630BB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9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9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9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9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0040" y="1523880"/>
            <a:ext cx="6613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tiologic F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mo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he Expos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81680" y="5486400"/>
            <a:ext cx="16765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2438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1629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243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7162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7162920" cy="685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162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620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486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934320" y="5943600"/>
            <a:ext cx="16761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46748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467480" cy="2438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4267080"/>
            <a:ext cx="7467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2438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467840" cy="1295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81680" y="3886200"/>
            <a:ext cx="15242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467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7467480" cy="2667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467480" cy="2666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705720" y="5638680"/>
            <a:ext cx="1523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467480" cy="1197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467480" cy="2438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7467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467480" cy="949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467480" cy="2438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7467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467480" cy="838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467480" cy="2438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705720" y="3581280"/>
            <a:ext cx="1523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7467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162920" cy="3521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7162920" cy="1447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2680" y="4648320"/>
            <a:ext cx="48769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17524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* is the same in both formula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1676520"/>
            <a:ext cx="426744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248520" cy="1882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6248520" cy="838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981080" y="3733920"/>
            <a:ext cx="5562720" cy="190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3733920"/>
            <a:ext cx="68580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3581280"/>
            <a:ext cx="3049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0" y="4876920"/>
            <a:ext cx="990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96440" cy="5790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81480" y="4800600"/>
            <a:ext cx="3200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33:13Z</dcterms:modified>
  <cp:revision>212</cp:revision>
  <dc:subject/>
  <dc:title>Slide 1</dc:title>
</cp:coreProperties>
</file>