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E76-1977-460E-9EE0-19C779B1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B4E-56F7-4633-BE6C-858DBDD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948-2C8E-4DEF-9B4A-29B980F8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8AA-FFCE-4689-A42D-2A652BE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9AA-93F0-4631-833F-39F96B9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240-0571-4AB7-8F6A-4D09B0A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1DE-F200-4F9E-833A-CC0DC2E8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51E-CA05-41EB-9741-9F382379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EFA-1A38-4EF4-90D4-062200F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9E6-1E6D-4BB9-8F49-7A3D765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57B-4BE5-4B62-B758-B7B635B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7B8-EC78-4F4C-8144-3B622F7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26F0-2411-44F0-9728-E75AE1A7A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1600200"/>
            <a:ext cx="708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6858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838080" y="685800"/>
            <a:ext cx="7696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309" r="0" b="28101"/>
          <a:stretch/>
        </p:blipFill>
        <p:spPr>
          <a:xfrm>
            <a:off x="914400" y="327672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70434" r="0" b="22543"/>
          <a:stretch/>
        </p:blipFill>
        <p:spPr>
          <a:xfrm>
            <a:off x="914400" y="32767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9144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53311" r="0" b="24496"/>
          <a:stretch/>
        </p:blipFill>
        <p:spPr>
          <a:xfrm>
            <a:off x="914400" y="365760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9357" r="0" b="35261"/>
          <a:stretch/>
        </p:blipFill>
        <p:spPr>
          <a:xfrm>
            <a:off x="914400" y="3429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6858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764" r="0" b="20866"/>
          <a:stretch/>
        </p:blipFill>
        <p:spPr>
          <a:xfrm>
            <a:off x="914400" y="32767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3249"/>
          <a:stretch/>
        </p:blipFill>
        <p:spPr>
          <a:xfrm>
            <a:off x="1066680" y="152388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95280" y="7621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858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6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05720" y="56386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21792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9463" r="0" b="75879"/>
          <a:stretch/>
        </p:blipFill>
        <p:spPr>
          <a:xfrm>
            <a:off x="914400" y="3429000"/>
            <a:ext cx="76201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5438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44374"/>
          <a:stretch/>
        </p:blipFill>
        <p:spPr>
          <a:xfrm>
            <a:off x="914400" y="5335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25260" r="0" b="61647"/>
          <a:stretch/>
        </p:blipFill>
        <p:spPr>
          <a:xfrm>
            <a:off x="838080" y="1447920"/>
            <a:ext cx="7467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9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39141" r="0" b="47252"/>
          <a:stretch/>
        </p:blipFill>
        <p:spPr>
          <a:xfrm>
            <a:off x="914400" y="1295280"/>
            <a:ext cx="746748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53236" r="0" b="37376"/>
          <a:stretch/>
        </p:blipFill>
        <p:spPr>
          <a:xfrm>
            <a:off x="457200" y="198108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518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62886" r="0" b="25360"/>
          <a:stretch/>
        </p:blipFill>
        <p:spPr>
          <a:xfrm>
            <a:off x="609480" y="144792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807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2506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879"/>
          <a:stretch/>
        </p:blipFill>
        <p:spPr>
          <a:xfrm>
            <a:off x="762120" y="990720"/>
            <a:ext cx="7467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2122" r="0" b="9213"/>
          <a:stretch/>
        </p:blipFill>
        <p:spPr>
          <a:xfrm>
            <a:off x="762120" y="18288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192"/>
          <a:stretch/>
        </p:blipFill>
        <p:spPr>
          <a:xfrm>
            <a:off x="6094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876920"/>
            <a:ext cx="12193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715"/>
          <a:stretch/>
        </p:blipFill>
        <p:spPr>
          <a:xfrm>
            <a:off x="533520" y="45720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20:23Z</dcterms:modified>
  <cp:revision>213</cp:revision>
  <dc:subject/>
  <dc:title>Slide 1</dc:title>
</cp:coreProperties>
</file>