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676-D8CF-4191-9F59-80E0D526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5E5-3D94-4579-8142-B2AAC38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707-3B7E-42B6-865C-7E43C854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821-876C-4C2C-A28B-8308BDB8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E90-3A82-46DB-8D7B-F5F72B4B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B91-2E6D-4F52-972D-548918E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B9E-A993-41DA-857D-29927F79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1A5-E29B-4824-99FD-7F9B593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947-B366-4672-A363-84385013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B57-B8DB-4B9F-8783-081AAC00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167-B8FE-4358-A72A-CB754EFD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850-AE5A-4EBC-A7E6-48AAC6D9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41D6-B4CB-47B2-A3F8-49F2F85D42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1120" y="1752480"/>
            <a:ext cx="631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otterdam Stud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495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2581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46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495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74674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3:39Z</dcterms:modified>
  <cp:revision>211</cp:revision>
  <dc:subject/>
  <dc:title>Slide 1</dc:title>
</cp:coreProperties>
</file>