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ADF-A74E-4ECA-A604-FE46C5B5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EDF-7394-4817-BE7E-EC43B549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12AF-6065-4B58-817A-897D4E02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2B0A-FB65-40CE-B622-61D44A88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9432-DF4A-418A-9EFE-08AEEDC3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D6E1-F5CA-415C-9378-75CE3872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BCE7-F473-4164-B494-D6822398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EBFD-D001-4B80-9221-4AA8ABAF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F1D9-8BD5-4AC7-AC61-A658BA29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D25-66F1-425F-B369-0201DF7B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672A-23CE-412F-8E60-8081FC80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BC8F-4E41-4FD0-BB74-9C92F47A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67F5-5CF2-4292-A2F5-2679D420C0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8320" y="1981080"/>
            <a:ext cx="339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tiologic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F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181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62920" y="4724280"/>
            <a:ext cx="1295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543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10280" cy="2895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7010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3352680"/>
            <a:ext cx="7010280" cy="990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701028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7010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3505320"/>
            <a:ext cx="7162560" cy="1025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162560" cy="2743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362320" y="4572000"/>
            <a:ext cx="39621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00200" y="3886200"/>
            <a:ext cx="5562720" cy="981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7010280" cy="3352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600200" y="4876920"/>
            <a:ext cx="5562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4771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85800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43000" y="3200400"/>
            <a:ext cx="6858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9:01Z</dcterms:modified>
  <cp:revision>207</cp:revision>
  <dc:subject/>
  <dc:title>Slide 1</dc:title>
</cp:coreProperties>
</file>