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0C5-017A-45EC-9399-4F7F368C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E8D-B7A6-4B3C-9762-E58797EC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480-59E9-4A0D-AD43-C9D6A117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717-9299-4531-8E09-E9AAE7B0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FCD-DE78-4714-8F91-2AC475BC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40B-68D9-4666-9F50-47190F08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BAA-96A3-4F6D-A2F2-66078590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023-D1C4-4256-A183-137902B8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76D-9DF1-43E2-8156-3C4C11AF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14B-EEB0-4CEA-8B1C-29B0D50E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3A1-8E9A-4A85-A63E-A5BA38DC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A71-4805-4AE2-9C44-0BF6AB6B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2794-F3D3-4CAF-A275-FC0FF797BD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9040" y="1981080"/>
            <a:ext cx="3864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vent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838080" y="91440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68432" r="0" b="8775"/>
          <a:stretch/>
        </p:blipFill>
        <p:spPr>
          <a:xfrm>
            <a:off x="1066680" y="3962520"/>
            <a:ext cx="6934320" cy="2209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43200" y="3505320"/>
            <a:ext cx="33591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utational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0" r="0" b="26161"/>
          <a:stretch/>
        </p:blipFill>
        <p:spPr>
          <a:xfrm>
            <a:off x="1371600" y="457200"/>
            <a:ext cx="6477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68557" r="0" b="7610"/>
          <a:stretch/>
        </p:blipFill>
        <p:spPr>
          <a:xfrm>
            <a:off x="1219320" y="2133720"/>
            <a:ext cx="6629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68306" r="0" b="7610"/>
          <a:stretch/>
        </p:blipFill>
        <p:spPr>
          <a:xfrm>
            <a:off x="1295280" y="1905120"/>
            <a:ext cx="6400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9526"/>
          <a:stretch/>
        </p:blipFill>
        <p:spPr>
          <a:xfrm>
            <a:off x="99072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9588"/>
          <a:stretch/>
        </p:blipFill>
        <p:spPr>
          <a:xfrm>
            <a:off x="10666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51346"/>
          <a:stretch/>
        </p:blipFill>
        <p:spPr>
          <a:xfrm>
            <a:off x="1143000" y="609480"/>
            <a:ext cx="73152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46802" r="0" b="19514"/>
          <a:stretch/>
        </p:blipFill>
        <p:spPr>
          <a:xfrm>
            <a:off x="1143000" y="3352680"/>
            <a:ext cx="7315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53348" r="0" b="36362"/>
          <a:stretch/>
        </p:blipFill>
        <p:spPr>
          <a:xfrm>
            <a:off x="762120" y="3048120"/>
            <a:ext cx="73152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51346"/>
          <a:stretch/>
        </p:blipFill>
        <p:spPr>
          <a:xfrm>
            <a:off x="762120" y="6094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7239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63650" r="0" b="30755"/>
          <a:stretch/>
        </p:blipFill>
        <p:spPr>
          <a:xfrm>
            <a:off x="762120" y="304812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0" r="0" b="51346"/>
          <a:stretch/>
        </p:blipFill>
        <p:spPr>
          <a:xfrm>
            <a:off x="762120" y="6094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3657600"/>
            <a:ext cx="7162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69270" r="0" b="25135"/>
          <a:stretch/>
        </p:blipFill>
        <p:spPr>
          <a:xfrm>
            <a:off x="990720" y="304812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0" b="51346"/>
          <a:stretch/>
        </p:blipFill>
        <p:spPr>
          <a:xfrm>
            <a:off x="990720" y="6094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0720" y="3657600"/>
            <a:ext cx="7238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3345"/>
          <a:stretch/>
        </p:blipFill>
        <p:spPr>
          <a:xfrm>
            <a:off x="1143000" y="990720"/>
            <a:ext cx="7086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73939" r="0" b="19514"/>
          <a:stretch/>
        </p:blipFill>
        <p:spPr>
          <a:xfrm>
            <a:off x="762120" y="3276720"/>
            <a:ext cx="7315200" cy="761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0" b="51346"/>
          <a:stretch/>
        </p:blipFill>
        <p:spPr>
          <a:xfrm>
            <a:off x="762120" y="8380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1143000" y="609480"/>
            <a:ext cx="7238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9588"/>
          <a:stretch/>
        </p:blipFill>
        <p:spPr>
          <a:xfrm>
            <a:off x="91440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10815"/>
          <a:stretch/>
        </p:blipFill>
        <p:spPr>
          <a:xfrm>
            <a:off x="83808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17399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1066680" y="838080"/>
            <a:ext cx="739152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2286000"/>
            <a:ext cx="1143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7086600" cy="5029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6040" y="350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3760" y="2438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9144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838080"/>
            <a:ext cx="6858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483"/>
          <a:stretch/>
        </p:blipFill>
        <p:spPr>
          <a:xfrm>
            <a:off x="990720" y="838080"/>
            <a:ext cx="739116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05720" y="5410080"/>
            <a:ext cx="15238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147"/>
          <a:stretch/>
        </p:blipFill>
        <p:spPr>
          <a:xfrm>
            <a:off x="609480" y="533520"/>
            <a:ext cx="7925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6T15:19:30Z</dcterms:modified>
  <cp:revision>211</cp:revision>
  <dc:subject/>
  <dc:title>Slide 1</dc:title>
</cp:coreProperties>
</file>