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94FC-E0D5-41CE-9988-CF9F1342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DC5-A780-498A-BE7C-521087AC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814-B69A-4953-B358-97EA6B8F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174-4848-4C3F-8479-45E35ADC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B05-7FCF-4B61-A741-9D3566F4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C9B-CD3F-4EC2-A3EF-B157289F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973-47C6-4C7A-A9E5-9B263B10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2AF-5EB5-41D6-BCD5-34B0CF61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43C-E145-4D5B-B036-55C71EE9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71E-3F98-48A7-8F42-AF8D23CB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CA9-BBD0-4565-8D68-99CA7E66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D31F-3E98-47CE-B578-1451A70C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2748-1F3F-45C3-B4E4-56753C8104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0440" y="1828800"/>
            <a:ext cx="6022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Number Need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Treat  (NNT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553080" cy="784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655308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19320" y="3429000"/>
            <a:ext cx="6553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91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91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0120" cy="5410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133720" y="5791320"/>
            <a:ext cx="47116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3483000"/>
            <a:ext cx="6477120" cy="154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4711680" cy="60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295280" y="1143000"/>
            <a:ext cx="6553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6553440" cy="1549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6553440" cy="1752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32767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720" y="4191120"/>
            <a:ext cx="2286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4267080"/>
            <a:ext cx="990720" cy="129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886200" cy="1419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6553440" cy="1752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6629400" cy="1676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934320" y="51055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553080" cy="198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655308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295280" y="3962520"/>
            <a:ext cx="6477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7:05Z</dcterms:modified>
  <cp:revision>207</cp:revision>
  <dc:subject/>
  <dc:title>Slide 1</dc:title>
</cp:coreProperties>
</file>