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9AE5-DA8A-4D3D-9CEA-3ABE9186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E0C6-D724-4205-856B-FC5CEA3C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1238-148C-4CF6-960C-6E86D1A8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6259-F6A6-4A8B-A760-F65AF1FE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C788-8165-4F03-9FCE-6F05FFCB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8E46-17DA-43EB-90C2-2873F501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F0E7-A799-470A-ADBA-A4879CD6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5550-58B3-4F0C-9F3A-6B5E3A06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5FCC-B520-46AD-9A16-71B42562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960C-1F60-4C9E-94D6-76C8C774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44A0-DC5F-4AD5-A711-F932603A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D189-228A-446C-8BDF-3F2777C5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1E7E-0C87-4010-B586-83CFA1602C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1640" y="2362320"/>
            <a:ext cx="572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isk Differen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239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2392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181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0120" y="5410080"/>
            <a:ext cx="4572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781680" y="5638680"/>
            <a:ext cx="1676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441360"/>
            <a:ext cx="7848720" cy="2378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7848720" cy="365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934320" y="617220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7696440" cy="1447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696440" cy="1622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447920" y="380880"/>
            <a:ext cx="6248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7696080" cy="1219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47920" y="380880"/>
            <a:ext cx="624816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7620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7467480" cy="1143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391520" y="3505320"/>
            <a:ext cx="10666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447920" y="380880"/>
            <a:ext cx="624816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066680" y="3886200"/>
            <a:ext cx="7391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5:23Z</dcterms:modified>
  <cp:revision>206</cp:revision>
  <dc:subject/>
  <dc:title>Slide 1</dc:title>
</cp:coreProperties>
</file>