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5DC-880A-430B-B713-726C9FFF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BB3-785B-4DFC-9C0B-D72A15A7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C9C-5D72-407A-A372-27E0DA59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1E8-3536-4589-B2B8-46E7A772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EA3-5249-4085-BE82-A676F88D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3F7-DDC5-4797-932B-8A35849D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6A3-CCFF-4B17-A3F1-002FE817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5CA-4CB4-435F-95E4-AD5758B2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42C-8213-4983-B043-6A5A581E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929-037F-4067-8F7F-15394945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1F7-D02A-4DC4-AB6D-3BB6FB4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72C-61D5-43F1-B0EF-C0DD4CE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AC86-4EEB-498D-9778-162AC95024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8480" y="2133720"/>
            <a:ext cx="4797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alidity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 Overvi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862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3886200" cy="57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3960720" cy="230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3962160" cy="7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648320" y="1523880"/>
            <a:ext cx="3695760" cy="2895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48320" y="533520"/>
            <a:ext cx="3720960" cy="99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68840" y="4800600"/>
            <a:ext cx="4213080" cy="155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ly, exposure to TC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classified according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descriptions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terans selected for stu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0536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762120"/>
            <a:ext cx="6705360" cy="106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Classification of TCDD exposure by job descri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6705360" cy="1435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6880" y="4648320"/>
            <a:ext cx="3429000" cy="129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4876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54100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90512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278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69343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6934320" cy="1752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43200" y="4419720"/>
            <a:ext cx="3657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705720" cy="190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09000" y="3703680"/>
            <a:ext cx="46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If not properly done,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21"/>
                </a:solidFill>
                <a:latin typeface="Times New Roman"/>
              </a:rPr>
              <a:t>Confounding 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70572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05320" y="2133720"/>
            <a:ext cx="22860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48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715000"/>
            <a:ext cx="1752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2920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819520"/>
            <a:ext cx="563904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90720" y="2819520"/>
            <a:ext cx="167616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2895480"/>
            <a:ext cx="228600" cy="73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421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4952880"/>
            <a:ext cx="73152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486400"/>
            <a:ext cx="5105160" cy="685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1T15:39:44Z</dcterms:modified>
  <cp:revision>209</cp:revision>
  <dc:subject/>
  <dc:title>Slide 1</dc:title>
</cp:coreProperties>
</file>