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550C-1628-4E8F-9938-ABD031EA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5C3A-5C2A-410E-A6EC-9E405B95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88E-EE32-49E6-B177-D64D0BCA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9E2-1ADD-4969-8B75-9AE132B7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B83E-415B-4A7C-82AC-A29BF19E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6B60-B465-42E6-80A5-52A835DD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199-4B67-440E-85E3-6DEA9D17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D8F-A04C-41F6-9DB0-BBFD25B0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636-C2E8-426E-A6F6-8775BF88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8A7-3CCC-40DF-A39B-12637972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B642-6727-4F00-8721-6BC1867C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86A1-662D-4096-AF91-FB77D3CB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360D-D2EC-4873-B0F3-12ED74A745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2209680"/>
            <a:ext cx="471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re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 the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77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696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46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3962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4572000"/>
            <a:ext cx="7391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40736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3000" y="2057400"/>
            <a:ext cx="7621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543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07360" cy="2362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391520" cy="1676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1371600"/>
            <a:ext cx="6098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543800" cy="3886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7543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781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848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2:16Z</dcterms:modified>
  <cp:revision>211</cp:revision>
  <dc:subject/>
  <dc:title>Slide 1</dc:title>
</cp:coreProperties>
</file>