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635-3953-4C49-8594-BC8B70AA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5F5-363C-47EA-8DC1-EC6D7C63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58A-84CB-4B07-940A-979C56DD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3ED-55D3-4516-B0BB-8913DE81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1DA-FFA2-4F89-A821-9F6CE6A4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5A7-2EB7-40B9-9E0B-62CF7F7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74F-5A27-4CD8-BF4A-53EE2A91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12E-F8B4-4774-8654-4E46EA85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9C7-51AA-4FB6-B32C-2A4AA36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C11-89C1-4D1D-BCB4-32EED6C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074-6EAD-4D1C-9A33-83E4BB1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A30-9C46-4BC8-ADC8-260CBF8F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75AB-C2B6-4C28-8CB5-8D4231A613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600" y="1905120"/>
            <a:ext cx="54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Quantit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Bi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16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390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380880"/>
            <a:ext cx="2590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257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3311640"/>
            <a:ext cx="7543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257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754380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4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620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1629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49Z</dcterms:modified>
  <cp:revision>210</cp:revision>
  <dc:subject/>
  <dc:title>Slide 1</dc:title>
</cp:coreProperties>
</file>