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681-F258-42E5-A615-04DC954E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7D7-22ED-4AAE-919A-CE7EAA1D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6F1-6F41-410C-9893-BA8F926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FCC-E663-4949-A074-687953A7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CC0-B07F-440A-A6C8-A2E9066A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960-1FB4-4057-806F-62247085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9C1-50FC-40C6-98FF-67862FF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506-70B1-4FAD-B345-4FF90BD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FB5-7232-45DF-A392-A627FBB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0D1-C3F9-446A-8E27-E8AE6AA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A0-1AA8-442F-B7CE-7C71123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ECA-087B-4FD8-98FF-A2AC060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466-BC5D-405D-ACBB-281EC1EF5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5160" y="2209680"/>
            <a:ext cx="69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Can Be D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bout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600280"/>
            <a:ext cx="769608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1480" y="838080"/>
            <a:ext cx="4861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lgebra,  can go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360" y="2427120"/>
            <a:ext cx="515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05520" y="4648320"/>
            <a:ext cx="2819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57150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41Z</dcterms:modified>
  <cp:revision>210</cp:revision>
  <dc:subject/>
  <dc:title>Slide 1</dc:title>
</cp:coreProperties>
</file>