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F62-0AD3-4085-87CF-DEB25AB3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FC7-6457-4246-9535-B333EC62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AB0-ECE5-4AD8-BF2D-C332F681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FBA-B43A-419C-B0BA-EA5246B2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60C-01B6-4C5A-99EB-DB1D4FF2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37D-727F-4AE7-98A5-4A43268C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4AE-C1E0-48D4-A627-E3C8649D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4C4-9875-470D-9070-449C8F71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757-E00B-4368-A4FC-F162A904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30E-A393-4730-AF32-A7A72D92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595-6D1A-4874-BB83-C65B341F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2BA-4B56-4D58-AAC6-B62CF27B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B349-65FE-4FDD-A571-6FA929B655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840" y="2057400"/>
            <a:ext cx="827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nal vs. Extern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9720" y="2209680"/>
            <a:ext cx="36576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886200"/>
            <a:ext cx="2362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343400"/>
            <a:ext cx="2743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3429000"/>
            <a:ext cx="3200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3886200"/>
            <a:ext cx="2362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4343400"/>
            <a:ext cx="2743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467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620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2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75438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543800" cy="2793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8080" y="2666880"/>
            <a:ext cx="75438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23924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72520" y="105552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a41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1:26Z</dcterms:modified>
  <cp:revision>211</cp:revision>
  <dc:subject/>
  <dc:title>Slide 1</dc:title>
</cp:coreProperties>
</file>