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D0E-7344-4027-B353-5824B66D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9CF-D150-4A42-9DB5-428C3FB9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B0B-216A-43C8-BE5F-9C40521C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8EB-B832-49FD-A7F9-18BC051A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C12-B8CA-4C9A-A6E6-1D047F87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81A-C9C9-4A50-BAB1-019088D9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9B2-D761-4B8F-8DED-C4D34E4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702-A358-4298-A9D5-93FF299B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189-5E2E-45A0-B37B-5E7C3614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2AE-3E9F-477C-875A-A74AFD31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F84-8A54-4FD9-91BC-94475FD2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7F5-64FA-4813-A161-37D613A3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5E2B-943C-46CE-8171-916CAC3137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3200" y="1371600"/>
            <a:ext cx="538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ierarch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pulatio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15200" cy="289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315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3124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7315200" cy="75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315200" cy="77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54380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754380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543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38680" y="3886200"/>
            <a:ext cx="27432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619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619760" cy="650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289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761976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848720" cy="911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848720" cy="2819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784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620120" cy="2514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76201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9608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69608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391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4508640" cy="2463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616120" cy="252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56960" y="3382920"/>
            <a:ext cx="6609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92468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246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924680" cy="1451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9246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1904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546360"/>
            <a:ext cx="77724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391520" cy="434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33526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396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754380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0:33Z</dcterms:modified>
  <cp:revision>211</cp:revision>
  <dc:subject/>
  <dc:title>Slide 1</dc:title>
</cp:coreProperties>
</file>