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193-3D88-4C89-81C3-CBC7DE62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8F8-C75B-4B17-AF99-21512288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5E2-6DF8-4A13-95D8-9E7FB0F0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C26-EFA7-4CCB-A499-0525A65B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11E-ADBE-4D02-B40F-20EF8595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E0E-882C-4C84-9E0A-9C310CFC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F27-48CE-4947-BA8E-D0B8FB53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DD5-DFA0-4078-AFC7-427722A5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17C-45DA-4C06-9153-3F9F4AC3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801-715D-47B0-A14C-B344831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E24-9414-44BB-B5ED-E4B9599C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E93-E7B1-4248-9E30-720B444D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FA6F-2DC2-4E49-8879-07FC65A1B5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8120" y="1600200"/>
            <a:ext cx="424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784872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520" y="4343400"/>
            <a:ext cx="7772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784836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7848720" cy="542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784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289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84872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9480" y="4038480"/>
            <a:ext cx="78487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867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0" y="5791320"/>
            <a:ext cx="15238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41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625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40:07Z</dcterms:modified>
  <cp:revision>211</cp:revision>
  <dc:subject/>
  <dc:title>Slide 1</dc:title>
</cp:coreProperties>
</file>