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799-9CF0-4817-8C74-10D51C34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75F-C492-4CB0-A340-4680FCC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EE6-4E1E-49A2-94A8-7C6C264D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3A6-056E-4369-9D63-372AFA36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8FE-4DEC-4BFD-A772-3AEFCBEE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2FE-333E-4C6B-826A-25976FAA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625-F332-4EAE-B3E4-E78A9A40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549-557F-4DCF-AE1F-F9EA2961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F6D-8679-43B3-94CC-251F4447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CBC-E3C5-4F7B-90DE-C3AC0604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79A-9CC2-49C6-926E-E9AE2A9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5E5-D20B-4633-8CC6-AD546573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4394-1FC5-48B0-B642-F149966F54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2209680"/>
            <a:ext cx="652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715000"/>
            <a:ext cx="1524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739152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419112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9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4800600"/>
            <a:ext cx="7617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4648320"/>
            <a:ext cx="20574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4648320"/>
            <a:ext cx="19810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86600" y="58672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696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69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698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698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62520" y="3733920"/>
            <a:ext cx="609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4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162920" y="6095880"/>
            <a:ext cx="1447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87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0" y="4572000"/>
            <a:ext cx="1523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69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696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590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8:33Z</dcterms:modified>
  <cp:revision>213</cp:revision>
  <dc:subject/>
  <dc:title>Slide 1</dc:title>
</cp:coreProperties>
</file>