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9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822D4-C96B-4DE5-8B8C-FF32C06D6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03EAE-C959-434F-8838-51A5C1A39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198BE-0183-42FF-BCD7-5F3AD76AD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1580A-30B8-447B-A468-5A3356DF9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7E1AC-485A-43C5-A6D8-942B0FE39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42938-7760-4747-B57A-578407456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2870D-9136-41E8-90A8-9A69F18C9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296D3-C098-4052-972D-1A04D1910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B5307-8BD7-48EF-BD7A-F8C77A1C1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9B1B0-116B-4CB1-A3F9-C6966F66B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F7607-1C4F-4207-B953-19AD8A32F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4772C-5396-4879-B511-70CD8C2D1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64B34-FCED-41A0-A4C1-E51C42E252A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3920" y="914400"/>
            <a:ext cx="538812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Selection Bia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        </a:t>
            </a: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i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    </a:t>
            </a: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Hospital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</a:t>
            </a: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Case-Control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    </a:t>
            </a: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Studies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990720" y="762120"/>
            <a:ext cx="7238880" cy="25146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990720" y="3276720"/>
            <a:ext cx="7238880" cy="990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990720" y="4267080"/>
            <a:ext cx="723888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838080" y="1447920"/>
            <a:ext cx="7239240" cy="37335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838080" y="5181480"/>
            <a:ext cx="723924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990720" y="533520"/>
            <a:ext cx="7238880" cy="32004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990720" y="3733920"/>
            <a:ext cx="7238880" cy="6094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990720" y="4343400"/>
            <a:ext cx="7238880" cy="18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7238880" cy="32763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914400" y="4495680"/>
            <a:ext cx="7238880" cy="60984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3657600" y="4419720"/>
            <a:ext cx="3808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066680" y="533520"/>
            <a:ext cx="7239240" cy="32763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1066680" y="3809880"/>
            <a:ext cx="7239240" cy="6098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3809880" y="3733920"/>
            <a:ext cx="3812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1066680" y="4419720"/>
            <a:ext cx="7239240" cy="144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990720" y="838080"/>
            <a:ext cx="7238880" cy="3429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990720" y="4267080"/>
            <a:ext cx="7238880" cy="9907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6705720" y="4952880"/>
            <a:ext cx="1523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066680" y="533520"/>
            <a:ext cx="7239240" cy="25146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1066680" y="3048120"/>
            <a:ext cx="7239240" cy="9903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6781680" y="3657600"/>
            <a:ext cx="1524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1066680" y="4038480"/>
            <a:ext cx="723924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39152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762120" y="3048120"/>
            <a:ext cx="7238880" cy="4572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762120" y="533520"/>
            <a:ext cx="7238880" cy="25146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762120" y="3505320"/>
            <a:ext cx="7238880" cy="245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685800" y="762120"/>
            <a:ext cx="7238880" cy="36576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685800" y="4419720"/>
            <a:ext cx="7238880" cy="52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914400" y="380880"/>
            <a:ext cx="7391520" cy="61722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666880" y="4876920"/>
            <a:ext cx="1828800" cy="380880"/>
          </a:xfrm>
          <a:prstGeom prst="ellipse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990720" y="1066680"/>
            <a:ext cx="7238880" cy="25146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990720" y="3581280"/>
            <a:ext cx="7238880" cy="5209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990720" y="4038480"/>
            <a:ext cx="7238880" cy="18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143000" y="838080"/>
            <a:ext cx="7162920" cy="34290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1143000" y="4267080"/>
            <a:ext cx="7162920" cy="143532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6934320" y="5410080"/>
            <a:ext cx="137160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162920" cy="25146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1066680" y="3200400"/>
            <a:ext cx="7162920" cy="7621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6858000" y="3581280"/>
            <a:ext cx="137160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1066680" y="3886200"/>
            <a:ext cx="723924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066680" y="1143000"/>
            <a:ext cx="7162920" cy="34290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1066680" y="4572000"/>
            <a:ext cx="7162920" cy="60948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1828800" y="4419720"/>
            <a:ext cx="30492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162920" cy="25146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1066680" y="3200400"/>
            <a:ext cx="7162920" cy="6094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828800" y="3048120"/>
            <a:ext cx="30492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1066680" y="3809880"/>
            <a:ext cx="716292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162920" cy="3352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066680" y="4038480"/>
            <a:ext cx="7162920" cy="9907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648320" y="4495680"/>
            <a:ext cx="3581280" cy="533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066680" y="457200"/>
            <a:ext cx="7162920" cy="27432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1066680" y="3200400"/>
            <a:ext cx="7162920" cy="99072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4648320" y="3657600"/>
            <a:ext cx="3581280" cy="533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1066680" y="4191120"/>
            <a:ext cx="716292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162920" cy="335304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1066680" y="4648320"/>
            <a:ext cx="7162920" cy="50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219320" y="838080"/>
            <a:ext cx="7162560" cy="25146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219320" y="3352680"/>
            <a:ext cx="7162560" cy="5079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1219320" y="3809880"/>
            <a:ext cx="716256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143000" y="990720"/>
            <a:ext cx="7162920" cy="38862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1143000" y="4876920"/>
            <a:ext cx="7162920" cy="53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762120"/>
            <a:ext cx="762012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219320" y="380880"/>
            <a:ext cx="7162560" cy="29718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1219320" y="3352680"/>
            <a:ext cx="7162560" cy="5335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1219320" y="3886200"/>
            <a:ext cx="716256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762120" y="533520"/>
            <a:ext cx="761976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685800" y="609480"/>
            <a:ext cx="784872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09480" y="533520"/>
            <a:ext cx="8001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7620120" cy="44481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895320" y="5145120"/>
            <a:ext cx="793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sons who are both smokers and have cancer a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ver-represented in a hospital study population wh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ared to the community popula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838080" y="1752480"/>
            <a:ext cx="746784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85800" y="685800"/>
            <a:ext cx="78487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914400" y="1676520"/>
            <a:ext cx="7238880" cy="25146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914400" y="4191120"/>
            <a:ext cx="7238880" cy="99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6T01:37:56Z</dcterms:created>
  <dc:creator>david g. kleinbaum</dc:creator>
  <dc:description/>
  <dc:language>en-US</dc:language>
  <cp:lastModifiedBy>dkleinb</cp:lastModifiedBy>
  <dcterms:modified xsi:type="dcterms:W3CDTF">2003-10-23T15:09:49Z</dcterms:modified>
  <cp:revision>212</cp:revision>
  <dc:subject/>
  <dc:title>Slide 1</dc:title>
</cp:coreProperties>
</file>