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1F0-5970-486F-BCBF-900602B1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2E6-3E53-4CAF-A69D-966C33D7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9F5E-54CE-4964-8E8C-F6046820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AB5-12F5-42C2-AB29-BA4F8C22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B82-0322-4081-9402-736547D2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A35-11BA-420A-8E53-402E5975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E20E-BAA4-41FD-AFD8-1DA54A8F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2E2-1808-49EA-8429-7987A0F9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83AC-7F41-43AE-9ED7-1B01C87A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C2A-F9DC-442B-83BC-F081CB81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1F72-B2A0-4E03-A8E7-3042712D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7FFF-E08E-4B45-B238-032E25D8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79B1-6322-43C4-97F5-F0BB99940D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1640" y="1371600"/>
            <a:ext cx="610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Ratio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obabilit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61976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81680" y="4038480"/>
            <a:ext cx="15717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761976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7619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620120" cy="251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0" y="3657600"/>
            <a:ext cx="15717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62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2819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81680" y="3602160"/>
            <a:ext cx="1571760" cy="51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4114800"/>
            <a:ext cx="7619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635960" cy="2209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950160" y="223056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30240" y="2611440"/>
            <a:ext cx="7620120" cy="1066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30240" y="3678120"/>
            <a:ext cx="76201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3311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7467840" cy="2666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705720" y="5715000"/>
            <a:ext cx="1600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2666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629400" y="2819520"/>
            <a:ext cx="1600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62120" y="3330720"/>
            <a:ext cx="7467480" cy="707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9880" y="3200400"/>
            <a:ext cx="914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3200400"/>
            <a:ext cx="6094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7467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467480" cy="638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467480" cy="2666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629400" y="2590920"/>
            <a:ext cx="1600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74674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7467480" cy="930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7467480" cy="2666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553080" y="3657600"/>
            <a:ext cx="1600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11480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4191120"/>
            <a:ext cx="9907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467840" cy="930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467840" cy="2666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705720" y="2514600"/>
            <a:ext cx="1600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297180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3048120"/>
            <a:ext cx="9903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467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391520" cy="3124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739152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05720" y="5562720"/>
            <a:ext cx="15238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20:38Z</dcterms:modified>
  <cp:revision>212</cp:revision>
  <dc:subject/>
  <dc:title>Slide 1</dc:title>
</cp:coreProperties>
</file>