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D59-C418-4EFF-9592-BA19EB14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EF4-20CD-4025-A1B0-09E01CB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54F-BC7D-4789-B1D8-743F380D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351-9569-44AE-AB63-236A2478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D24-AB41-490F-85FE-CB8B468D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D1E-38EC-4797-8D21-0B5EE2FA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AEA-32CE-4693-BF4A-FD1EE031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055-FE68-411B-AA1B-9AECCD1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625-6B24-4238-9615-D952AFB5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1B6-926C-4928-A3A3-963452B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B38-CAA2-4537-AB96-8529F55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68E-37AE-4CE5-80FC-8C861D2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F04-065E-48F5-8BA9-681136BA5D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oss-Section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6947"/>
          <a:stretch/>
        </p:blipFill>
        <p:spPr>
          <a:xfrm>
            <a:off x="990720" y="457200"/>
            <a:ext cx="7162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858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533520" y="6858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035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76212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91440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1265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943600"/>
            <a:ext cx="1676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67155" r="0" b="22055"/>
          <a:stretch/>
        </p:blipFill>
        <p:spPr>
          <a:xfrm>
            <a:off x="762120" y="33526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6756" r="0" b="11265"/>
          <a:stretch/>
        </p:blipFill>
        <p:spPr>
          <a:xfrm>
            <a:off x="762120" y="3886200"/>
            <a:ext cx="746748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4419720"/>
            <a:ext cx="1752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733920"/>
            <a:ext cx="3352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9528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2329"/>
          <a:stretch/>
        </p:blipFill>
        <p:spPr>
          <a:xfrm>
            <a:off x="990720" y="762120"/>
            <a:ext cx="716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85800" y="60948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7130" r="0" b="21918"/>
          <a:stretch/>
        </p:blipFill>
        <p:spPr>
          <a:xfrm>
            <a:off x="685800" y="3809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609480"/>
            <a:ext cx="746748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76718" r="0" b="16435"/>
          <a:stretch/>
        </p:blipFill>
        <p:spPr>
          <a:xfrm>
            <a:off x="762120" y="3200400"/>
            <a:ext cx="746748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914400"/>
            <a:ext cx="746748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82201" r="0" b="12329"/>
          <a:stretch/>
        </p:blipFill>
        <p:spPr>
          <a:xfrm>
            <a:off x="762120" y="3886200"/>
            <a:ext cx="746748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7120" y="419112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467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8914"/>
          <a:stretch/>
        </p:blipFill>
        <p:spPr>
          <a:xfrm>
            <a:off x="838080" y="83808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09480" y="3808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73839" r="0" b="18914"/>
          <a:stretch/>
        </p:blipFill>
        <p:spPr>
          <a:xfrm>
            <a:off x="609480" y="3124080"/>
            <a:ext cx="77724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696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50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23132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1353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2755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787"/>
          <a:stretch/>
        </p:blipFill>
        <p:spPr>
          <a:xfrm>
            <a:off x="8380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499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7:33Z</dcterms:modified>
  <cp:revision>218</cp:revision>
  <dc:subject/>
  <dc:title>Slide 1</dc:title>
</cp:coreProperties>
</file>