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A127-A9FD-4C76-81F7-AFFD89D79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2DEA-7304-49EF-8B49-586E2A2E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B50F-97DD-4CD2-A948-27AAFD444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1A11-9C2A-4A39-92E2-5B11D4ABE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AF18-0B11-4CF4-A5FF-BB8F2AE0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BBBC-EF3D-4CC0-B2D7-242F9B75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8617-9894-452C-AA57-786E806A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FD57-3ECF-441C-BC6F-400B2CE6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4876-F1A5-4255-A08F-5D76F35D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3E66-20A7-41EA-BCFB-55E979F0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6E98-FD78-40D3-B364-C4A4E22A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820D-E8FA-4A1F-892B-35075CE5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39F2-5B3E-4F81-89D4-9C75890B49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4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36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3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880" y="1752480"/>
            <a:ext cx="6150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Quantitatively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ssessing Bia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in the Risk Rati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3809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914400" y="4952880"/>
            <a:ext cx="7315200" cy="6318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819520" y="4800600"/>
            <a:ext cx="30456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90720" y="4038480"/>
            <a:ext cx="7315200" cy="631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990720" y="533520"/>
            <a:ext cx="7315200" cy="35049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990720" y="4648320"/>
            <a:ext cx="7315200" cy="14475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895480" y="388620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66680" y="4800600"/>
            <a:ext cx="7315200" cy="657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066680" y="990720"/>
            <a:ext cx="73152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315200" cy="2971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143000" y="3657600"/>
            <a:ext cx="7315200" cy="657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143000" y="4267080"/>
            <a:ext cx="73152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620120" cy="4648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914400" y="5562720"/>
            <a:ext cx="2133720" cy="7617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6248520" y="5562720"/>
            <a:ext cx="2286000" cy="761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971800" y="5638680"/>
            <a:ext cx="3276720" cy="581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rresponds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95480" y="5410080"/>
            <a:ext cx="35053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6172200"/>
            <a:ext cx="327672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2120" y="3429000"/>
            <a:ext cx="7696080" cy="2705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76960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2971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38080" y="3581280"/>
            <a:ext cx="7620120" cy="609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838080" y="4191120"/>
            <a:ext cx="7620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620120" cy="3657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838080" y="4800600"/>
            <a:ext cx="7620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3276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38080" y="3962520"/>
            <a:ext cx="7620120" cy="7617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838080" y="4724280"/>
            <a:ext cx="76201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43000" y="3048120"/>
            <a:ext cx="6629400" cy="1218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143000" y="1447920"/>
            <a:ext cx="6629400" cy="1630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cb017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66ccff"/>
                </a:solidFill>
                <a:latin typeface="Times New Roman"/>
              </a:rPr>
              <a:t>Selection bias in th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Times New Roman"/>
              </a:rPr>
              <a:t>        </a:t>
            </a:r>
            <a:r>
              <a:rPr b="1" lang="en-US" sz="4000" spc="-1" strike="noStrike">
                <a:solidFill>
                  <a:srgbClr val="66ccff"/>
                </a:solidFill>
                <a:latin typeface="Times New Roman"/>
              </a:rPr>
              <a:t>Risk Ratio (RR)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038480" y="4267080"/>
            <a:ext cx="3733920" cy="1219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143000" y="4267080"/>
            <a:ext cx="2895480" cy="1219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86200" y="4495680"/>
            <a:ext cx="2286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619760" cy="3809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90720" y="4952880"/>
            <a:ext cx="76197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7619760" cy="2819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990720" y="3124080"/>
            <a:ext cx="7619760" cy="838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990720" y="3962520"/>
            <a:ext cx="76197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62120" y="4495680"/>
            <a:ext cx="7619760" cy="1057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76197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38080" y="2743200"/>
            <a:ext cx="7620120" cy="1057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838080" y="304920"/>
            <a:ext cx="7620120" cy="2438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838080" y="3809880"/>
            <a:ext cx="76201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858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858000" cy="2514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219320" y="3962520"/>
            <a:ext cx="685800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38080" y="3276720"/>
            <a:ext cx="7620120" cy="2720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838080" y="914400"/>
            <a:ext cx="76201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3254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62120" y="3886200"/>
            <a:ext cx="7619760" cy="609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62120" y="4495680"/>
            <a:ext cx="76197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620120" cy="38098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85800" y="4952880"/>
            <a:ext cx="762012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620120" cy="3025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838080" y="3429000"/>
            <a:ext cx="7620120" cy="635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838080" y="4038480"/>
            <a:ext cx="7620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371600" y="533520"/>
            <a:ext cx="6629400" cy="1630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cb017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66ccff"/>
                </a:solidFill>
                <a:latin typeface="Times New Roman"/>
              </a:rPr>
              <a:t>Selection bias in th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Times New Roman"/>
              </a:rPr>
              <a:t>        </a:t>
            </a:r>
            <a:r>
              <a:rPr b="1" lang="en-US" sz="4000" spc="-1" strike="noStrike">
                <a:solidFill>
                  <a:srgbClr val="66ccff"/>
                </a:solidFill>
                <a:latin typeface="Times New Roman"/>
              </a:rPr>
              <a:t>Risk Ratio (RR)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371600" y="3200400"/>
            <a:ext cx="6629400" cy="3048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895480" y="2130480"/>
            <a:ext cx="3505320" cy="1069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371600" y="2133720"/>
            <a:ext cx="1523880" cy="1066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6324480" y="2057400"/>
            <a:ext cx="16765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4572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62120" y="5257800"/>
            <a:ext cx="76197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620120" cy="3406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762012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838080" y="4419720"/>
            <a:ext cx="76201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38080" y="5181480"/>
            <a:ext cx="7620120" cy="9493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38080" y="609480"/>
            <a:ext cx="7620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7620120" cy="9493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7620120" cy="3406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85800" y="4724280"/>
            <a:ext cx="76201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38080" y="5029200"/>
            <a:ext cx="7620120" cy="838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38080" y="3809880"/>
            <a:ext cx="7620120" cy="838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838080" y="457200"/>
            <a:ext cx="7620120" cy="34066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838080" y="4648320"/>
            <a:ext cx="7620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66680" y="3581280"/>
            <a:ext cx="7315200" cy="2667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066680" y="762120"/>
            <a:ext cx="731520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315200" cy="2590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7315200" cy="549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362320" y="2895480"/>
            <a:ext cx="22860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276720" y="2971080"/>
            <a:ext cx="30456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028840" y="2971800"/>
            <a:ext cx="228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838080" y="3809880"/>
            <a:ext cx="7315200" cy="1854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flipH="1">
            <a:off x="2514240" y="327672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327672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29200" y="327672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315200" cy="33530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90720" y="4876920"/>
            <a:ext cx="73152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315200" cy="2743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066680" y="3657600"/>
            <a:ext cx="73152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066680" y="4267080"/>
            <a:ext cx="73152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315200" cy="3505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066680" y="4419720"/>
            <a:ext cx="73152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7315200" cy="22100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43000" y="2590920"/>
            <a:ext cx="7315200" cy="838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143000" y="3429000"/>
            <a:ext cx="73152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3T15:10:15Z</dcterms:modified>
  <cp:revision>214</cp:revision>
  <dc:subject/>
  <dc:title>Slide 1</dc:title>
</cp:coreProperties>
</file>