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2CBD-0860-4B97-9307-88E73C0C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AACB-4694-49C4-8571-53923BF9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032D-C636-4C32-AC51-94B43AC1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609A-1C45-4389-89CD-1287E692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B865-8F92-44FB-A181-BC7774E5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3966-6B15-45C4-AE77-5C1E0D24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BF89-670B-4D90-AD79-1EEFD27A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B2C1-18E6-498E-B973-941E7C45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BD1-DCE2-43FE-A154-47D6518E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CBE5-5678-4926-97C4-C76C3A68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8A12-0913-4C1A-8D19-B9DB698D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777E-3741-4967-8E54-DDF7B3E0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3091-96F8-4D69-BAAE-0AAAF376DB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6560" y="1371600"/>
            <a:ext cx="6994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hat Can Be D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Quantitativel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bou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358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80773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3657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3520" y="4267080"/>
            <a:ext cx="8076960" cy="685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14400" y="4191120"/>
            <a:ext cx="464832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3520" y="4952880"/>
            <a:ext cx="807696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77320" cy="4572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5334120"/>
            <a:ext cx="80773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77320" cy="3581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880" y="4267080"/>
            <a:ext cx="8077320" cy="68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80880" y="4952880"/>
            <a:ext cx="8077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4800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5257800"/>
            <a:ext cx="80773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07732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8077320" cy="990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0880" y="4800600"/>
            <a:ext cx="8077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4724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5181480"/>
            <a:ext cx="80773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77320" cy="3353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807732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09480" y="4800600"/>
            <a:ext cx="8077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543800" cy="3733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14400" y="4267080"/>
            <a:ext cx="75438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3311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38080" y="3857760"/>
            <a:ext cx="7543800" cy="942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38080" y="4800600"/>
            <a:ext cx="7543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543800" cy="4572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14400" y="5105520"/>
            <a:ext cx="7543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3387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54380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838080" y="4800600"/>
            <a:ext cx="7543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543800" cy="4572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14400" y="5105520"/>
            <a:ext cx="7543800" cy="990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086600" y="5638680"/>
            <a:ext cx="13716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3159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8080" y="3657600"/>
            <a:ext cx="7543800" cy="990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010280" y="4191120"/>
            <a:ext cx="13716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38080" y="4648320"/>
            <a:ext cx="7543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11:55Z</dcterms:modified>
  <cp:revision>213</cp:revision>
  <dc:subject/>
  <dc:title>Slide 1</dc:title>
</cp:coreProperties>
</file>