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91DC-2031-44D2-B994-C070A162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163D-F401-4499-915E-F2A83E4D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9CDD-4BFA-4F35-9E85-B22A151FF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6993-B60C-4766-AECF-8BB03D69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9311-38E1-43E7-BC49-D79890A3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A733-0A5F-43BD-BD8B-02F9E605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E8F7-44E7-4BBC-88CE-48C3F9D3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F78E-4E76-4E71-9A98-CABC83F4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4A97-49B0-41F6-A3FA-2D3A6C05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7F60-7739-4F79-9144-702739F1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F3D4-E205-4CCA-913D-CC1F7624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BACB-B906-4B88-9B59-8D3612AE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23E8-EEFA-46B0-9894-A77B04A5D6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8840" y="1447920"/>
            <a:ext cx="7206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What Can Be Do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bout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Qualitativel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848360" cy="1447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78483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6748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2575080"/>
            <a:ext cx="746748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391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543800" cy="1730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543800" cy="1038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85800" y="3276720"/>
            <a:ext cx="7543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543800" cy="1730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543800" cy="1219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85800" y="3276720"/>
            <a:ext cx="7543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543800" cy="1730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543800" cy="1006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5800" y="3276720"/>
            <a:ext cx="75438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8487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62120" y="2514600"/>
            <a:ext cx="7619760" cy="1089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62120" y="3581280"/>
            <a:ext cx="7619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7619760" cy="1371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543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62120" y="2514600"/>
            <a:ext cx="7619760" cy="1447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7543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620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562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934320" y="6019920"/>
            <a:ext cx="14475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96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54380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7543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391520" cy="1828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43000" y="2666880"/>
            <a:ext cx="73152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11:11Z</dcterms:modified>
  <cp:revision>213</cp:revision>
  <dc:subject/>
  <dc:title>Slide 1</dc:title>
</cp:coreProperties>
</file>