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44A-0E35-453B-ABE5-AD1329BB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863-E53B-44AE-9431-BFBC841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02F-10AA-40E8-896A-DA8E3452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9E3-6DA8-45F9-84B2-3F06D927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351-0552-4A32-B784-85474AB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1FA-51B6-453E-8688-81F38F9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64F-AEF8-43F6-A614-CC20321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A3C-BFEB-47D5-820F-6CD23670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A22-BEDB-489B-B1A3-B67CA55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78B-B3E9-4E22-B550-8D8EB5A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C8F-3BD5-4615-A3DC-9F2435E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CA0-94F9-4BCA-BFB3-0E37058C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67F-1546-4B57-BE1F-BAF8E1C25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53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00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16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848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9:53Z</dcterms:modified>
  <cp:revision>212</cp:revision>
  <dc:subject/>
  <dc:title>Slide 1</dc:title>
</cp:coreProperties>
</file>