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6EB-70A5-47FF-B76B-6A1FF3F8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E94-943A-4122-813F-B120A5B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1A8-E467-4FDD-A219-54CA930B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256-31F6-47F7-9865-B4521A84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E25-8D7E-496F-8F48-F62703D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E64-451C-4385-B6B5-9961D02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A61-8A53-472E-A686-FE5C1A6E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D54-A8C7-4923-828E-0CBB3C5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893-FAF4-436A-A80C-64820B6F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133-4CDB-4A83-86E5-1EFC9B5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64A-F9DC-479E-9FD8-F15DDC0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67F-569F-4D18-946A-B1DF7D5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490-C929-4414-8425-FD5766B616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e 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appropri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hoice of Contro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7913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609588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31520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315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43000" y="4724280"/>
            <a:ext cx="7238880" cy="16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4320" y="4419720"/>
            <a:ext cx="1447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651040"/>
            <a:ext cx="723924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3706920" cy="487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05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23924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239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438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10280" y="34290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10280" y="27432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77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4:15Z</dcterms:modified>
  <cp:revision>212</cp:revision>
  <dc:subject/>
  <dc:title>Slide 1</dc:title>
</cp:coreProperties>
</file>