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BD0-612C-4D06-8898-7462EF44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E8C-CB98-4379-9F0A-A9391C5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4F4-4EC9-4E0A-AA1F-BC28A403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F4E-A281-44B8-AF88-098B020B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F62-64F8-453D-89A8-DF7E50A4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A6D-D10A-4512-9152-1E06163C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F69-D2DF-4BB2-A756-61A97ADF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9AE-31D8-464F-BFC9-B9616C6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6E4-1784-4AC3-AC03-7E41848C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1F1-5314-4F39-AD87-CDC9DC7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87C-DE47-422C-951C-0928ABB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D2-00DE-4FE1-ACD2-67731DD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35CB-BBCD-41FB-820D-127184F1F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1447920"/>
            <a:ext cx="538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mula f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31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19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84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8487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7848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157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3962520" cy="15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2120" y="2438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1:46Z</dcterms:modified>
  <cp:revision>212</cp:revision>
  <dc:subject/>
  <dc:title>Slide 1</dc:title>
</cp:coreProperties>
</file>