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716-D987-4A63-99B0-59A8A427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E44-0873-4BDC-A326-25DA1BC9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2B9-CAA0-499B-A34B-55DD0549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F79-8477-411F-8A7C-6AA39A38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528-0FC0-4F9B-971E-725CA2D3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334-FAED-4EF7-A510-5C220D62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108-03AB-48D4-BA4F-8526FE8A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BA6-2FA1-4C13-B23D-9BC5B4DE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7E1-FDDC-4376-AD0F-49EE1470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3B5-88AD-4898-9319-4A6C4386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422-2332-4FB8-8F52-B35A47E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8E9-8D2C-4870-97E9-B62E7A8E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4E8A-0F39-4241-AB40-4D253F9E38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7280" y="1447920"/>
            <a:ext cx="547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t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y Desig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2680" y="762120"/>
            <a:ext cx="2514600" cy="444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276720"/>
            <a:ext cx="41911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4952880"/>
            <a:ext cx="716292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716292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43000" y="2666880"/>
            <a:ext cx="716292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5029200"/>
            <a:ext cx="8380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077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543800" cy="181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01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7543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60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54380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7543800" cy="695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467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41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20400" y="19051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Epi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2924280"/>
            <a:ext cx="76201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7543800" cy="949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75438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1905120" cy="990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06600" y="1512720"/>
            <a:ext cx="21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 issu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5638680"/>
            <a:ext cx="24382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7619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7:39Z</dcterms:modified>
  <cp:revision>213</cp:revision>
  <dc:subject/>
  <dc:title>Slide 1</dc:title>
</cp:coreProperties>
</file>