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420-B630-43A1-9738-A4783BBD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285-C0F4-43FB-A102-6CF7DA81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D2F-BBE1-4F27-BF14-E57AF40B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3EA-0824-4227-8454-A52C2CF0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4C8-B0EB-482B-9754-C548A0DD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E89-E568-45F7-81C9-D25368FE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ACE-5BC6-412E-B4BA-EF169A4B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EAE-08D7-4006-A29A-2D2B232D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E6B-FE45-49C4-9446-95BA0354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A79-6D94-43A0-8067-7164B28E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B40-42CE-4172-B14F-DABA416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BD4-6CE6-4221-8A7B-F5DFFB6B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D4DB-5AB7-414C-8855-265C5D3E20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47920"/>
            <a:ext cx="581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 o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Case 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238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5720" y="3733920"/>
            <a:ext cx="15238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238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41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81600" y="852480"/>
            <a:ext cx="59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erent choice of controls sugges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2276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9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91160" cy="2048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391160" cy="152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391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772400" cy="101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175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696080" cy="113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6960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848720" cy="541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05520" y="1905120"/>
            <a:ext cx="2590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2743200"/>
            <a:ext cx="167652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3352680"/>
            <a:ext cx="2286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1752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69608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86600" y="6172200"/>
            <a:ext cx="13716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40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162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312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29400" y="571500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8:06Z</dcterms:modified>
  <cp:revision>213</cp:revision>
  <dc:subject/>
  <dc:title>Slide 1</dc:title>
</cp:coreProperties>
</file>