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959DF-C2BA-40A9-9788-B11695046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1A263-D229-44F2-9219-4EDCC1E6B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2FBFE-04B8-4A41-A840-F0F3D0023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EB5EC-2448-4BE1-B687-424A645B8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84F40-01A6-4CAB-AF09-DEE362356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70B90-EFF0-407F-BF65-0C29B2461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F8B9D-B1B0-4E61-A1A5-808AD282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3AE0D-8B81-4B36-8277-673373E43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2E968-926E-478E-9D73-122EC314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2055-9C59-4539-8CB0-47C606818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EB4C-4CA2-4505-A71E-51851FD4E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5A8B-C7D8-4BAD-8C24-2587CA988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8915-C668-4D8A-971B-34B166812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William Ogle, 1885</a:t>
            </a:r>
            <a:endParaRPr b="0" lang="en-US" sz="4000" spc="-1" strike="noStrike">
              <a:solidFill>
                <a:srgbClr val="000000"/>
              </a:solidFill>
              <a:latin typeface="Arial"/>
            </a:endParaRPr>
          </a:p>
        </p:txBody>
      </p:sp>
      <p:sp>
        <p:nvSpPr>
          <p:cNvPr id="4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two major difficulties in occupational mortality stud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me occupations may be of necessity recruited from men of supernormal physical condition” </a:t>
            </a:r>
            <a:r>
              <a:rPr b="1" lang="en-US" sz="2400" spc="-1" strike="noStrike">
                <a:solidFill>
                  <a:srgbClr val="000000"/>
                </a:solidFill>
                <a:latin typeface="Arial"/>
              </a:rPr>
              <a:t>(selection into the workplace or cohor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ccupations require a “considerable standard of muscular strength and vigor to be maintained” </a:t>
            </a:r>
            <a:r>
              <a:rPr b="1" lang="en-US" sz="2400" spc="-1" strike="noStrike">
                <a:solidFill>
                  <a:srgbClr val="000000"/>
                </a:solidFill>
                <a:latin typeface="Arial"/>
              </a:rPr>
              <a:t>(survivor effect, or selection out of the workplace or cohor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a:t>
            </a:r>
            <a:endParaRPr b="0" lang="en-US" sz="4000" spc="-1" strike="noStrike">
              <a:solidFill>
                <a:srgbClr val="000000"/>
              </a:solidFill>
              <a:latin typeface="Arial"/>
            </a:endParaRPr>
          </a:p>
        </p:txBody>
      </p:sp>
      <p:sp>
        <p:nvSpPr>
          <p:cNvPr id="60"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dustries may accept workers with social problems, unhealthy habits, or health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to healthy survivor effect bi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dustries will not hire such worke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to healthy hire effect bi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actors affecting hiring practi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mployment r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 of pre-employment health exa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other social “safety net” progra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quirements of the job</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lection into subgroups of job tasks or exposures within the cohort is based on health status of the worker at time of hire, then internal comparisons may be biased (“internal healthy hire effect b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a:t>
            </a:r>
            <a:endParaRPr b="0" lang="en-US" sz="4000" spc="-1" strike="noStrike">
              <a:solidFill>
                <a:srgbClr val="000000"/>
              </a:solidFill>
              <a:latin typeface="Arial"/>
            </a:endParaRPr>
          </a:p>
        </p:txBody>
      </p:sp>
      <p:sp>
        <p:nvSpPr>
          <p:cNvPr id="62"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healthy worker effect biases may vary 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ethnic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la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at h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employ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follow-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occup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mortality/morbid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a:t>
            </a:r>
            <a:br>
              <a:rPr sz="4000"/>
            </a:br>
            <a:r>
              <a:rPr b="0" lang="en-US" sz="4000" spc="-1" strike="noStrike">
                <a:solidFill>
                  <a:srgbClr val="000000"/>
                </a:solidFill>
                <a:latin typeface="Arial"/>
              </a:rPr>
              <a:t>Impact on measures of effect</a:t>
            </a:r>
            <a:endParaRPr b="0" lang="en-US" sz="4000" spc="-1" strike="noStrike">
              <a:solidFill>
                <a:srgbClr val="000000"/>
              </a:solidFill>
              <a:latin typeface="Arial"/>
            </a:endParaRPr>
          </a:p>
        </p:txBody>
      </p:sp>
      <p:sp>
        <p:nvSpPr>
          <p:cNvPr id="64" name="PlaceHolder 2"/>
          <p:cNvSpPr>
            <a:spLocks noGrp="1"/>
          </p:cNvSpPr>
          <p:nvPr>
            <p:ph/>
          </p:nvPr>
        </p:nvSpPr>
        <p:spPr>
          <a:xfrm>
            <a:off x="304560" y="1752480"/>
            <a:ext cx="88390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bias) on effect measures is most striking for: </a:t>
            </a:r>
            <a:endParaRPr b="0" lang="en-US" sz="28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bidity measure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monary function, respiratory symptom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behavioral symptom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place injuries</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ality measure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uses of death combi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malignant</a:t>
            </a:r>
            <a:r>
              <a:rPr b="0" lang="en-US" sz="2000" spc="-1" strike="noStrike">
                <a:solidFill>
                  <a:srgbClr val="000000"/>
                </a:solidFill>
                <a:latin typeface="Arial"/>
              </a:rPr>
              <a:t> chronic conditions (e.g., heart disease)</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is less striking for cancer endpoints</a:t>
            </a:r>
            <a:endParaRPr b="0" lang="en-US" sz="28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ospective Cohort Study of polyvinyl chloride manufacturing workers, 1940-1974:</a:t>
            </a:r>
            <a:br>
              <a:rPr sz="3200"/>
            </a:br>
            <a:r>
              <a:rPr b="1" lang="en-US" sz="3200" spc="-1" strike="noStrike" u="sng">
                <a:solidFill>
                  <a:srgbClr val="000000"/>
                </a:solidFill>
                <a:uFillTx/>
                <a:latin typeface="Arial"/>
              </a:rPr>
              <a:t>Healthy Hire Effect</a:t>
            </a:r>
            <a:endParaRPr b="0" lang="en-US" sz="3200" spc="-1" strike="noStrike">
              <a:solidFill>
                <a:srgbClr val="000000"/>
              </a:solidFill>
              <a:latin typeface="Arial"/>
            </a:endParaRPr>
          </a:p>
        </p:txBody>
      </p:sp>
      <p:graphicFrame>
        <p:nvGraphicFramePr>
          <p:cNvPr id="66" name=""/>
          <p:cNvGraphicFramePr/>
          <p:nvPr/>
        </p:nvGraphicFramePr>
        <p:xfrm>
          <a:off x="76320" y="2057400"/>
          <a:ext cx="8915400" cy="4722840"/>
        </p:xfrm>
        <a:graphic>
          <a:graphicData uri="http://schemas.openxmlformats.org/drawingml/2006/table">
            <a:tbl>
              <a:tblPr/>
              <a:tblGrid>
                <a:gridCol w="2166840"/>
                <a:gridCol w="1122480"/>
                <a:gridCol w="1206360"/>
                <a:gridCol w="1523880"/>
                <a:gridCol w="1603440"/>
                <a:gridCol w="1292400"/>
              </a:tblGrid>
              <a:tr h="825480">
                <a:tc gridSpan="6">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Mortality Ratio (SMR) by cause of death and length of time (years) since entering the industr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Dea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erio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u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ory disea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iratory disea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ospective Cohort Study of polyvinyl chloride manufacturing workers, 1940-1974:</a:t>
            </a:r>
            <a:br>
              <a:rPr sz="3200"/>
            </a:br>
            <a:r>
              <a:rPr b="1" lang="en-US" sz="3200" spc="-1" strike="noStrike" u="sng">
                <a:solidFill>
                  <a:srgbClr val="000000"/>
                </a:solidFill>
                <a:uFillTx/>
                <a:latin typeface="Arial"/>
              </a:rPr>
              <a:t>Healthy Survivor Effect</a:t>
            </a:r>
            <a:endParaRPr b="0" lang="en-US" sz="3200" spc="-1" strike="noStrike">
              <a:solidFill>
                <a:srgbClr val="000000"/>
              </a:solidFill>
              <a:latin typeface="Arial"/>
            </a:endParaRPr>
          </a:p>
        </p:txBody>
      </p:sp>
      <p:graphicFrame>
        <p:nvGraphicFramePr>
          <p:cNvPr id="68" name=""/>
          <p:cNvGraphicFramePr/>
          <p:nvPr/>
        </p:nvGraphicFramePr>
        <p:xfrm>
          <a:off x="304920" y="1981080"/>
          <a:ext cx="8381880" cy="4660920"/>
        </p:xfrm>
        <a:graphic>
          <a:graphicData uri="http://schemas.openxmlformats.org/drawingml/2006/table">
            <a:tbl>
              <a:tblPr/>
              <a:tblGrid>
                <a:gridCol w="1690560"/>
                <a:gridCol w="1287360"/>
                <a:gridCol w="1136880"/>
                <a:gridCol w="914400"/>
                <a:gridCol w="1218960"/>
                <a:gridCol w="1219320"/>
                <a:gridCol w="914400"/>
              </a:tblGrid>
              <a:tr h="825480">
                <a:tc grid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nd “past” (i.e., terminated employment &lt;15 yrs from time of hire) employees alive 15 years after time of hir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of de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mploy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Expected  SM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t employ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Expected  SM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nc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g canc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ory dise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iratory dise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ath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8.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Impact on measures of effect</a:t>
            </a:r>
            <a:endParaRPr b="0" lang="en-US" sz="4000" spc="-1" strike="noStrike">
              <a:solidFill>
                <a:srgbClr val="000000"/>
              </a:solidFill>
              <a:latin typeface="Arial"/>
            </a:endParaRPr>
          </a:p>
        </p:txBody>
      </p:sp>
      <p:sp>
        <p:nvSpPr>
          <p:cNvPr id="70" name="PlaceHolder 2"/>
          <p:cNvSpPr>
            <a:spLocks noGrp="1"/>
          </p:cNvSpPr>
          <p:nvPr>
            <p:ph/>
          </p:nvPr>
        </p:nvSpPr>
        <p:spPr>
          <a:xfrm>
            <a:off x="304920" y="1828800"/>
            <a:ext cx="8610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HWE bias greater for nonmalignant morbidity/mort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usually accompany these condi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ptomatic individuals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be hi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remain actively employ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either leave the workplace or transfer to a job with lower expos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ing Healthy Hire Effect B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comparisons internal to the cohor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e disease rates among different exposure categories within the cohor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mparisons minimize this bias becaus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hort members passed through similar hiring proces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the distribution of confounders (e.g., smoking status) within the cohort are much smaller than differences between the cohort and the general (source) population</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combining all causes of mortalit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7468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ing Time-Since-Hire Effect Bi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mparisons alone cannot solve the probl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ify by time-since-hi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cumulative exposure groups (e.g., high vs low cumulative exposure) among those with shorter time since hir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cumulative exposure groups among those with longer time since hir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ify by age (currrent or at hire) and work status (active/inactive) instead of time-since-hi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609480" y="11430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imizing Healthy Survivor Effect Bia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ifficult of the healthy worker effect biases to minimiz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internal comparisons and stratifying by time-since-hire are not sufficient to minimize this bi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 make comparisons among those who are similarly affected by the healthy survivor effect bi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2280"/>
            <a:ext cx="8001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152280" y="1294920"/>
            <a:ext cx="876312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trict analysis</a:t>
            </a:r>
            <a:r>
              <a:rPr b="0" lang="en-US" sz="3200" spc="-1" strike="noStrike">
                <a:solidFill>
                  <a:srgbClr val="000000"/>
                </a:solidFill>
                <a:latin typeface="Arial"/>
              </a:rPr>
              <a:t> to those who survive and are followed up for at least 10-15 years since time of hi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isadvantages</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statistical power due to smaller numbers after restric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healthy survivor effect is minimal after 10-15 years, but there is no evidence that this is the case.</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William Ogle, 1885</a:t>
            </a:r>
            <a:endParaRPr b="0" lang="en-US" sz="4000" spc="-1" strike="noStrike">
              <a:solidFill>
                <a:srgbClr val="000000"/>
              </a:solidFill>
              <a:latin typeface="Arial"/>
            </a:endParaRPr>
          </a:p>
        </p:txBody>
      </p:sp>
      <p:sp>
        <p:nvSpPr>
          <p:cNvPr id="4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gle recognized that the bias from these two difficulties was in the same direction: </a:t>
            </a:r>
            <a:r>
              <a:rPr b="1" lang="en-US" sz="3200" spc="-1" strike="noStrike">
                <a:solidFill>
                  <a:srgbClr val="000000"/>
                </a:solidFill>
                <a:latin typeface="Arial"/>
              </a:rPr>
              <a:t>bias away from the null and towards lower than expected mortality and morbidity rat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192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ify by employment status</a:t>
            </a:r>
            <a:r>
              <a:rPr b="0" lang="en-US" sz="2800" spc="-1" strike="noStrike">
                <a:solidFill>
                  <a:srgbClr val="000000"/>
                </a:solidFill>
                <a:latin typeface="Arial"/>
              </a:rPr>
              <a:t>: active vs inac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advantag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active” group has heterogeneous disease risks, since the “inactive” worker may b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elsewher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le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ily unemployed or involuntarily unemployed</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data to distinguish those who are “off-work” from those who are employed elsewher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a are unavailable, stratify by current age (a proxy for retired vs other “inactiv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ify by time since transfer to deal with workers who transferred for health reasons</a:t>
            </a:r>
            <a:endParaRPr b="0" lang="en-US" sz="20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0" y="1447560"/>
            <a:ext cx="87631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ify by employment status</a:t>
            </a:r>
            <a:r>
              <a:rPr b="0" lang="en-US" sz="2800" spc="-1" strike="noStrike">
                <a:solidFill>
                  <a:srgbClr val="000000"/>
                </a:solidFill>
                <a:latin typeface="Arial"/>
              </a:rPr>
              <a:t>: active vs ina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advantag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oss-sectional studies</a:t>
            </a:r>
            <a:r>
              <a:rPr b="0" lang="en-US" sz="2000" spc="-1" strike="noStrike">
                <a:solidFill>
                  <a:srgbClr val="000000"/>
                </a:solidFill>
                <a:latin typeface="Arial"/>
              </a:rPr>
              <a:t> only include active workers, and there is no data on the health status of inactive workers</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prevalence data into incidence data:</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elf-reported year of first onset of symptoms to determine yearly incidence rate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incidence rates among the exposure groups for each year prior to the cross-sectional survey</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incidence rates one to two years prior to the survey dat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transforming prevalence data into incidence data by using self-reported year of onset to determine yearly incidence rates: persistent pain from repetitive motion among garment workers</a:t>
            </a:r>
            <a:endParaRPr b="0" lang="en-US" sz="2400" spc="-1" strike="noStrike">
              <a:solidFill>
                <a:srgbClr val="000000"/>
              </a:solidFill>
              <a:latin typeface="Arial"/>
            </a:endParaRPr>
          </a:p>
        </p:txBody>
      </p:sp>
      <p:pic>
        <p:nvPicPr>
          <p:cNvPr id="84" name="" descr=""/>
          <p:cNvPicPr/>
          <p:nvPr/>
        </p:nvPicPr>
        <p:blipFill>
          <a:blip r:embed="rId1"/>
          <a:stretch/>
        </p:blipFill>
        <p:spPr>
          <a:xfrm>
            <a:off x="1523880" y="1676520"/>
            <a:ext cx="5410440" cy="496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304560" y="1447920"/>
            <a:ext cx="883908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g exposures:</a:t>
            </a:r>
            <a:r>
              <a:rPr b="0" lang="en-US" sz="2800" spc="-1" strike="noStrike">
                <a:solidFill>
                  <a:srgbClr val="000000"/>
                </a:solidFill>
                <a:latin typeface="Arial"/>
              </a:rPr>
              <a:t> ignores recent exposu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tivation</a:t>
            </a:r>
            <a:r>
              <a:rPr b="0" lang="en-US" sz="2400" spc="-1" strike="noStrike">
                <a:solidFill>
                  <a:srgbClr val="000000"/>
                </a:solidFill>
                <a:latin typeface="Arial"/>
              </a:rPr>
              <a:t>: Since only the healthier workers survived on the job to receive recent exposures, ignore the recent exposures to eliminate the relationship between exposure and job surviva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ame procedure as assuming a </a:t>
            </a:r>
            <a:r>
              <a:rPr b="1" lang="en-US" sz="2400" spc="-1" strike="noStrike">
                <a:solidFill>
                  <a:srgbClr val="000000"/>
                </a:solidFill>
                <a:latin typeface="Arial"/>
              </a:rPr>
              <a:t>latency period</a:t>
            </a:r>
            <a:r>
              <a:rPr b="0" lang="en-US" sz="2400" spc="-1" strike="noStrike">
                <a:solidFill>
                  <a:srgbClr val="000000"/>
                </a:solidFill>
                <a:latin typeface="Arial"/>
              </a:rPr>
              <a:t> for a disease, except that the motivation for defining a latency period has to do with the exposure-disease process, not the exposure-job survival relationshi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g exposu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the period in which the healthy survivor bias operates is shorter than the exposure lag time (or latency peri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ime “off work” is equivalent to time “on work” at zero exposure</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 results indicate that this  approach works as well or better than stratifying on employment status in dealing with bias due to termination of employment for health reason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152280" y="1599840"/>
            <a:ext cx="8763120" cy="44197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vasive problem in occupational mortality and morbidity studie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underestimates of, (or may totally obliterate), exposure-disease association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distortion of dose-response relationships</a:t>
            </a:r>
            <a:endParaRPr b="0" lang="en-US" sz="28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 for minimizing HWE bias: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exposure-disease comparisons among those  similarly affected by the bias</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Hire Effec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selection of healthy individuals at time of hire so that their disease risks differ from the disease risks in the source (general) population</a:t>
            </a:r>
            <a:endParaRPr b="0" lang="en-US" sz="28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ing is dependent upon passing a pre-employment medical examinatio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selection of individual (able to apply for the job)</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occurs when comparing disease rates between the worker cohort and the general populatio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is greatest during the initial period of follow-up and diminishes to some extent over tim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as</a:t>
            </a:r>
            <a:r>
              <a:rPr b="0" lang="en-US" sz="2400" spc="-1" strike="noStrike">
                <a:solidFill>
                  <a:srgbClr val="000000"/>
                </a:solidFill>
                <a:latin typeface="Arial"/>
              </a:rPr>
              <a:t>: lower than expected mortality/morbidity rates</a:t>
            </a:r>
            <a:endParaRPr b="0" lang="en-US" sz="2400" spc="-1" strike="noStrike">
              <a:solidFill>
                <a:srgbClr val="00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Since-Hire Effec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ine in health with time (e.g., &gt;15 years) since hire (the effect of the initial selection in the hiring process wears off over time)</a:t>
            </a:r>
            <a:endParaRPr b="0" lang="en-US" sz="24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occurs because lower cumulative exposure categories include more recent hires than higher cumulative exposure categorie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time-since-hire is correlated with increasing cumulative exposure</a:t>
            </a: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umulative exposure categories appear to be associated with higher disease risks even when no exposure-disease relationship exists</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is away from null leading to an overestimate of the health effect at higher cumulative exposure levels</a:t>
            </a:r>
            <a:endParaRPr b="0" lang="en-US" sz="20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152280" y="1143000"/>
            <a:ext cx="86868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y Survivor Effec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tinuing selection process in the workpla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al of healthier individuals in the active workforce (a selective retention of healthy workers in the workfor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ut of unhealthy (symptomatic) workers from workforce (health-related job mobility or terminati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employm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to jobs with lower exposure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152280" y="914400"/>
            <a:ext cx="8686800" cy="5486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viewed as a confounder:</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ng employment (or transfer to a less exposed job) is related to future exposure</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ng employment is an independent risk factor for disease</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cial effects to health of continued employment:</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access to health care</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standard of living</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exercise</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disease screening at workplace</a:t>
            </a:r>
            <a:endParaRPr b="0" lang="en-US" sz="1800" spc="-1" strike="noStrike">
              <a:solidFill>
                <a:srgbClr val="000000"/>
              </a:solidFill>
              <a:latin typeface="Arial"/>
            </a:endParaRPr>
          </a:p>
          <a:p>
            <a:pPr lvl="4" marL="203652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transfer may be related to health and exposure status</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realize exposure is causing health problems and transfer to lower/no exposure jobs </a:t>
            </a:r>
            <a:endParaRPr b="0" lang="en-US" sz="18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Healthy Worker Effect</a:t>
            </a:r>
            <a:endParaRPr b="0" lang="en-US" sz="3600" spc="-1" strike="noStrike">
              <a:solidFill>
                <a:srgbClr val="000000"/>
              </a:solidFill>
              <a:latin typeface="Arial"/>
            </a:endParaRPr>
          </a:p>
        </p:txBody>
      </p:sp>
      <p:sp>
        <p:nvSpPr>
          <p:cNvPr id="56" name="PlaceHolder 2"/>
          <p:cNvSpPr>
            <a:spLocks noGrp="1"/>
          </p:cNvSpPr>
          <p:nvPr>
            <p:ph/>
          </p:nvPr>
        </p:nvSpPr>
        <p:spPr>
          <a:xfrm>
            <a:off x="152280" y="1142640"/>
            <a:ext cx="876312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be viewed as a selection bia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n a </a:t>
            </a:r>
            <a:r>
              <a:rPr b="1" lang="en-US" sz="2000" spc="-1" strike="noStrike">
                <a:solidFill>
                  <a:srgbClr val="000000"/>
                </a:solidFill>
                <a:latin typeface="Arial"/>
              </a:rPr>
              <a:t>cross-sectional study</a:t>
            </a:r>
            <a:r>
              <a:rPr b="0" lang="en-US" sz="2000" spc="-1" strike="noStrike">
                <a:solidFill>
                  <a:srgbClr val="000000"/>
                </a:solidFill>
                <a:latin typeface="Arial"/>
              </a:rPr>
              <a:t> of a cohor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includes only workers remaining in the workplace (“active workers”) – a survivor (healthier) popul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healthy workers leave (i.e., are selected out of) the workplace prior to the study and are therefore not included in the study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 effects of exposure are underestimated</a:t>
            </a:r>
            <a:endParaRPr b="0" lang="en-US" sz="1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n</a:t>
            </a:r>
            <a:r>
              <a:rPr b="1" lang="en-US" sz="2000" spc="-1" strike="noStrike">
                <a:solidFill>
                  <a:srgbClr val="000000"/>
                </a:solidFill>
                <a:latin typeface="Arial"/>
              </a:rPr>
              <a:t> longitudinal</a:t>
            </a:r>
            <a:r>
              <a:rPr b="0" lang="en-US" sz="2000" spc="-1" strike="noStrike">
                <a:solidFill>
                  <a:srgbClr val="000000"/>
                </a:solidFill>
                <a:latin typeface="Arial"/>
              </a:rPr>
              <a:t> (prospective/retrospective) </a:t>
            </a:r>
            <a:r>
              <a:rPr b="1" lang="en-US" sz="2000" spc="-1" strike="noStrike">
                <a:solidFill>
                  <a:srgbClr val="000000"/>
                </a:solidFill>
                <a:latin typeface="Arial"/>
              </a:rPr>
              <a:t>cohort study</a:t>
            </a:r>
            <a:r>
              <a:rPr b="0" lang="en-US" sz="2000" spc="-1" strike="noStrike">
                <a:solidFill>
                  <a:srgbClr val="000000"/>
                </a:solidFill>
                <a:latin typeface="Arial"/>
              </a:rPr>
              <a: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ier workers remain in the workplace and therefore generally have higher cumulative exposures than less healthy workers who leave the workplace or transfer to less exposed job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increasing cumulative exposure are underestimated</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ias is not due to a loss to follow-up, since those who leave work are not usually lost to follow-u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Healthy Worker Effect</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151920" y="1066320"/>
            <a:ext cx="84582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 Bia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lower than expected disease r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is no exposure-disease relationship, (and even after stratifying by time-since-hire), higher cumulative exposure appears protective of health:</a:t>
            </a:r>
            <a:endParaRPr b="0" lang="en-US" sz="24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with longer employment history will, on average, have higher cumulative exposures than workers with shorter employment history, </a:t>
            </a:r>
            <a:r>
              <a:rPr b="1" lang="en-US" sz="1800" spc="-1" strike="noStrike" u="sng">
                <a:solidFill>
                  <a:srgbClr val="000000"/>
                </a:solidFill>
                <a:uFillTx/>
                <a:latin typeface="Arial"/>
              </a:rPr>
              <a:t>and</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orkers with shorter employment history tend to be less healthy due to the healthy survivor effect, higher cumulative exposures can appear to have a protective effect </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17:03:58Z</dcterms:created>
  <dc:creator>Frank Bove</dc:creator>
  <dc:description/>
  <dc:language>en-US</dc:language>
  <cp:lastModifiedBy>dkleinb</cp:lastModifiedBy>
  <dcterms:modified xsi:type="dcterms:W3CDTF">2003-12-01T23:04:45Z</dcterms:modified>
  <cp:revision>17</cp:revision>
  <dc:subject/>
  <dc:title>Healthy Worker Eff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0454587</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nformation bias and healthy worker effect</vt:lpwstr>
  </property>
  <property fmtid="{D5CDD505-2E9C-101B-9397-08002B2CF9AE}" pid="6" name="_ReviewingToolsShownOnce">
    <vt:lpwstr/>
  </property>
</Properties>
</file>