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3213-8E5A-4022-9C85-E465B599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A249-7C67-4C3C-970F-7BD25349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49B-FCFE-49DB-8455-A0C49486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8C4-F6F3-4324-85C3-8248F6BA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C46-7AFA-4B1E-B547-2E120582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CD3B-157A-4D12-8EF0-A2C8FA82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5D4-6D1D-49D3-95E7-D5CA3BB7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DD8-A09A-49CA-AA8B-9E470A97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9C5-3551-438D-8C2B-339123B8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7111-D8CD-4EC6-A4BA-FB204DC0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0FB3-2FE7-4F73-84FE-C45D791C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D45-345A-4C88-8D0A-0A24A3EF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CB3A-6FDF-466B-891B-C7772F387B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2362320"/>
            <a:ext cx="627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fferenti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15200" cy="2590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315200" cy="685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73915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2590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7315200" cy="533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7162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772400" cy="4419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7772400" cy="838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4724280"/>
            <a:ext cx="77724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96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95680" y="503280"/>
            <a:ext cx="36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se- control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2210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8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7848720" cy="533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600200" y="4343400"/>
            <a:ext cx="6095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784872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752480" y="4114800"/>
            <a:ext cx="5867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784872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5800" y="3657600"/>
            <a:ext cx="7924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20:09:28Z</dcterms:modified>
  <cp:revision>215</cp:revision>
  <dc:subject/>
  <dc:title>Slide 1</dc:title>
</cp:coreProperties>
</file>