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6B2-90EB-4AC0-8441-EB468182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34A-51C6-4C58-B5EC-514CBF9B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963-C2C2-484E-8182-55FBDE97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29E-2DBB-4754-BE7A-C7A6FCBA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46C-DB91-4DDA-8517-0BA738ED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982-D3AA-41F9-B495-91105908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53E-F524-41E8-96A0-63F4FCAD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4F8-A3CD-467F-B97F-62CA776C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A6D-5A55-49BB-A97D-93084061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0E2-BFD0-4760-A92A-FD3C0AA3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F51-2175-490C-AE1E-68F34304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82B-478C-455E-A0F2-039B261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F9BC-26A3-430C-9DD9-0C342FDF54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600200"/>
            <a:ext cx="627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ias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715000" cy="53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30556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4114800" cy="381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95680" y="228600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543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00:48:16Z</dcterms:modified>
  <cp:revision>216</cp:revision>
  <dc:subject/>
  <dc:title>Slide 1</dc:title>
</cp:coreProperties>
</file>