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2C4-A14A-47DB-B372-C1AEE225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908-C79A-4D05-B323-7B5F66EF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D87-8C88-4B72-90A7-39702D66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592-548A-4D8C-893D-77FB8E60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8DD-FAED-49AE-A2A0-875C7B7C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8F8-8FB6-4F01-B39A-18979213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267-8398-4DB2-B9EF-7DA2F1F9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829-2F90-480F-9231-589FE4E8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F8A-A478-4107-BF05-B50C8110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C8A-675F-4C0C-98E9-E3F4AB7E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EC2-89BB-449A-962B-5F7CEFAB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716-D8C5-4808-BA9A-8456FA83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35D0-896D-4333-8F44-66C8A6E50B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7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080" y="1447920"/>
            <a:ext cx="6278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dictive Valu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tic 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7543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54104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5438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9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62012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62920" y="579132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312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2012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057400" y="4648320"/>
            <a:ext cx="4343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62012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62012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086600" y="4038480"/>
            <a:ext cx="1447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44956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3349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7543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54380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467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649440"/>
            <a:ext cx="7467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other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620120" cy="2803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81680" y="5867280"/>
            <a:ext cx="15242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62012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6324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3076560"/>
            <a:ext cx="762012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543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20120" cy="60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34320" y="419112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586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394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924680" cy="220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162920" y="6095880"/>
            <a:ext cx="1447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29000" y="2666880"/>
            <a:ext cx="2438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92468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7924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24680" cy="822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81280" y="2743200"/>
            <a:ext cx="2362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50532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7924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449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4952880"/>
            <a:ext cx="71629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7543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20:44:14Z</dcterms:modified>
  <cp:revision>217</cp:revision>
  <dc:subject/>
  <dc:title>Slide 1</dc:title>
</cp:coreProperties>
</file>