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D7D-A686-45BE-9B42-23BE6460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2F8-32FE-4240-AE38-54D6F0B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F5E-BA89-4F3C-A121-2A443EC4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878-0432-4259-B458-F8E4056D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BDE-6F43-4198-8D54-E2AB6D4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9F6-84F1-42CF-B1CA-D437F0D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B3C-4AB2-42E7-BDBF-B441DDE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B67-BB7D-44C0-8B9F-B67EEE2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C64-8483-45A3-9EE3-3A57FF63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A34-46E5-4F37-8AB8-520449F5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CDF-00C7-46C8-90A8-3900B6B2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94C-ECE0-4436-A281-CCBC621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C85C-EDF9-4454-81CA-00498C5B9E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219320"/>
            <a:ext cx="566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696440" cy="30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96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4924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imes New Roman"/>
              </a:rPr>
              <a:t>q = .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324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66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47920" y="4876920"/>
            <a:ext cx="6705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32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620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7619760" cy="38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2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8487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8001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6248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095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48720" cy="32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772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14:13Z</dcterms:modified>
  <cp:revision>216</cp:revision>
  <dc:subject/>
  <dc:title>Slide 1</dc:title>
</cp:coreProperties>
</file>