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E12-18FA-4787-A07A-4B687760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EFF-8721-459E-B8CC-10ABBA03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AB0-DF93-4BCE-8810-6F20270F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758-6814-41F8-B82F-26C54586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FC8-9413-4848-BA1E-2702EA0B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0FD-7AB8-4F12-A526-3199B720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020-8BE3-4994-BAF9-6B7ABB3E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822-07CF-4EFD-99A2-2885F01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E78-C535-4C1F-89A0-1CA1645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28B-A8D9-472E-B726-1EEB1B8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EE5-B366-45C4-9A69-311DB5E6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31C-00E7-4B16-8C93-30A0EE3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C325-E821-4060-A088-AD4CE67EEA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520" y="1447920"/>
            <a:ext cx="602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y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o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posure 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3317760"/>
            <a:ext cx="7391520" cy="56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6781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336840"/>
            <a:ext cx="716292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349800"/>
            <a:ext cx="716292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3235320"/>
            <a:ext cx="7162920" cy="72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086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911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467480" cy="2911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895480" y="3809880"/>
            <a:ext cx="242568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19708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257800" y="31240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02:45Z</dcterms:modified>
  <cp:revision>215</cp:revision>
  <dc:subject/>
  <dc:title>Slide 1</dc:title>
</cp:coreProperties>
</file>