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443-EAC7-4CE3-AB44-1232E455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812-351E-4220-AC6F-F7105CC8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2E6-2A47-45CB-B458-1C57F9D8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62C-8BA1-4B68-AFBD-8A9D909B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2C1-30F6-46F5-9811-54E94644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804-307A-494C-98AF-EFD0F187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A46-B957-40E9-B0B0-FE645690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EF7-1E53-4263-9F88-37E992AD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37D-99D7-43B2-ADD6-452BCBB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37A-A0AD-46CF-BA85-12442CD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7A0-ED3B-49A9-B4E5-D58D248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B18-4E90-484F-9789-D8B36189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A32C-6EFB-473F-9AE5-2EE7F2838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2286000"/>
            <a:ext cx="77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Exp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209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464832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80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391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391520" cy="86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79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1143000"/>
            <a:ext cx="39625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791320" y="2057400"/>
            <a:ext cx="6094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4572000"/>
            <a:ext cx="4572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flipH="1" rot="10800000">
            <a:off x="5791320" y="19810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flipH="1" rot="10800000">
            <a:off x="6858000" y="4495680"/>
            <a:ext cx="6094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54480" y="88884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Expos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5791320"/>
            <a:ext cx="53341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63868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5638680" cy="259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5867280"/>
            <a:ext cx="44197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2210040" cy="556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095880" y="45720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133720" y="5867280"/>
            <a:ext cx="243828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20574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243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61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6964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96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2895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5:25:16Z</dcterms:modified>
  <cp:revision>216</cp:revision>
  <dc:subject/>
  <dc:title>Slide 1</dc:title>
</cp:coreProperties>
</file>