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1A4-AA28-4C7A-A934-0825919D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AB1-9E9B-49AA-A97A-FCDEA738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92D-08F7-40D8-B659-23404E73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F68-9F8C-48B8-9071-8A53F0C6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C63-C695-47CB-8861-37530053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216-93EF-46E0-824B-94B717C3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5E7-2818-4FBC-8608-5329C2B9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001-CBD3-4619-80F9-5DE159F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025-92BF-4A2E-9D1A-041BB2D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E3B-2278-412A-B236-B961073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68B-4427-436F-A963-1C811358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7BF-5EA9-4312-A9AD-7AA37C2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95EC-D53D-4617-9B4E-E278F8478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160" y="1905120"/>
            <a:ext cx="7305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Quantitativel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 Bi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157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69608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3124080"/>
            <a:ext cx="7543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142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848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20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1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350496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762120"/>
            <a:ext cx="7010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496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19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7696080" cy="993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705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6964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696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792504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7925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96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1:43:37Z</dcterms:modified>
  <cp:revision>216</cp:revision>
  <dc:subject/>
  <dc:title>Slide 1</dc:title>
</cp:coreProperties>
</file>