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5E9-AA80-4E50-8ADC-74B8C4B3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B03-E3E4-494E-8967-E06DEE65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2FF-BC21-4947-9385-E2439C3C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D28-4D3F-426F-B538-DF781EA2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EC3-5C09-44E7-A828-5124FAE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748-FFBB-437B-9AA2-5004871D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5F8-B0C4-4F5B-9663-B58793C4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46B-E59A-479D-9AF8-836AEAF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85A-416F-4398-98BB-3AEBC6B9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7D7-138B-4AE5-9C68-0DEB482E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5C6-B591-4606-BE46-F4EB046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D4B-B4DF-454A-81C1-36168E3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A22E-CA82-45E2-A222-81FE82649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0200" y="1447920"/>
            <a:ext cx="381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Clinic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419360" cy="441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429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609480"/>
            <a:ext cx="813096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43 year-old man with an acutely swollen leg is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 a medical clin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160020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15328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5715000" cy="267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048120"/>
            <a:ext cx="1143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3048120"/>
            <a:ext cx="13716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6:36:13Z</dcterms:modified>
  <cp:revision>215</cp:revision>
  <dc:subject/>
  <dc:title>Slide 1</dc:title>
</cp:coreProperties>
</file>