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031-60C1-49D3-82E4-397A726C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4F1-816B-454A-BDDB-D4E1B83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9B9-4D93-4594-B7E2-90510CD9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9CD-D042-4C55-8D1A-AE9918CC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5C2-3CE2-4727-9A40-01ACD71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E1E-3818-4A4D-B323-4C933FA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FF6-D35E-4937-B2B9-D345F9C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520-25FD-46AF-B95B-CE7386F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2BB-1B10-4FFE-BF62-BE185C9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46F-CD99-4088-83D4-983D7A49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BBD-AEDD-471B-B8B5-350966D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65E-1356-4CC1-A5DA-79BA4CE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0A3-7E56-4203-8E4B-EB9BE1E3B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0600" y="1371600"/>
            <a:ext cx="5667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/or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8120" y="3525840"/>
            <a:ext cx="21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84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7924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3992400"/>
            <a:ext cx="784872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84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609480"/>
            <a:ext cx="7848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4f55"/>
                </a:solidFill>
                <a:latin typeface="Times New Roman"/>
              </a:rPr>
              <a:t>Differential Misclassification of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289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5360" y="25146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now more realistically start with the obser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and correct for misclass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9152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35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5334120"/>
            <a:ext cx="16002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39152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05720" y="41148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59:11Z</dcterms:modified>
  <cp:revision>216</cp:revision>
  <dc:subject/>
  <dc:title>Slide 1</dc:title>
</cp:coreProperties>
</file>