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BFCA-E428-4259-9C0C-9828ED49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79D8-DB0C-464B-9A7F-DA907524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C1D9-3B4A-4EAB-802D-ED006AC9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754-8009-4EF2-9422-58AC7873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AD6-8DA3-44C5-86B5-8E7F94BE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BDB0-81AB-4AA7-A7F8-1C5BF4F8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27B0-11FB-4BE5-968A-10B2DF2C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A30F-D1B7-4C80-8130-02CBB82F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B2CF-2BF5-4370-BE7B-89711747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46A8-D4B7-4E59-A78D-13320BFE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203E-42C9-4D6E-B291-A5A0FE9D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C009-DE12-424C-A089-3E675715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E073-2B61-4052-8818-2FA4F6FBD3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61560" y="1981080"/>
            <a:ext cx="716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How Can Diseas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Be Misclassified 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962520" cy="4114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19920" y="2209680"/>
            <a:ext cx="30456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10280" y="2209680"/>
            <a:ext cx="3049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4724280"/>
            <a:ext cx="30456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4724280"/>
            <a:ext cx="30456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990720"/>
            <a:ext cx="79246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sclassifying Disease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2822400"/>
            <a:ext cx="7543800" cy="3273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543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898720"/>
            <a:ext cx="6933960" cy="3273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708660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238880" y="609480"/>
            <a:ext cx="1600200" cy="556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313320" y="358128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7162920" y="3962520"/>
            <a:ext cx="369720" cy="41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7315200" y="4572000"/>
            <a:ext cx="182880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1828800" y="5486400"/>
            <a:ext cx="175248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13:43:41Z</dcterms:modified>
  <cp:revision>216</cp:revision>
  <dc:subject/>
  <dc:title>Slide 1</dc:title>
</cp:coreProperties>
</file>