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9FD-FEAC-4E26-BC16-A94F874B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29C-A189-4F7A-A236-E0AF5F2F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08C-39FC-4487-9DDB-9E893F03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21C-9BD5-42FA-BA00-F1A3626E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CC5-AE4B-496B-92E5-4E4C3A90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762-2F05-49C4-9073-C14E4A89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B9B-AFD3-423E-BB52-2A48FC3C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F2D-87A2-4E39-A8E5-EB53F18B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643-0023-42CB-995D-EC1CC567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7F2-9AB8-409D-9D98-D0F1F460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D08-6855-4AB9-B9F2-832841E2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E2B-9E58-45FC-9DCD-3349ED4D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8F61-013D-486D-9191-288365A549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2160" y="1447920"/>
            <a:ext cx="63025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Probabiliti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ensitivity 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pecific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487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762120"/>
            <a:ext cx="7597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4114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9436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507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248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38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5486040" y="41148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609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3209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92468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86600" y="41148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84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7724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772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5410080"/>
            <a:ext cx="2362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153640" cy="579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943600"/>
            <a:ext cx="1752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2286000"/>
            <a:ext cx="289584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6:38:23Z</dcterms:modified>
  <cp:revision>215</cp:revision>
  <dc:subject/>
  <dc:title>Slide 1</dc:title>
</cp:coreProperties>
</file>