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ADC-0346-4336-AF01-F4CDE5F6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2AA-721E-4CEF-B82E-21FB6DA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731-A1A0-4CBE-A333-410A17B3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DB1-8381-4FCB-8437-7369AC2D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B3D-D34B-46C0-833D-65701E6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F30-3A31-48E8-AB6A-772CAD53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2B6-4314-4FD4-9422-8A16747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023-DCCF-4BE0-BC4B-752A672F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404-9ED2-45A0-8558-C4A8534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931-A842-447A-B8C9-6C5ED14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E79-C81A-48B1-9901-3FC1E66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0CC-BAF2-4FAB-AE5A-DF1E63A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69FD-90DD-4969-BA77-C69E1E6274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800" y="152388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depend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posure 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162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1976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7772400" cy="5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629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7772400" cy="81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777240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48720" y="5334120"/>
            <a:ext cx="68868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812000" y="3581280"/>
            <a:ext cx="7225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7772400" cy="68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6858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191120"/>
            <a:ext cx="75438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70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48:35Z</dcterms:modified>
  <cp:revision>215</cp:revision>
  <dc:subject/>
  <dc:title>Slide 1</dc:title>
</cp:coreProperties>
</file>