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748-21CA-45CB-85B4-3F763A1E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A37-D8A4-49C6-AEAC-97587D37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778-8F7C-48D4-881A-CBB628F7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AD4-E90A-4C83-8C35-37ADCE21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8D3-B89C-42F0-82AA-FB47AAFB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DB1-44AC-4825-BC3E-031F8E03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0EF-7773-4231-9771-8DC0FD94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49E-0F23-411F-A964-205190C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951-E81C-443C-AEB3-C7F04252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F23-F573-4790-A218-EA8816A2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8E3-89A2-4738-98C0-D361867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833-B6E0-4EAB-92C0-6F4FAAAD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45B9-7D3B-469A-9ABC-71FDA5AB0E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6920" y="1905120"/>
            <a:ext cx="449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190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81680" y="5638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52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28800" y="5105520"/>
            <a:ext cx="5029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2819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54380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7696080" cy="196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10280" y="55627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3927600"/>
            <a:ext cx="7010280" cy="49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76520" y="4572000"/>
            <a:ext cx="5181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9152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9625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91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3809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964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5613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7080" y="3840120"/>
            <a:ext cx="34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Screening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00800" y="27428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14280" y="22701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696080" cy="83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3657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93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62940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525780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276720"/>
            <a:ext cx="144756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7:37:44Z</dcterms:modified>
  <cp:revision>218</cp:revision>
  <dc:subject/>
  <dc:title>Slide 1</dc:title>
</cp:coreProperties>
</file>