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B634-4A81-4B20-B617-7FCE97B8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4E81-4581-4E9D-A7C4-F333F814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F664-D700-434F-B9AE-5F2E205C6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DDE5-55E6-4053-9B77-EDCEA09B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22B8-2DA3-4CD8-829E-F52781C6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1ABD-E985-4EA7-9988-2DA253BA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6703-4B84-4153-A536-303FD330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77E3-B8F7-4356-A8EB-4460A6C3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095B-BB56-4B6B-AEF1-2D6E4AF1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BB31-1885-4527-B67C-171009C8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90CE-4388-42DD-8FD8-B832D035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17B3-3A87-4DA7-8D47-062727FE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2A8B-BC2A-4DF9-9CD2-A50F5236FC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209680"/>
            <a:ext cx="644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Non-differentia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isclassific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9880" y="3048120"/>
            <a:ext cx="1143000" cy="457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391160" cy="3337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62120" y="4114800"/>
            <a:ext cx="7391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2498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7391520" cy="121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14400" y="4419720"/>
            <a:ext cx="72388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01000" cy="3200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8001000" cy="685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09480" y="4572000"/>
            <a:ext cx="7772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1000" cy="3200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3886200"/>
            <a:ext cx="8001000" cy="533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143000" y="4572000"/>
            <a:ext cx="6781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0773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96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7696080" cy="2479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6960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2895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7696080" cy="533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6400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289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7696080" cy="533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371600" y="4419720"/>
            <a:ext cx="6019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69608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5800" y="2743200"/>
            <a:ext cx="7696080" cy="609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85800" y="3505320"/>
            <a:ext cx="7696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17:09:13Z</dcterms:modified>
  <cp:revision>215</cp:revision>
  <dc:subject/>
  <dc:title>Slide 1</dc:title>
</cp:coreProperties>
</file>