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AFF-CAA4-470F-856D-2737A948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BB21-6955-45BA-901E-134FCC19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1E9-B47B-4894-B10D-8BCC2889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616-880A-425F-AB0F-DA5BE8F2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BDF-EFBC-47AF-8F6A-960A1B20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8EA-150E-4143-9955-9A5451FC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9FED-7BE8-4E63-BF43-5AF8C5D9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EF4D-51FD-47AE-8A14-F0AFE931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A00-47B1-4D6B-97DF-844D9053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D11-3971-416A-A26F-EBA4C3B6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435-3271-4AB6-92EF-0D65E93C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202A-67C3-424A-96FD-F75A00AA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2944-822A-47A4-AA75-08173FC63B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8960" y="1523880"/>
            <a:ext cx="566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rrecting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Non-differenti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Expos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638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781680" y="5791320"/>
            <a:ext cx="16002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2346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7391160" cy="838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47920" y="4114800"/>
            <a:ext cx="6095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2346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7391160" cy="533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066680" y="3809880"/>
            <a:ext cx="72392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257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5638680"/>
            <a:ext cx="80769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2819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7781760" cy="762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7772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8076960" cy="733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3276720"/>
            <a:ext cx="8305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3809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4952880"/>
            <a:ext cx="76960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66ccff"/>
                </a:solidFill>
                <a:latin typeface="Times New Roman"/>
              </a:rPr>
              <a:t>(reasonable assumption in this stud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04:44:35Z</dcterms:modified>
  <cp:revision>215</cp:revision>
  <dc:subject/>
  <dc:title>Slide 1</dc:title>
</cp:coreProperties>
</file>