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A84-A37D-4163-9580-AEB6A891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D66E-AC73-449F-B247-25CD88D0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A091-79A7-4B1B-A28E-19CCF87C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505B-703A-46BF-BA61-90B944E6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99A-47DB-4A1C-8466-74241A82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3F89-A4BD-4E96-82FD-5404E41E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2BAC-58FD-4F76-8300-CB3044B5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DE7B-E39E-4122-A1D9-011F769B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1AA5-C316-4AD9-A3B1-4E6F29EC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B216-D056-4094-9876-A27DC06E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296-B5F7-4F8D-9A4F-1F7D5E6F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8449-12D3-433A-B987-D7507F2E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F18F-BA4C-475A-9E12-F7C4862265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9360" y="1295280"/>
            <a:ext cx="6086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rrecting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Non-differenti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Both Exposur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And Disea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620120" cy="990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0" y="3886200"/>
            <a:ext cx="15238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14400" y="4267080"/>
            <a:ext cx="7467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7620120" cy="221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620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620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2619360"/>
            <a:ext cx="7620120" cy="809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14400" y="3505320"/>
            <a:ext cx="762012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620120" cy="762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5438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96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6340320" cy="5486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010280" y="2438280"/>
            <a:ext cx="1295640" cy="2286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010280" y="457200"/>
            <a:ext cx="129564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4648320"/>
            <a:ext cx="129564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620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7620120" cy="1584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620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620120" cy="2666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762012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219320" y="4800600"/>
            <a:ext cx="6553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238880" cy="2587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76720" y="4267080"/>
            <a:ext cx="2806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9480" y="3336840"/>
            <a:ext cx="7925040" cy="397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7925040" cy="2666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6201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925040" cy="3276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480" y="4390920"/>
            <a:ext cx="79250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92468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62120" y="2562120"/>
            <a:ext cx="7924680" cy="714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7772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925040" cy="3504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79250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2504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7925040" cy="762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85800" y="4191120"/>
            <a:ext cx="7772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029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8229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7925040" cy="293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848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620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762012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1066680"/>
            <a:ext cx="7620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62012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38080" y="4572000"/>
            <a:ext cx="7543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62012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620120" cy="990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934320" y="4952880"/>
            <a:ext cx="15238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15:11:11Z</dcterms:modified>
  <cp:revision>215</cp:revision>
  <dc:subject/>
  <dc:title>Slide 1</dc:title>
</cp:coreProperties>
</file>