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BB4-7557-425C-A34A-B0C6761E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759-49F5-4397-979C-87BE14DB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7FB-0248-4A7C-8001-2F44CCC6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1B4-BF50-4FAE-8DAA-D1D01036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98D-B845-4F67-BBF5-000287FE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471-B7FF-4DD5-87AD-D30F9E8A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8CC-537D-445D-9F3D-2702C7B8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B4D-2A13-449E-8D9B-2A18A62B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0D5-2FCF-434A-8BD9-CEB9B178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EC3-E0F8-4E42-BC2E-D59E2255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097-3814-420D-B99B-0E5CE412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15C-3E7C-4EE0-BE00-FEC80A75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1265-14B3-4414-8A04-71D87065AA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8720" y="1981080"/>
            <a:ext cx="79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onfounding I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Different Study Desig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600200" y="1676520"/>
            <a:ext cx="61722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752480" y="1371600"/>
            <a:ext cx="586764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828800" y="1387440"/>
            <a:ext cx="59436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371600" y="1447920"/>
            <a:ext cx="64771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420920"/>
            <a:ext cx="6248160" cy="4233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24480" y="5410080"/>
            <a:ext cx="12956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4T18:07:00Z</dcterms:modified>
  <cp:revision>218</cp:revision>
  <dc:subject/>
  <dc:title>Slide 1</dc:title>
</cp:coreProperties>
</file>