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A32-17ED-4430-AC6B-20C3B6A9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53C-09DB-4B34-95A3-D5AA0A78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6B1-8F7B-4BAA-B361-2DC25AD9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6BC-6FA9-4A00-8ABA-F54744DD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3E7-9717-45C0-8C86-15310B44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575-18D2-4F04-B663-A741319D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351-3F95-4A73-A7A8-89C9EFED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28E-3B37-40F0-8199-ECF41E58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BFB-D8B3-4A80-B4D3-9839C930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399-44F4-4393-A619-8568306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1C8-B1E1-4FBC-A72E-6C3AED1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679-4849-4B31-A338-6EE7F40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62DF-B6D3-46EC-BCE3-0291B4F2E6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0" y="2362320"/>
            <a:ext cx="491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iteria f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219320"/>
            <a:ext cx="64771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05000"/>
            <a:ext cx="6324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24776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50984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295280"/>
            <a:ext cx="65530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7027"/>
          <a:stretch/>
        </p:blipFill>
        <p:spPr>
          <a:xfrm>
            <a:off x="1143000" y="10508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12918" r="0" b="44711"/>
          <a:stretch/>
        </p:blipFill>
        <p:spPr>
          <a:xfrm>
            <a:off x="1143000" y="3733920"/>
            <a:ext cx="685800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371600" y="146052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1066680"/>
            <a:ext cx="69343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371600" y="137160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211400"/>
            <a:ext cx="662940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69880"/>
            <a:ext cx="66294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143000"/>
            <a:ext cx="67820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19320" y="990720"/>
            <a:ext cx="6781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52:34Z</dcterms:modified>
  <cp:revision>217</cp:revision>
  <dc:subject/>
  <dc:title>Slide 1</dc:title>
</cp:coreProperties>
</file>