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AF5-477A-4955-88EC-2E57B44D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48C-FE9F-4E04-8B20-2FE6110C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7E0-961E-4148-95BC-D0629963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D27-52DF-4012-AAA5-2F3C6796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417-DC30-434C-8EDC-F613D156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7A6-49B0-4E4C-AF58-D88D6D6E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B5A-F920-442A-AAEA-7CA69E20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D20-217F-4F88-AE2B-1F311E63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382-9079-44EB-B820-3D17DB91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C34-F692-4D82-A44D-B032453E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D0B-9034-4D14-8BF1-E0694294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FDE-CE86-4EB3-8C12-EA48A7C8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78FB-96F2-4445-A353-D498BCD88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founding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Modification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confou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to assess confou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riori criteria for conf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289"/>
          <a:stretch/>
        </p:blipFill>
        <p:spPr>
          <a:xfrm>
            <a:off x="685800" y="45720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5320" y="1905120"/>
            <a:ext cx="62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How do w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valu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1066680" y="990720"/>
            <a:ext cx="7239240" cy="464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0" y="4648320"/>
            <a:ext cx="421488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RR’s over different st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09480" y="1143000"/>
            <a:ext cx="7848720" cy="5181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50332" r="0" b="29128"/>
          <a:stretch/>
        </p:blipFill>
        <p:spPr>
          <a:xfrm>
            <a:off x="609480" y="380880"/>
            <a:ext cx="7848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42483"/>
          <a:stretch/>
        </p:blipFill>
        <p:spPr>
          <a:xfrm>
            <a:off x="838080" y="457200"/>
            <a:ext cx="7696440" cy="297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59219" r="0" b="12029"/>
          <a:stretch/>
        </p:blipFill>
        <p:spPr>
          <a:xfrm>
            <a:off x="838080" y="3352680"/>
            <a:ext cx="7696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5432" r="0" b="7610"/>
          <a:stretch/>
        </p:blipFill>
        <p:spPr>
          <a:xfrm>
            <a:off x="685800" y="68580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-2958" t="76806" r="0" b="13631"/>
          <a:stretch/>
        </p:blipFill>
        <p:spPr>
          <a:xfrm>
            <a:off x="457200" y="5791320"/>
            <a:ext cx="7772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685800" y="60948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096" t="13193" r="4394" b="70872"/>
          <a:stretch/>
        </p:blipFill>
        <p:spPr>
          <a:xfrm>
            <a:off x="1295280" y="3429000"/>
            <a:ext cx="678204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77640" y="2249640"/>
            <a:ext cx="682092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quently used approach for deciding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meaningful difference when ass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o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70872"/>
          <a:stretch/>
        </p:blipFill>
        <p:spPr>
          <a:xfrm>
            <a:off x="990720" y="380880"/>
            <a:ext cx="70866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2178" r="0" b="25247"/>
          <a:stretch/>
        </p:blipFill>
        <p:spPr>
          <a:xfrm>
            <a:off x="990720" y="1828800"/>
            <a:ext cx="7086600" cy="464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66680" y="1600200"/>
            <a:ext cx="1295640" cy="368280"/>
          </a:xfrm>
          <a:prstGeom prst="rect">
            <a:avLst/>
          </a:prstGeom>
          <a:solidFill>
            <a:srgbClr val="85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ypic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8580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26161"/>
          <a:stretch/>
        </p:blipFill>
        <p:spPr>
          <a:xfrm>
            <a:off x="762120" y="457200"/>
            <a:ext cx="7619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2860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Characteristic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Of Adjusted Estim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31356" r="1238" b="31669"/>
          <a:stretch/>
        </p:blipFill>
        <p:spPr>
          <a:xfrm>
            <a:off x="1295280" y="990720"/>
            <a:ext cx="678204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6840" y="4038480"/>
            <a:ext cx="4757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ypically, a weighted averag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947" t="0" r="10679" b="35374"/>
          <a:stretch/>
        </p:blipFill>
        <p:spPr>
          <a:xfrm>
            <a:off x="1066680" y="1600200"/>
            <a:ext cx="7315200" cy="4495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1947" t="50332" r="10679" b="29128"/>
          <a:stretch/>
        </p:blipFill>
        <p:spPr>
          <a:xfrm>
            <a:off x="1066680" y="609480"/>
            <a:ext cx="7315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60183"/>
          <a:stretch/>
        </p:blipFill>
        <p:spPr>
          <a:xfrm>
            <a:off x="762120" y="533520"/>
            <a:ext cx="7619760" cy="287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94440" y="3809880"/>
            <a:ext cx="7910280" cy="1557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re complicated version of a weighted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 typically used for adjusted risk ratio and od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estimates is called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ION-BASED ADJUSTED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68580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685800"/>
            <a:ext cx="7924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33308"/>
          <a:stretch/>
        </p:blipFill>
        <p:spPr>
          <a:xfrm>
            <a:off x="762120" y="762120"/>
            <a:ext cx="7924680" cy="4190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78200" y="381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7200" y="5181480"/>
            <a:ext cx="8235000" cy="11912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ample size in stratum 1 was 10 times high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previous example, would an arithmetic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appropriate?   Answer: 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527"/>
          <a:stretch/>
        </p:blipFill>
        <p:spPr>
          <a:xfrm>
            <a:off x="533520" y="38088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609480" y="38088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83600" y="2362320"/>
            <a:ext cx="491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riteria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62912"/>
          <a:stretch/>
        </p:blipFill>
        <p:spPr>
          <a:xfrm>
            <a:off x="762120" y="838080"/>
            <a:ext cx="7772400" cy="2667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12918" r="0" b="59144"/>
          <a:stretch/>
        </p:blipFill>
        <p:spPr>
          <a:xfrm>
            <a:off x="762120" y="3505320"/>
            <a:ext cx="7772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39930"/>
          <a:stretch/>
        </p:blipFill>
        <p:spPr>
          <a:xfrm>
            <a:off x="914400" y="762120"/>
            <a:ext cx="739152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2133720"/>
            <a:ext cx="68580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1066680"/>
            <a:ext cx="69343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457200" y="304920"/>
            <a:ext cx="8153280" cy="6019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75904" r="0" b="7610"/>
          <a:stretch/>
        </p:blipFill>
        <p:spPr>
          <a:xfrm>
            <a:off x="457200" y="5486400"/>
            <a:ext cx="8153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295280" y="121932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762120"/>
            <a:ext cx="769644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57400" y="4952880"/>
            <a:ext cx="441468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 you control for Ag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143000" y="609480"/>
            <a:ext cx="7391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0680" y="5373720"/>
            <a:ext cx="757512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f these criteria must be satisfied for a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considered a confou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336"/>
          <a:stretch/>
        </p:blipFill>
        <p:spPr>
          <a:xfrm>
            <a:off x="609480" y="1523880"/>
            <a:ext cx="7848720" cy="4800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50332" r="0" b="29128"/>
          <a:stretch/>
        </p:blipFill>
        <p:spPr>
          <a:xfrm>
            <a:off x="609480" y="533520"/>
            <a:ext cx="7848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58720" y="1981080"/>
            <a:ext cx="79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Confounding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428ff"/>
                </a:solidFill>
                <a:latin typeface="Arial"/>
              </a:rPr>
              <a:t>Different Study Desig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09480" y="685800"/>
            <a:ext cx="792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533520" y="609480"/>
            <a:ext cx="815328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81680" y="5867280"/>
            <a:ext cx="1752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457200" y="380880"/>
            <a:ext cx="83059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449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43660" r="0" b="10264"/>
          <a:stretch/>
        </p:blipFill>
        <p:spPr>
          <a:xfrm>
            <a:off x="685800" y="243828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53240" y="5297400"/>
            <a:ext cx="606168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we are “controlling for smok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moking is a “control variabl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-2416" r="0" b="66754"/>
          <a:stretch/>
        </p:blipFill>
        <p:spPr>
          <a:xfrm>
            <a:off x="685800" y="457200"/>
            <a:ext cx="769608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36638" t="33258" r="39605" b="54863"/>
          <a:stretch/>
        </p:blipFill>
        <p:spPr>
          <a:xfrm>
            <a:off x="6629400" y="137160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43247" r="0" b="8336"/>
          <a:stretch/>
        </p:blipFill>
        <p:spPr>
          <a:xfrm>
            <a:off x="685800" y="2438280"/>
            <a:ext cx="8001000" cy="307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14720" r="0" b="71911"/>
          <a:stretch/>
        </p:blipFill>
        <p:spPr>
          <a:xfrm>
            <a:off x="685800" y="5410080"/>
            <a:ext cx="8001000" cy="106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-2416" r="0" b="66754"/>
          <a:stretch/>
        </p:blipFill>
        <p:spPr>
          <a:xfrm>
            <a:off x="685800" y="457200"/>
            <a:ext cx="8001000" cy="198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36638" t="33258" r="39605" b="54863"/>
          <a:stretch/>
        </p:blipFill>
        <p:spPr>
          <a:xfrm>
            <a:off x="6858000" y="137160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2505" r="0" b="72963"/>
          <a:stretch/>
        </p:blipFill>
        <p:spPr>
          <a:xfrm>
            <a:off x="914400" y="281952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43072" r="0" b="13193"/>
          <a:stretch/>
        </p:blipFill>
        <p:spPr>
          <a:xfrm>
            <a:off x="914400" y="609480"/>
            <a:ext cx="7543800" cy="2229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47003" t="56669" r="14002" b="22000"/>
          <a:stretch/>
        </p:blipFill>
        <p:spPr>
          <a:xfrm>
            <a:off x="914400" y="3733920"/>
            <a:ext cx="75438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002" t="17887" r="1918" b="7948"/>
          <a:stretch/>
        </p:blipFill>
        <p:spPr>
          <a:xfrm>
            <a:off x="762120" y="457200"/>
            <a:ext cx="746748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0" b="71135"/>
          <a:stretch/>
        </p:blipFill>
        <p:spPr>
          <a:xfrm>
            <a:off x="762120" y="4724280"/>
            <a:ext cx="746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5T18:31:32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