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822C-6196-4DD4-87B6-27B392B8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F4FD-8790-4131-9144-C0473435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627A-9A3F-40A6-93A8-0F54622F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6414-AD2C-475E-ADBF-7CC3321C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1028-41AD-4E4A-A7FC-747D8B06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C243-52D7-46F4-9609-69E175C5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2071-5F31-4918-96AF-CB8FB0CE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50E6-9AB5-494B-B1D1-A5C854E5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054E-B61C-4BB2-A796-E620EC9A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3D60-1464-46ED-BC19-DF401A99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69CC-8C1A-48A1-B024-60415E46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ACB7-CC7D-49E7-9B4A-D6FEE1CB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80B1-7331-467C-845B-E702E293E1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3600" y="1676520"/>
            <a:ext cx="512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onfounding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Versu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tera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32970"/>
          <a:stretch/>
        </p:blipFill>
        <p:spPr>
          <a:xfrm>
            <a:off x="1143000" y="990720"/>
            <a:ext cx="7162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762120"/>
            <a:ext cx="74674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90720" y="838080"/>
            <a:ext cx="7162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295280" y="1295280"/>
            <a:ext cx="617220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00200" y="1371600"/>
            <a:ext cx="6172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00200" y="1143000"/>
            <a:ext cx="6172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76520" y="1447920"/>
            <a:ext cx="609588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295280"/>
            <a:ext cx="647676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95280" y="1219320"/>
            <a:ext cx="670572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219320" y="1228680"/>
            <a:ext cx="66294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58731"/>
          <a:stretch/>
        </p:blipFill>
        <p:spPr>
          <a:xfrm>
            <a:off x="990720" y="1905120"/>
            <a:ext cx="72388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295280" y="1371600"/>
            <a:ext cx="647712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143000"/>
            <a:ext cx="647676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76520" y="1325520"/>
            <a:ext cx="6172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066680" y="914400"/>
            <a:ext cx="7239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99072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838080"/>
            <a:ext cx="731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838080"/>
            <a:ext cx="7239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990720"/>
            <a:ext cx="7391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60948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90720" y="762120"/>
            <a:ext cx="7086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189080" y="990720"/>
            <a:ext cx="7086600" cy="4757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553080" y="5105520"/>
            <a:ext cx="16160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8T18:02:53Z</dcterms:modified>
  <cp:revision>219</cp:revision>
  <dc:subject/>
  <dc:title>Slide 1</dc:title>
</cp:coreProperties>
</file>