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30.png" ContentType="image/png"/>
  <Override PartName="/ppt/media/image28.png" ContentType="image/png"/>
  <Override PartName="/ppt/media/image10.png" ContentType="image/png"/>
  <Override PartName="/ppt/media/image29.png" ContentType="image/png"/>
  <Override PartName="/ppt/media/image5.png" ContentType="image/png"/>
  <Override PartName="/ppt/media/image35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980238" cy="92122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3EDB7-465E-4240-BB65-260680B8B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E5973-C962-4B06-928E-E380F3AE0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78AF1-05DF-4323-BA4C-43785A8C3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83FD4-5BDD-44A0-B55E-256BB2A27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8FF57-D451-4EC5-892C-D62B95A4D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C3AB4-2DAD-4C6F-B04B-A8E5FDA16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74D53-4847-4149-A0DC-B84024845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9E337-507B-4ADE-8A25-886BE3BB5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084F5-1C55-4D27-AB79-603F05633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D916E-C7B9-4CDE-9163-EF6C6ED3C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2D853-E3BA-42D8-9406-6289F1624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75295-CCDB-4EA0-ADE1-5BB513326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2CB86-D613-4B91-8368-60E3FC73FC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1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1.png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1.png"/><Relationship Id="rId3" Type="http://schemas.openxmlformats.org/officeDocument/2006/relationships/image" Target="../media/image35.png"/><Relationship Id="rId4" Type="http://schemas.openxmlformats.org/officeDocument/2006/relationships/image" Target="../media/image34.pn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1.png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1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880" y="2286000"/>
            <a:ext cx="838224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Arial"/>
              </a:rPr>
              <a:t>Exercises</a:t>
            </a:r>
            <a:br>
              <a:rPr sz="5400"/>
            </a:br>
            <a:r>
              <a:rPr b="1" lang="en-US" sz="5400" spc="-1" strike="noStrike">
                <a:solidFill>
                  <a:srgbClr val="0000ff"/>
                </a:solidFill>
                <a:latin typeface="Arial"/>
              </a:rPr>
              <a:t>on</a:t>
            </a:r>
            <a:br>
              <a:rPr sz="5400"/>
            </a:br>
            <a:r>
              <a:rPr b="1" lang="en-US" sz="5400" spc="-1" strike="noStrike">
                <a:solidFill>
                  <a:srgbClr val="0000ff"/>
                </a:solidFill>
                <a:latin typeface="Arial"/>
              </a:rPr>
              <a:t>Confounding</a:t>
            </a:r>
            <a:br>
              <a:rPr sz="5400"/>
            </a:br>
            <a:r>
              <a:rPr b="1" lang="en-US" sz="5400" spc="-1" strike="noStrike">
                <a:solidFill>
                  <a:srgbClr val="0000ff"/>
                </a:solidFill>
                <a:latin typeface="Arial"/>
              </a:rPr>
              <a:t>and</a:t>
            </a:r>
            <a:br>
              <a:rPr sz="5400"/>
            </a:br>
            <a:r>
              <a:rPr b="1" lang="en-US" sz="5400" spc="-1" strike="noStrike">
                <a:solidFill>
                  <a:srgbClr val="0000ff"/>
                </a:solidFill>
                <a:latin typeface="Arial"/>
              </a:rPr>
              <a:t>Effect Modificatio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990720" y="1066680"/>
            <a:ext cx="7010280" cy="23623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914400" y="3429000"/>
            <a:ext cx="7086600" cy="990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990720" y="4572000"/>
            <a:ext cx="7010280" cy="179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533520" y="838080"/>
            <a:ext cx="7543800" cy="2638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457200" y="3657600"/>
            <a:ext cx="777240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38080" y="380880"/>
            <a:ext cx="7696440" cy="41911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1066680" y="4724280"/>
            <a:ext cx="7315200" cy="17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685800" y="685800"/>
            <a:ext cx="784872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rcRect l="0" t="0" r="0" b="24696"/>
          <a:stretch/>
        </p:blipFill>
        <p:spPr>
          <a:xfrm>
            <a:off x="1371600" y="1828800"/>
            <a:ext cx="64771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rcRect l="0" t="0" r="0" b="18213"/>
          <a:stretch/>
        </p:blipFill>
        <p:spPr>
          <a:xfrm>
            <a:off x="1371600" y="1447920"/>
            <a:ext cx="6400800" cy="39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rcRect l="0" t="0" r="0" b="28815"/>
          <a:stretch/>
        </p:blipFill>
        <p:spPr>
          <a:xfrm>
            <a:off x="1143000" y="1676520"/>
            <a:ext cx="6705720" cy="38098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1143000" y="5486400"/>
            <a:ext cx="662940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rcRect l="0" t="0" r="0" b="18213"/>
          <a:stretch/>
        </p:blipFill>
        <p:spPr>
          <a:xfrm>
            <a:off x="1295280" y="1447920"/>
            <a:ext cx="6477120" cy="39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rcRect l="0" t="0" r="0" b="10264"/>
          <a:stretch/>
        </p:blipFill>
        <p:spPr>
          <a:xfrm>
            <a:off x="1219320" y="1371600"/>
            <a:ext cx="6705360" cy="45720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6400800" y="5105520"/>
            <a:ext cx="1143000" cy="838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rcRect l="0" t="0" r="0" b="10264"/>
          <a:stretch/>
        </p:blipFill>
        <p:spPr>
          <a:xfrm>
            <a:off x="1295280" y="1214280"/>
            <a:ext cx="6477120" cy="438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762120" y="533520"/>
            <a:ext cx="7772400" cy="33526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762120" y="4038480"/>
            <a:ext cx="7696080" cy="17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rcRect l="0" t="0" r="0" b="7610"/>
          <a:stretch/>
        </p:blipFill>
        <p:spPr>
          <a:xfrm>
            <a:off x="1523880" y="1371600"/>
            <a:ext cx="6019920" cy="419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rcRect l="0" t="0" r="0" b="7610"/>
          <a:stretch/>
        </p:blipFill>
        <p:spPr>
          <a:xfrm>
            <a:off x="1447920" y="1258920"/>
            <a:ext cx="6248160" cy="43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rcRect l="0" t="0" r="0" b="38878"/>
          <a:stretch/>
        </p:blipFill>
        <p:spPr>
          <a:xfrm>
            <a:off x="1066680" y="1295280"/>
            <a:ext cx="685800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rcRect l="0" t="0" r="0" b="38878"/>
          <a:stretch/>
        </p:blipFill>
        <p:spPr>
          <a:xfrm>
            <a:off x="838080" y="685800"/>
            <a:ext cx="7162920" cy="422100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rcRect l="59129" t="52668" r="26000" b="41700"/>
          <a:stretch/>
        </p:blipFill>
        <p:spPr>
          <a:xfrm>
            <a:off x="3048120" y="5105520"/>
            <a:ext cx="2590560" cy="685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rcRect l="0" t="61009" r="0" b="30292"/>
          <a:stretch/>
        </p:blipFill>
        <p:spPr>
          <a:xfrm>
            <a:off x="914400" y="4800600"/>
            <a:ext cx="6858000" cy="7621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rcRect l="0" t="0" r="0" b="48529"/>
          <a:stretch/>
        </p:blipFill>
        <p:spPr>
          <a:xfrm>
            <a:off x="914400" y="1371600"/>
            <a:ext cx="6858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rcRect l="0" t="61009" r="0" b="30292"/>
          <a:stretch/>
        </p:blipFill>
        <p:spPr>
          <a:xfrm>
            <a:off x="1143000" y="3809880"/>
            <a:ext cx="6858000" cy="60984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rcRect l="0" t="0" r="0" b="48529"/>
          <a:stretch/>
        </p:blipFill>
        <p:spPr>
          <a:xfrm>
            <a:off x="1143000" y="762120"/>
            <a:ext cx="6858000" cy="304776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rcRect l="59252" t="52668" r="26000" b="41334"/>
          <a:stretch/>
        </p:blipFill>
        <p:spPr>
          <a:xfrm>
            <a:off x="2819520" y="4572000"/>
            <a:ext cx="3504960" cy="914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rcRect l="0" t="70247" r="0" b="19352"/>
          <a:stretch/>
        </p:blipFill>
        <p:spPr>
          <a:xfrm>
            <a:off x="1066680" y="4191120"/>
            <a:ext cx="6858000" cy="76176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rcRect l="0" t="0" r="0" b="48529"/>
          <a:stretch/>
        </p:blipFill>
        <p:spPr>
          <a:xfrm>
            <a:off x="1066680" y="1143000"/>
            <a:ext cx="6858000" cy="30481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1143000" y="4876920"/>
            <a:ext cx="6705720" cy="4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rcRect l="0" t="70247" r="0" b="19352"/>
          <a:stretch/>
        </p:blipFill>
        <p:spPr>
          <a:xfrm>
            <a:off x="1143000" y="3809880"/>
            <a:ext cx="6858000" cy="60984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rcRect l="0" t="0" r="0" b="48529"/>
          <a:stretch/>
        </p:blipFill>
        <p:spPr>
          <a:xfrm>
            <a:off x="1143000" y="1143000"/>
            <a:ext cx="6858000" cy="266688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rcRect l="58864" t="53556" r="24730" b="42002"/>
          <a:stretch/>
        </p:blipFill>
        <p:spPr>
          <a:xfrm>
            <a:off x="2971800" y="5105520"/>
            <a:ext cx="3200400" cy="761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89" name="" descr=""/>
          <p:cNvPicPr/>
          <p:nvPr/>
        </p:nvPicPr>
        <p:blipFill>
          <a:blip r:embed="rId4"/>
          <a:stretch/>
        </p:blipFill>
        <p:spPr>
          <a:xfrm>
            <a:off x="1219320" y="4343400"/>
            <a:ext cx="6705360" cy="4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rcRect l="0" t="79146" r="0" b="10539"/>
          <a:stretch/>
        </p:blipFill>
        <p:spPr>
          <a:xfrm>
            <a:off x="1143000" y="3809880"/>
            <a:ext cx="6858000" cy="5335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rcRect l="0" t="0" r="0" b="48529"/>
          <a:stretch/>
        </p:blipFill>
        <p:spPr>
          <a:xfrm>
            <a:off x="1143000" y="1143000"/>
            <a:ext cx="6858000" cy="266688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6629400" y="4038480"/>
            <a:ext cx="121932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1219320" y="4267080"/>
            <a:ext cx="6705360" cy="49536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4876920" y="3657600"/>
            <a:ext cx="22096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rcRect l="0" t="79146" r="0" b="10539"/>
          <a:stretch/>
        </p:blipFill>
        <p:spPr>
          <a:xfrm>
            <a:off x="1219320" y="2971800"/>
            <a:ext cx="6858000" cy="7621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rcRect l="0" t="0" r="0" b="48529"/>
          <a:stretch/>
        </p:blipFill>
        <p:spPr>
          <a:xfrm>
            <a:off x="1219320" y="304920"/>
            <a:ext cx="6858000" cy="266688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6781680" y="3352680"/>
            <a:ext cx="121932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3"/>
          <a:srcRect l="51004" t="47338" r="4001" b="23335"/>
          <a:stretch/>
        </p:blipFill>
        <p:spPr>
          <a:xfrm>
            <a:off x="1295280" y="3657600"/>
            <a:ext cx="6705720" cy="2895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9" name=""/>
          <p:cNvSpPr/>
          <p:nvPr/>
        </p:nvSpPr>
        <p:spPr>
          <a:xfrm>
            <a:off x="4495680" y="2819520"/>
            <a:ext cx="2590920" cy="228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447920" y="2971800"/>
            <a:ext cx="2361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685800" y="533520"/>
            <a:ext cx="7848720" cy="43146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685800" y="4952880"/>
            <a:ext cx="784872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838080" y="380880"/>
            <a:ext cx="7391520" cy="44481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914400" y="4876920"/>
            <a:ext cx="739152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762120" y="380880"/>
            <a:ext cx="7772400" cy="45720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838080" y="5029200"/>
            <a:ext cx="754380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609480" y="609480"/>
            <a:ext cx="7848720" cy="541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685800" y="304920"/>
            <a:ext cx="7696080" cy="47242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990720" y="5257800"/>
            <a:ext cx="685800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838080" y="609480"/>
            <a:ext cx="77724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57200" y="228600"/>
            <a:ext cx="7924680" cy="44956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838080" y="4800600"/>
            <a:ext cx="723924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6T01:37:56Z</dcterms:created>
  <dc:creator>David G. Kleinbaum</dc:creator>
  <dc:description/>
  <dc:language>en-US</dc:language>
  <cp:lastModifiedBy>dkleinb</cp:lastModifiedBy>
  <dcterms:modified xsi:type="dcterms:W3CDTF">2003-11-17T22:31:22Z</dcterms:modified>
  <cp:revision>190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586904489</vt:r8>
  </property>
  <property fmtid="{D5CDD505-2E9C-101B-9397-08002B2CF9AE}" pid="3" name="_AuthorEmail">
    <vt:lpwstr>dgk0@cdc.gov</vt:lpwstr>
  </property>
  <property fmtid="{D5CDD505-2E9C-101B-9397-08002B2CF9AE}" pid="4" name="_AuthorEmailDisplayName">
    <vt:lpwstr>Kleinbaum, David</vt:lpwstr>
  </property>
  <property fmtid="{D5CDD505-2E9C-101B-9397-08002B2CF9AE}" pid="5" name="_EmailSubject">
    <vt:lpwstr>meas of disease freq pp attached</vt:lpwstr>
  </property>
</Properties>
</file>