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A069-C1B4-422D-AF54-32770835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701-85F5-4104-9062-CC41660D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37A9-007E-4079-9B03-815EC082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C7C-2FD8-4BFC-ABF1-0142AAE2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C143-C7F8-49BD-AE2A-1E99F720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EF16-CFD4-46A5-A385-534A839D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6334-0825-4AE8-9B7D-9099ED5B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0F4C-E5D5-40A0-A559-DC2576BD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AEF-28FF-479E-AEBB-80D042E7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C1B3-35F0-4575-849B-A0C3BD96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A44-BBAF-4302-8B39-D2F0E41B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55E1-BE64-4585-B3AA-9E400A29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D232-FC53-42F5-BEA0-6DF6D868D2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2880" y="2819520"/>
            <a:ext cx="724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impson’s Paradox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391160" cy="4495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99480" y="608040"/>
            <a:ext cx="39542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9799"/>
                </a:solidFill>
                <a:latin typeface="Times New Roman"/>
              </a:rPr>
              <a:t>Simpson’s Parado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609480"/>
            <a:ext cx="1307880" cy="609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400800" y="609480"/>
            <a:ext cx="22096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2003" b="7610"/>
          <a:stretch/>
        </p:blipFill>
        <p:spPr>
          <a:xfrm>
            <a:off x="1371600" y="1209600"/>
            <a:ext cx="640080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181" t="1552" r="3534" b="10264"/>
          <a:stretch/>
        </p:blipFill>
        <p:spPr>
          <a:xfrm>
            <a:off x="914400" y="533520"/>
            <a:ext cx="7467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2353" t="1552" r="1181" b="18213"/>
          <a:stretch/>
        </p:blipFill>
        <p:spPr>
          <a:xfrm>
            <a:off x="838080" y="1143000"/>
            <a:ext cx="74678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467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219" t="1615" r="1219" b="7610"/>
          <a:stretch/>
        </p:blipFill>
        <p:spPr>
          <a:xfrm>
            <a:off x="914400" y="1066680"/>
            <a:ext cx="7315200" cy="4724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28240" y="5851440"/>
            <a:ext cx="71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oes home at the end of the day without buying a h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5105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78120" y="471600"/>
            <a:ext cx="57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next day just as the store  ope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2410" t="1602" r="1210" b="7610"/>
          <a:stretch/>
        </p:blipFill>
        <p:spPr>
          <a:xfrm>
            <a:off x="685800" y="533520"/>
            <a:ext cx="78487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27T14:43:20Z</dcterms:modified>
  <cp:revision>219</cp:revision>
  <dc:subject/>
  <dc:title>Slide 1</dc:title>
</cp:coreProperties>
</file>