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FAE-826B-40D1-8850-73F4F31C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5EA-B42E-4F80-8486-2790FAC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435-0DA0-43C4-ABEB-B6236AE1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78C-6ADC-45D7-B367-95881FEF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492-0104-4D0B-A747-CD18D58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B5C-19DC-4743-84A6-F40E774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186-E2A9-479D-9513-C660323D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AE5-50B5-46FA-9DE3-12CBA80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9CD-5AC8-453D-A5D2-69F4D33C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DD0-C19B-4151-A6DD-7EA0C754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F2B-2E0F-453E-89F9-35CD8EC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E33-4B87-49C3-80B2-F229870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0C6-1A1B-4B17-8113-CED202887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800" y="251460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Assessing Confounding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701"/>
                </a:solidFill>
                <a:latin typeface="Arial"/>
              </a:rPr>
              <a:t>Case-Control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1447920"/>
            <a:ext cx="647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95280"/>
            <a:ext cx="6248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6:15Z</dcterms:modified>
  <cp:revision>218</cp:revision>
  <dc:subject/>
  <dc:title>Slide 1</dc:title>
</cp:coreProperties>
</file>