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4EF-E37E-4968-B416-DAA92DB4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7CD-C55F-4C00-A4CF-5ACFA8AC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41E-E16D-4B0B-9EA9-431B67A2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609-4E18-4FE2-912A-485F2843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B3A-8EB9-4FCC-8EAF-E3F6B1CB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E04-FD8F-4FE7-B8BE-DC289CA1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16E-D39D-42AA-A1E9-64CEED68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1B1-C936-4394-83DE-7E916FAC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20D-955A-4F21-A464-50CB46D5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BCC-A425-43B5-8E41-CD18533A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CDF-D45A-4162-BC81-61309600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3E6-A636-4F54-A777-793CAFEC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7AD1-6F6D-4106-AFAA-2A9BFC7BD5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438280"/>
            <a:ext cx="699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ffect Mod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7160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447920"/>
            <a:ext cx="5790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752480" y="1251000"/>
            <a:ext cx="60199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1066680" y="12952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838080" y="685800"/>
            <a:ext cx="7162920" cy="42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59129" t="52668" r="26000" b="41700"/>
          <a:stretch/>
        </p:blipFill>
        <p:spPr>
          <a:xfrm>
            <a:off x="3048120" y="5105520"/>
            <a:ext cx="259056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1143000" y="380988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59252" t="52668" r="26000" b="41334"/>
          <a:stretch/>
        </p:blipFill>
        <p:spPr>
          <a:xfrm>
            <a:off x="2819520" y="4572000"/>
            <a:ext cx="350496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143000" y="380988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670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58864" t="53556" r="24730" b="42002"/>
          <a:stretch/>
        </p:blipFill>
        <p:spPr>
          <a:xfrm>
            <a:off x="2971800" y="5105520"/>
            <a:ext cx="320040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19320" y="4343400"/>
            <a:ext cx="670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143000" y="3809880"/>
            <a:ext cx="6858000" cy="533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629400" y="40384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6705360" cy="495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76920" y="3657600"/>
            <a:ext cx="2209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523880" y="1600200"/>
            <a:ext cx="5943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219320" y="297180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219320" y="30492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33526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51004" t="47338" r="4001" b="23335"/>
          <a:stretch/>
        </p:blipFill>
        <p:spPr>
          <a:xfrm>
            <a:off x="1295280" y="3657600"/>
            <a:ext cx="67057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495680" y="2819520"/>
            <a:ext cx="2590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9718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95280"/>
            <a:ext cx="61722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600200" y="167652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4479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65120"/>
            <a:ext cx="609588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752480" y="12193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19320"/>
            <a:ext cx="63244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219320"/>
            <a:ext cx="6095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30T19:01:19Z</dcterms:modified>
  <cp:revision>220</cp:revision>
  <dc:subject/>
  <dc:title>Slide 1</dc:title>
</cp:coreProperties>
</file>