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7D1A-1B4C-478A-A9FF-54702D18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3C0F-F8C9-4112-99DC-79891F8E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530A-5312-4DB6-8FA5-8DEA5FB1F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2767-E340-478A-B474-1AE78D36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894B-6F80-4257-98B4-DFF18DC1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6859-4AA3-420F-A57B-7D2965BD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C340-F5A9-4DFC-8BD5-AB31AAD8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5793-2FF2-43DC-9E65-64A31FB6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7959-C993-4FD6-9425-99B92BE7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24F9-FC0A-49D8-BC0E-B4549369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B192-E5DB-46E5-AD07-4BA2CBFF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DE5F-B4D6-4391-B533-3524E452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40B6-CC89-40DB-BA0C-6B0D2FFDA0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28600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Characteristics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Of Adjusted Estimat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447920" y="685800"/>
            <a:ext cx="6400800" cy="5014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478200" y="3813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1295280" y="838080"/>
            <a:ext cx="6400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76212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1066680" y="609480"/>
            <a:ext cx="71629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53161"/>
          <a:stretch/>
        </p:blipFill>
        <p:spPr>
          <a:xfrm>
            <a:off x="1371600" y="762120"/>
            <a:ext cx="6248520" cy="3276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0" t="39742" r="0" b="31456"/>
          <a:stretch/>
        </p:blipFill>
        <p:spPr>
          <a:xfrm>
            <a:off x="1371600" y="3962520"/>
            <a:ext cx="6248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31356" r="1238" b="31669"/>
          <a:stretch/>
        </p:blipFill>
        <p:spPr>
          <a:xfrm>
            <a:off x="1600200" y="1447920"/>
            <a:ext cx="6095880" cy="3352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436840" y="4038480"/>
            <a:ext cx="47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(Typically, a weighted average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23182"/>
          <a:stretch/>
        </p:blipFill>
        <p:spPr>
          <a:xfrm>
            <a:off x="1371600" y="838080"/>
            <a:ext cx="67057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447920" y="853920"/>
            <a:ext cx="6629400" cy="5089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477120" y="5486400"/>
            <a:ext cx="15238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914400" y="914400"/>
            <a:ext cx="7620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68580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1371600" y="838080"/>
            <a:ext cx="6705720" cy="4953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83960" y="4114800"/>
            <a:ext cx="553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wo sample sizes here ( 75 and 8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n’t very different, so an arithmet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using equal weights seems o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9939"/>
          <a:stretch/>
        </p:blipFill>
        <p:spPr>
          <a:xfrm>
            <a:off x="1143000" y="838080"/>
            <a:ext cx="6781680" cy="4992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0" y="4495680"/>
            <a:ext cx="435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rithmetic average: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04T18:03:14Z</dcterms:modified>
  <cp:revision>218</cp:revision>
  <dc:subject/>
  <dc:title>Slide 1</dc:title>
</cp:coreProperties>
</file>