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B60-E775-48E1-AD95-7B0E6228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755-167F-4D04-8367-A1C48522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8AD-8EAB-46F0-8B98-E87B6CDD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67E-8387-4E65-AAA9-BF98C3C0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625-2B73-4303-A8C6-A0A38AA2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1C7-3CA8-47F0-9CFC-E659DF04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8CF-8A02-4828-A2C6-A6EA4FBF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2CE-E315-47AB-8E71-7E06EE45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D9B9-9A4E-4EE6-A6E3-A7F98A33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CE3-F206-4E4B-BC6A-29A93D8B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30E-5F43-45A5-83DE-37343053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4B2-C4A9-4650-AFC1-3572A208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6D6D-C60B-4B29-9F93-DB583C5EAA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4640" y="2286000"/>
            <a:ext cx="584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he Concept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 Confound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8336"/>
          <a:stretch/>
        </p:blipFill>
        <p:spPr>
          <a:xfrm>
            <a:off x="1219320" y="1066680"/>
            <a:ext cx="67816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6697" r="0" b="64689"/>
          <a:stretch/>
        </p:blipFill>
        <p:spPr>
          <a:xfrm>
            <a:off x="685800" y="4343400"/>
            <a:ext cx="7620120" cy="1630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43072" r="0" b="8336"/>
          <a:stretch/>
        </p:blipFill>
        <p:spPr>
          <a:xfrm>
            <a:off x="685800" y="1371600"/>
            <a:ext cx="76201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12505" r="0" b="72963"/>
          <a:stretch/>
        </p:blipFill>
        <p:spPr>
          <a:xfrm>
            <a:off x="1143000" y="2819520"/>
            <a:ext cx="6934320" cy="761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43072" r="0" b="13193"/>
          <a:stretch/>
        </p:blipFill>
        <p:spPr>
          <a:xfrm>
            <a:off x="1143000" y="609480"/>
            <a:ext cx="6934320" cy="2229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47003" t="56669" r="14002" b="22000"/>
          <a:stretch/>
        </p:blipFill>
        <p:spPr>
          <a:xfrm>
            <a:off x="1143000" y="3581280"/>
            <a:ext cx="693432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1940" r="0" b="70872"/>
          <a:stretch/>
        </p:blipFill>
        <p:spPr>
          <a:xfrm>
            <a:off x="914400" y="3886200"/>
            <a:ext cx="739152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1616" t="2654" r="0" b="68219"/>
          <a:stretch/>
        </p:blipFill>
        <p:spPr>
          <a:xfrm>
            <a:off x="990720" y="4952880"/>
            <a:ext cx="731520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rcRect l="0" t="0" r="0" b="21142"/>
          <a:stretch/>
        </p:blipFill>
        <p:spPr>
          <a:xfrm>
            <a:off x="914400" y="685800"/>
            <a:ext cx="7391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17887" r="1918" b="7948"/>
          <a:stretch/>
        </p:blipFill>
        <p:spPr>
          <a:xfrm>
            <a:off x="914400" y="9144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447920"/>
            <a:ext cx="59436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19289"/>
          <a:stretch/>
        </p:blipFill>
        <p:spPr>
          <a:xfrm>
            <a:off x="1295280" y="1371600"/>
            <a:ext cx="670572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43848"/>
          <a:stretch/>
        </p:blipFill>
        <p:spPr>
          <a:xfrm>
            <a:off x="990720" y="1120680"/>
            <a:ext cx="723888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68580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0527"/>
          <a:stretch/>
        </p:blipFill>
        <p:spPr>
          <a:xfrm>
            <a:off x="838080" y="609480"/>
            <a:ext cx="74678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1219320" y="1752480"/>
            <a:ext cx="64767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8336"/>
          <a:stretch/>
        </p:blipFill>
        <p:spPr>
          <a:xfrm>
            <a:off x="914400" y="917640"/>
            <a:ext cx="7010280" cy="4035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50332" r="0" b="20528"/>
          <a:stretch/>
        </p:blipFill>
        <p:spPr>
          <a:xfrm>
            <a:off x="914400" y="4386240"/>
            <a:ext cx="7010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143000"/>
            <a:ext cx="66294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8449"/>
          <a:stretch/>
        </p:blipFill>
        <p:spPr>
          <a:xfrm>
            <a:off x="1371600" y="1447920"/>
            <a:ext cx="63244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1600200" y="1523880"/>
            <a:ext cx="617220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447920" y="1371600"/>
            <a:ext cx="60958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8T17:35:20Z</dcterms:modified>
  <cp:revision>218</cp:revision>
  <dc:subject/>
  <dc:title>Slide 1</dc:title>
</cp:coreProperties>
</file>