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6D0B-EF21-4B53-B254-7D3EE865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AB89-C906-49B8-AA9A-11A6798E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3E9-0FA9-4AB9-B1D4-CA2BC04A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E7A8-DA47-4780-A6D7-2A0FBBC7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C34-596B-484F-B60F-B1FED2E8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890-DCD4-4068-8A0C-A7102FA2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7D9-8CBD-421D-B12A-E954788C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A24-70FC-4227-9B62-5EC0AF6C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33A-81D4-48C1-942A-198FF01A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E48-EA45-49B1-BE17-01A359C4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9D0-AF06-4493-B2A7-7B46448C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622-125B-48C6-B663-F7739B90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5154-E7E0-4966-938C-53A4AC1509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676520"/>
            <a:ext cx="699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te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ersu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ffect Modific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9213" r="32565" b="26098"/>
          <a:stretch/>
        </p:blipFill>
        <p:spPr>
          <a:xfrm>
            <a:off x="1066680" y="1143000"/>
            <a:ext cx="693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476" t="9576" r="24098" b="7610"/>
          <a:stretch/>
        </p:blipFill>
        <p:spPr>
          <a:xfrm>
            <a:off x="1295280" y="1066680"/>
            <a:ext cx="6782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2438" t="9813" r="25931" b="7610"/>
          <a:stretch/>
        </p:blipFill>
        <p:spPr>
          <a:xfrm>
            <a:off x="1295280" y="990720"/>
            <a:ext cx="6705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762120" y="7621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381" t="1540" r="50510" b="35311"/>
          <a:stretch/>
        </p:blipFill>
        <p:spPr>
          <a:xfrm>
            <a:off x="2362320" y="1066680"/>
            <a:ext cx="5029200" cy="3276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26744" t="78558" r="24419" b="7585"/>
          <a:stretch/>
        </p:blipFill>
        <p:spPr>
          <a:xfrm>
            <a:off x="2362320" y="4343400"/>
            <a:ext cx="50292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48195" b="23382"/>
          <a:stretch/>
        </p:blipFill>
        <p:spPr>
          <a:xfrm>
            <a:off x="1981080" y="1409760"/>
            <a:ext cx="5715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21517"/>
          <a:stretch/>
        </p:blipFill>
        <p:spPr>
          <a:xfrm>
            <a:off x="1143000" y="914400"/>
            <a:ext cx="6858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838080"/>
            <a:ext cx="70106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371600" y="1066680"/>
            <a:ext cx="6172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285"/>
          <a:stretch/>
        </p:blipFill>
        <p:spPr>
          <a:xfrm>
            <a:off x="1447920" y="990720"/>
            <a:ext cx="6324480" cy="4427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84454" r="0" b="7610"/>
          <a:stretch/>
        </p:blipFill>
        <p:spPr>
          <a:xfrm>
            <a:off x="1447920" y="5410080"/>
            <a:ext cx="6324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2183" t="9350" r="55301" b="57942"/>
          <a:stretch/>
        </p:blipFill>
        <p:spPr>
          <a:xfrm>
            <a:off x="1752480" y="1828800"/>
            <a:ext cx="5943600" cy="3352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25808" t="1552" r="23531" b="89886"/>
          <a:stretch/>
        </p:blipFill>
        <p:spPr>
          <a:xfrm>
            <a:off x="2743200" y="609480"/>
            <a:ext cx="403848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57440" y="7779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3175" t="9288" r="46088" b="59494"/>
          <a:stretch/>
        </p:blipFill>
        <p:spPr>
          <a:xfrm>
            <a:off x="1905120" y="1371600"/>
            <a:ext cx="5715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30T19:02:37Z</dcterms:modified>
  <cp:revision>218</cp:revision>
  <dc:subject/>
  <dc:title>Slide 1</dc:title>
</cp:coreProperties>
</file>