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1AD-D893-42F4-9D82-ACAD8453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B75-C270-4A4A-967F-AC0CE519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309-A199-459D-A264-1A7FB88C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353-726E-4C8F-9F89-B740B092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596-A251-4976-8FF9-FF8E2A35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7A0-6080-4578-B4BD-22C03500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991-39CD-4FCE-83A8-92C924B9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BF5-171A-4443-8E67-EE522F9E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BC2-BCC8-409C-8CFF-56B96E0C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7B2-6CC8-4CB9-AC11-9CADC0A9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0BD-7C86-4A66-A510-9B8A8F9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FE3-23C4-4654-AC52-0DCE3F9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E1B-A856-4702-ACF6-107A411182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2133720"/>
            <a:ext cx="71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rude vs Adjus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stim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600200" y="1428840"/>
            <a:ext cx="62485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600200"/>
            <a:ext cx="6477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600200" y="1523880"/>
            <a:ext cx="6248520" cy="3857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3429000"/>
            <a:ext cx="56386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7887"/>
          <a:stretch/>
        </p:blipFill>
        <p:spPr>
          <a:xfrm>
            <a:off x="1371600" y="1752480"/>
            <a:ext cx="632448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3657600"/>
            <a:ext cx="5638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523880" y="1371600"/>
            <a:ext cx="67820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600200" y="1295280"/>
            <a:ext cx="640080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523880"/>
            <a:ext cx="6019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600200" y="1447920"/>
            <a:ext cx="60199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828800" y="1501920"/>
            <a:ext cx="60958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1905120" y="2362320"/>
            <a:ext cx="57150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1752480" y="1295280"/>
            <a:ext cx="563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2721"/>
          <a:stretch/>
        </p:blipFill>
        <p:spPr>
          <a:xfrm>
            <a:off x="1752480" y="3200400"/>
            <a:ext cx="563904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70872"/>
          <a:stretch/>
        </p:blipFill>
        <p:spPr>
          <a:xfrm>
            <a:off x="1752480" y="1447920"/>
            <a:ext cx="563904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1523880" y="1219320"/>
            <a:ext cx="5715000" cy="1257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2178" r="0" b="15233"/>
          <a:stretch/>
        </p:blipFill>
        <p:spPr>
          <a:xfrm>
            <a:off x="1523880" y="2438280"/>
            <a:ext cx="5715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1447920" y="1676520"/>
            <a:ext cx="60958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41360"/>
            <a:ext cx="57913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600200" y="144792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143000"/>
            <a:ext cx="6781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066680" y="1295280"/>
            <a:ext cx="72392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371600" y="1290600"/>
            <a:ext cx="63244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4479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19320" y="1447920"/>
            <a:ext cx="64767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9528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29528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37:18Z</dcterms:modified>
  <cp:revision>216</cp:revision>
  <dc:subject/>
  <dc:title>Slide 1</dc:title>
</cp:coreProperties>
</file>