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wmf" ContentType="image/x-wmf"/>
  <Override PartName="/ppt/media/image4.png" ContentType="image/png"/>
  <Override PartName="/ppt/media/image1.wmf" ContentType="image/x-wmf"/>
  <Override PartName="/ppt/media/image2.png" ContentType="image/png"/>
  <Override PartName="/ppt/media/image3.wmf" ContentType="image/x-wmf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15.wmf" ContentType="image/x-wmf"/>
  <Override PartName="/ppt/media/image7.png" ContentType="image/png"/>
  <Override PartName="/ppt/media/image8.wmf" ContentType="image/x-wmf"/>
  <Override PartName="/ppt/media/image9.png" ContentType="image/png"/>
  <Override PartName="/ppt/media/image5.png" ContentType="image/png"/>
  <Override PartName="/ppt/media/image13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9355B-29B8-432B-9DFA-459081ABA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618CE-1652-46B0-9428-F7C2A3CCD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9FC43-16B4-4590-B99E-EA51F500F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4CB68-10B2-4131-8D77-BE2C8909B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32A16-FD56-4393-953E-D92F1B8F6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1DB9D-0DF9-4F05-9866-C1CCE3DF9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215D7-0347-4F85-8CDB-E0C1E2A13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CC457-8908-45E5-9913-0882E79E9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82488-1C41-460C-B044-C378DCC88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31C40-33AD-4607-AEEB-9E14727F4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64FC4-5540-47FD-B797-182C7E00E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EE6F7-24CF-4758-9B5B-8E5F30765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FD22B-6B25-43D6-B09F-061368C981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8.wmf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8.wmf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99cc00"/>
                </a:solidFill>
                <a:latin typeface="Arial"/>
              </a:rPr>
              <a:t>Confounding:  Validity Versus Precis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rcRect l="0" t="0" r="0" b="8144"/>
          <a:stretch/>
        </p:blipFill>
        <p:spPr>
          <a:xfrm>
            <a:off x="380880" y="609480"/>
            <a:ext cx="8382240" cy="554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rcRect l="0" t="0" r="0" b="9746"/>
          <a:stretch/>
        </p:blipFill>
        <p:spPr>
          <a:xfrm>
            <a:off x="685800" y="533520"/>
            <a:ext cx="7772400" cy="568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rcRect l="0" t="0" r="0" b="7736"/>
          <a:stretch/>
        </p:blipFill>
        <p:spPr>
          <a:xfrm>
            <a:off x="685800" y="609480"/>
            <a:ext cx="7848720" cy="575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rcRect l="0" t="0" r="0" b="7736"/>
          <a:stretch/>
        </p:blipFill>
        <p:spPr>
          <a:xfrm>
            <a:off x="685800" y="609480"/>
            <a:ext cx="7924680" cy="569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rcRect l="0" t="0" r="0" b="7736"/>
          <a:stretch/>
        </p:blipFill>
        <p:spPr>
          <a:xfrm>
            <a:off x="380880" y="457200"/>
            <a:ext cx="8458200" cy="58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00200" y="533520"/>
            <a:ext cx="6781680" cy="5715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7086600" y="6019920"/>
            <a:ext cx="129528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rcRect l="0" t="0" r="0" b="44359"/>
          <a:stretch/>
        </p:blipFill>
        <p:spPr>
          <a:xfrm>
            <a:off x="609480" y="838080"/>
            <a:ext cx="7772400" cy="31244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685800" y="4191120"/>
            <a:ext cx="769608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71680" y="3429000"/>
            <a:ext cx="8001000" cy="21337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609480" y="1066680"/>
            <a:ext cx="7925040" cy="8384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609480" y="1905120"/>
            <a:ext cx="792504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rcRect l="0" t="0" r="0" b="9746"/>
          <a:stretch/>
        </p:blipFill>
        <p:spPr>
          <a:xfrm>
            <a:off x="609480" y="380880"/>
            <a:ext cx="7848720" cy="5715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2286000" y="5943600"/>
            <a:ext cx="60958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781680" y="5715000"/>
            <a:ext cx="167652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0" r="0" b="27797"/>
          <a:stretch/>
        </p:blipFill>
        <p:spPr>
          <a:xfrm>
            <a:off x="609480" y="380880"/>
            <a:ext cx="7772400" cy="44960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609480" y="4876920"/>
            <a:ext cx="7620120" cy="137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0" t="0" r="0" b="36225"/>
          <a:stretch/>
        </p:blipFill>
        <p:spPr>
          <a:xfrm>
            <a:off x="533520" y="380880"/>
            <a:ext cx="8076960" cy="40388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rcRect l="0" t="72213" r="0" b="18165"/>
          <a:stretch/>
        </p:blipFill>
        <p:spPr>
          <a:xfrm>
            <a:off x="533520" y="4419720"/>
            <a:ext cx="8076960" cy="598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609480" y="5029200"/>
            <a:ext cx="784872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0" t="81845" r="0" b="9746"/>
          <a:stretch/>
        </p:blipFill>
        <p:spPr>
          <a:xfrm>
            <a:off x="533520" y="2133720"/>
            <a:ext cx="7772400" cy="5331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475000" y="2514600"/>
            <a:ext cx="57578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629400" y="2133720"/>
            <a:ext cx="160020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rcRect l="0" t="48237" r="0" b="36225"/>
          <a:stretch/>
        </p:blipFill>
        <p:spPr>
          <a:xfrm>
            <a:off x="533520" y="1219320"/>
            <a:ext cx="7772400" cy="9144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609480" y="2666880"/>
            <a:ext cx="762012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6T20:58:15Z</dcterms:created>
  <dc:creator>david g. kleinbaum</dc:creator>
  <dc:description/>
  <dc:language>en-US</dc:language>
  <cp:lastModifiedBy>dkleinb</cp:lastModifiedBy>
  <dcterms:modified xsi:type="dcterms:W3CDTF">2003-11-04T15:44:07Z</dcterms:modified>
  <cp:revision>39</cp:revision>
  <dc:subject/>
  <dc:title>PowerPoint Presentation</dc:title>
</cp:coreProperties>
</file>