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20.wmf" ContentType="image/x-wmf"/>
  <Override PartName="/ppt/media/image4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3.png" ContentType="image/png"/>
  <Override PartName="/ppt/media/image5.png" ContentType="image/png"/>
  <Override PartName="/ppt/media/image6.png" ContentType="image/png"/>
  <Override PartName="/ppt/media/image2.png" ContentType="image/png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6607-7714-4F99-9CE8-AA41AE59C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4A95-1975-4691-A503-571375F3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1E94-4F75-41FD-9133-9A51B7FA5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91BB-DE1A-4121-B1F5-8181F9632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B168-E6C7-4A24-9C16-AC0996E8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E734-3C85-4713-9A7A-75EABEB7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0C2A-6543-45AB-BCE5-4C03C517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4B19-4309-4F78-A1F0-65DDE410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A155-0828-4AC4-84A2-D211DA86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BAA0-2D11-4DC2-8513-B3C78806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07F6-D7A5-4D9B-AE6C-BD27ED60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A5E8-38F1-49EF-95CC-4EFB62A3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3E72-00B5-41DD-B374-0EEB332C5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1371600"/>
            <a:ext cx="7968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Confounding Due to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One of Two Potential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Risk Facto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10978"/>
          <a:stretch/>
        </p:blipFill>
        <p:spPr>
          <a:xfrm>
            <a:off x="762120" y="609480"/>
            <a:ext cx="7848360" cy="5562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781680" y="5867280"/>
            <a:ext cx="175284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63538" r="0" b="21179"/>
          <a:stretch/>
        </p:blipFill>
        <p:spPr>
          <a:xfrm>
            <a:off x="838080" y="2514600"/>
            <a:ext cx="7239240" cy="838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14400" y="3352680"/>
            <a:ext cx="731520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61187" r="0" b="29418"/>
          <a:stretch/>
        </p:blipFill>
        <p:spPr>
          <a:xfrm>
            <a:off x="457200" y="1905120"/>
            <a:ext cx="8416800" cy="671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0" t="78830" r="0" b="11765"/>
          <a:stretch/>
        </p:blipFill>
        <p:spPr>
          <a:xfrm>
            <a:off x="479520" y="2533680"/>
            <a:ext cx="8381880" cy="590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086600" y="2895480"/>
            <a:ext cx="16765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57200" y="3200400"/>
            <a:ext cx="822960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18576"/>
          <a:stretch/>
        </p:blipFill>
        <p:spPr>
          <a:xfrm>
            <a:off x="838080" y="533520"/>
            <a:ext cx="77724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12092"/>
          <a:stretch/>
        </p:blipFill>
        <p:spPr>
          <a:xfrm>
            <a:off x="838080" y="533520"/>
            <a:ext cx="7543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15121"/>
          <a:stretch/>
        </p:blipFill>
        <p:spPr>
          <a:xfrm>
            <a:off x="533520" y="457200"/>
            <a:ext cx="80769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64818" r="0" b="24630"/>
          <a:stretch/>
        </p:blipFill>
        <p:spPr>
          <a:xfrm>
            <a:off x="762120" y="2590920"/>
            <a:ext cx="7543800" cy="533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7315200" cy="20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64666" r="0" b="28821"/>
          <a:stretch/>
        </p:blipFill>
        <p:spPr>
          <a:xfrm>
            <a:off x="609480" y="1752480"/>
            <a:ext cx="7925040" cy="457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rcRect l="0" t="75284" r="0" b="20383"/>
          <a:stretch/>
        </p:blipFill>
        <p:spPr>
          <a:xfrm>
            <a:off x="609480" y="2209680"/>
            <a:ext cx="7925040" cy="228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85800" y="2743200"/>
            <a:ext cx="777240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64666" r="0" b="28821"/>
          <a:stretch/>
        </p:blipFill>
        <p:spPr>
          <a:xfrm>
            <a:off x="380880" y="2209680"/>
            <a:ext cx="8382240" cy="457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rcRect l="0" t="79655" r="0" b="14970"/>
          <a:stretch/>
        </p:blipFill>
        <p:spPr>
          <a:xfrm>
            <a:off x="380880" y="2666880"/>
            <a:ext cx="8382240" cy="304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57200" y="3124080"/>
            <a:ext cx="822960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0" b="19776"/>
          <a:stretch/>
        </p:blipFill>
        <p:spPr>
          <a:xfrm>
            <a:off x="457200" y="685800"/>
            <a:ext cx="83059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5726"/>
          <a:stretch/>
        </p:blipFill>
        <p:spPr>
          <a:xfrm>
            <a:off x="609480" y="633240"/>
            <a:ext cx="8001000" cy="56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25335"/>
          <a:stretch/>
        </p:blipFill>
        <p:spPr>
          <a:xfrm>
            <a:off x="533520" y="533520"/>
            <a:ext cx="8076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7698"/>
          <a:stretch/>
        </p:blipFill>
        <p:spPr>
          <a:xfrm>
            <a:off x="457200" y="457200"/>
            <a:ext cx="82296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39241"/>
          <a:stretch/>
        </p:blipFill>
        <p:spPr>
          <a:xfrm>
            <a:off x="609480" y="53352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8975"/>
          <a:stretch/>
        </p:blipFill>
        <p:spPr>
          <a:xfrm>
            <a:off x="609480" y="533520"/>
            <a:ext cx="80773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10126"/>
          <a:stretch/>
        </p:blipFill>
        <p:spPr>
          <a:xfrm>
            <a:off x="533520" y="533520"/>
            <a:ext cx="78483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22982"/>
          <a:stretch/>
        </p:blipFill>
        <p:spPr>
          <a:xfrm>
            <a:off x="762120" y="609480"/>
            <a:ext cx="7086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d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16673"/>
          <a:stretch/>
        </p:blipFill>
        <p:spPr>
          <a:xfrm>
            <a:off x="914400" y="4572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27:50Z</dcterms:created>
  <dc:creator>david g. kleinbaum</dc:creator>
  <dc:description/>
  <dc:language>en-US</dc:language>
  <cp:lastModifiedBy>dkleinb</cp:lastModifiedBy>
  <dcterms:modified xsi:type="dcterms:W3CDTF">2003-11-18T15:41:31Z</dcterms:modified>
  <cp:revision>27</cp:revision>
  <dc:subject/>
  <dc:title> Confounding Involving Several Risk Factors</dc:title>
</cp:coreProperties>
</file>