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EC15-0E83-439D-910E-4A7E6FB7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B29F-889D-444E-AC4F-79033290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62E-A9A0-4CCE-BB67-B8BABC98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9F6D-FF3B-45A5-A09B-1DE0FEC0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270-9473-40D2-9AB4-C20200B3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85E7-D9EE-41C4-B17C-2F7B4CA6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B019-E57D-45BE-9489-0F3C325D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8C4D-0E63-488A-B4B4-AA319F30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2C8-324E-4F4B-84F3-4CCD3D08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D21C-41C2-425F-8DC1-98390A4E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A60-B72E-4256-95E9-E438DB69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FF3-AAD4-4E0C-9853-5E456853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411B-8D11-48C8-B5B8-56A9CDC59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286000"/>
            <a:ext cx="831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Joint Versus Margin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oun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34585" r="0" b="34414"/>
          <a:stretch/>
        </p:blipFill>
        <p:spPr>
          <a:xfrm>
            <a:off x="304920" y="1219320"/>
            <a:ext cx="815328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8153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33400" r="0" b="37988"/>
          <a:stretch/>
        </p:blipFill>
        <p:spPr>
          <a:xfrm>
            <a:off x="380880" y="1143000"/>
            <a:ext cx="845820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65595" r="0" b="26062"/>
          <a:stretch/>
        </p:blipFill>
        <p:spPr>
          <a:xfrm>
            <a:off x="380880" y="2895480"/>
            <a:ext cx="8458200" cy="609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8305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33400" r="0" b="37988"/>
          <a:stretch/>
        </p:blipFill>
        <p:spPr>
          <a:xfrm>
            <a:off x="380880" y="1143000"/>
            <a:ext cx="84582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0" t="73948" r="0" b="11746"/>
          <a:stretch/>
        </p:blipFill>
        <p:spPr>
          <a:xfrm>
            <a:off x="380880" y="2895480"/>
            <a:ext cx="845820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8305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3756"/>
          <a:stretch/>
        </p:blipFill>
        <p:spPr>
          <a:xfrm>
            <a:off x="457200" y="76212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7738"/>
          <a:stretch/>
        </p:blipFill>
        <p:spPr>
          <a:xfrm>
            <a:off x="609480" y="685800"/>
            <a:ext cx="8001000" cy="5519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86400" y="1447920"/>
            <a:ext cx="28954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(C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80808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11746"/>
          <a:stretch/>
        </p:blipFill>
        <p:spPr>
          <a:xfrm>
            <a:off x="609480" y="736560"/>
            <a:ext cx="7772400" cy="5465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05720" y="5867280"/>
            <a:ext cx="16002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1600200"/>
            <a:ext cx="2514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17017"/>
          <a:stretch/>
        </p:blipFill>
        <p:spPr>
          <a:xfrm>
            <a:off x="914400" y="228600"/>
            <a:ext cx="7391520" cy="4386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4572000"/>
            <a:ext cx="7238880" cy="1770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562720" y="914400"/>
            <a:ext cx="259056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…,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0" b="15766"/>
          <a:stretch/>
        </p:blipFill>
        <p:spPr>
          <a:xfrm>
            <a:off x="1523880" y="1523880"/>
            <a:ext cx="6400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42122" r="0" b="35201"/>
          <a:stretch/>
        </p:blipFill>
        <p:spPr>
          <a:xfrm>
            <a:off x="1066680" y="1752480"/>
            <a:ext cx="7239240" cy="1295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7010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41041" r="0" b="48161"/>
          <a:stretch/>
        </p:blipFill>
        <p:spPr>
          <a:xfrm>
            <a:off x="685800" y="1143000"/>
            <a:ext cx="8077320" cy="762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0" t="64808" r="0" b="22241"/>
          <a:stretch/>
        </p:blipFill>
        <p:spPr>
          <a:xfrm>
            <a:off x="685800" y="1884240"/>
            <a:ext cx="8077320" cy="782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5800" y="2666880"/>
            <a:ext cx="80773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762120" y="895320"/>
            <a:ext cx="77724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430800" y="234324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43203" r="0" b="48170"/>
          <a:stretch/>
        </p:blipFill>
        <p:spPr>
          <a:xfrm>
            <a:off x="304920" y="2057400"/>
            <a:ext cx="8380440" cy="622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76953" r="0" b="15766"/>
          <a:stretch/>
        </p:blipFill>
        <p:spPr>
          <a:xfrm>
            <a:off x="303120" y="2666880"/>
            <a:ext cx="8382240" cy="457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04920" y="3124080"/>
            <a:ext cx="8305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11746"/>
          <a:stretch/>
        </p:blipFill>
        <p:spPr>
          <a:xfrm>
            <a:off x="457200" y="685800"/>
            <a:ext cx="838188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457200" y="609480"/>
            <a:ext cx="82296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15766"/>
          <a:stretch/>
        </p:blipFill>
        <p:spPr>
          <a:xfrm>
            <a:off x="457200" y="762120"/>
            <a:ext cx="8153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30736" r="0" b="15766"/>
          <a:stretch/>
        </p:blipFill>
        <p:spPr>
          <a:xfrm>
            <a:off x="609480" y="380880"/>
            <a:ext cx="8153640" cy="358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79246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7766"/>
          <a:stretch/>
        </p:blipFill>
        <p:spPr>
          <a:xfrm>
            <a:off x="380880" y="914400"/>
            <a:ext cx="830592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31210" r="0" b="17766"/>
          <a:stretch/>
        </p:blipFill>
        <p:spPr>
          <a:xfrm>
            <a:off x="533520" y="380880"/>
            <a:ext cx="8305560" cy="3489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80773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736"/>
          <a:stretch/>
        </p:blipFill>
        <p:spPr>
          <a:xfrm>
            <a:off x="533520" y="838080"/>
            <a:ext cx="79246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1746"/>
          <a:stretch/>
        </p:blipFill>
        <p:spPr>
          <a:xfrm>
            <a:off x="380880" y="609480"/>
            <a:ext cx="8458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9:17:01Z</dcterms:created>
  <dc:creator>david g. kleinbaum</dc:creator>
  <dc:description/>
  <dc:language>en-US</dc:language>
  <cp:lastModifiedBy>dkleinb</cp:lastModifiedBy>
  <dcterms:modified xsi:type="dcterms:W3CDTF">2003-10-28T14:48:54Z</dcterms:modified>
  <cp:revision>33</cp:revision>
  <dc:subject/>
  <dc:title> Confounding Involving Several Risk Factors</dc:title>
</cp:coreProperties>
</file>