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ct" ContentType="image/x-pict"/>
  <Override PartName="/ppt/media/image11.png" ContentType="image/png"/>
  <Override PartName="/ppt/media/image6.pct" ContentType="image/x-pict"/>
  <Override PartName="/ppt/media/image17.pct" ContentType="image/x-pict"/>
  <Override PartName="/ppt/media/image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872-F160-49EB-9EA3-1AD5C93A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21B-A180-4984-AAD8-06677A6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D25-DA8B-4810-B748-2F9866A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5B8-2D81-403B-8A51-96E19041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84F-68BF-41BE-B902-6289046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0CB-9068-4D89-A392-DD2BE10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F9B-49C5-4664-9E0C-51A95A02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ECD-39F1-4217-AE3D-8CF8D465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AEF6-4963-4057-BBF7-EF238CC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4EA-7DA0-4EAE-8898-F9BC5529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9C6-8E6D-493D-B564-6E15E6E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9B0-073A-4636-85D9-5798DAD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4C8-B49A-4B36-B299-5E6BFDEB4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Confounding Involving Several Risk 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8381880" cy="1571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0" b="160405000"/>
          <a:stretch/>
        </p:blipFill>
        <p:spPr>
          <a:xfrm>
            <a:off x="380880" y="1447920"/>
            <a:ext cx="8458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3478320"/>
            <a:ext cx="8305920" cy="259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305920" cy="97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782880"/>
            <a:ext cx="830592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30592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086600" y="3505320"/>
            <a:ext cx="167652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24742667"/>
          <a:stretch/>
        </p:blipFill>
        <p:spPr>
          <a:xfrm>
            <a:off x="457200" y="5335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4280" y="2286000"/>
            <a:ext cx="564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Two Importan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Princi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21095667"/>
          <a:stretch/>
        </p:blipFill>
        <p:spPr>
          <a:xfrm>
            <a:off x="533520" y="749160"/>
            <a:ext cx="79246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226"/>
          <a:stretch/>
        </p:blipFill>
        <p:spPr>
          <a:xfrm>
            <a:off x="685800" y="45720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086600" y="5791320"/>
            <a:ext cx="15238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39862000"/>
          <a:stretch/>
        </p:blipFill>
        <p:spPr>
          <a:xfrm>
            <a:off x="457200" y="609480"/>
            <a:ext cx="8229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9646000"/>
          <a:stretch/>
        </p:blipFill>
        <p:spPr>
          <a:xfrm>
            <a:off x="609480" y="762120"/>
            <a:ext cx="8001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19247000"/>
          <a:stretch/>
        </p:blipFill>
        <p:spPr>
          <a:xfrm>
            <a:off x="380880" y="457200"/>
            <a:ext cx="83059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14549667"/>
          <a:stretch/>
        </p:blipFill>
        <p:spPr>
          <a:xfrm>
            <a:off x="609480" y="682560"/>
            <a:ext cx="80010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c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92468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0280" y="5943600"/>
            <a:ext cx="16765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5:01Z</dcterms:created>
  <dc:creator>david g. kleinbaum</dc:creator>
  <dc:description/>
  <dc:language>en-US</dc:language>
  <cp:lastModifiedBy>david g kleinbaum</cp:lastModifiedBy>
  <dcterms:modified xsi:type="dcterms:W3CDTF">2003-10-28T04:08:00Z</dcterms:modified>
  <cp:revision>22</cp:revision>
  <dc:subject/>
  <dc:title>PowerPoint Presentation</dc:title>
</cp:coreProperties>
</file>