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E58-221F-4902-84E2-3A1548A6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C36-8121-44B0-8BDA-E527B32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2E4-E558-4F3B-AB6B-1B2695A8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E902-0B1E-4EC8-9F7E-96751416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F1A-272D-4912-82A6-D8081F3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101-55CD-4E89-9B01-FDA65AC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A396-188C-4437-84A7-11F4C2B1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D1F-DF90-45CF-9D6C-37CC30B9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137-BC45-425D-8BCA-8343C916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894-8039-47AA-985A-679D76B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D2B-7E45-48FB-B56E-82AECF3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02A-CF2C-42B9-B19C-C232064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2D6F-69C4-40D7-9655-9AC71825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90512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 Examp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533520" y="76212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69795"/>
          <a:stretch/>
        </p:blipFill>
        <p:spPr>
          <a:xfrm>
            <a:off x="533520" y="838080"/>
            <a:ext cx="792468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124080"/>
            <a:ext cx="6629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609480" y="11430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0" t="28138" r="0" b="57290"/>
          <a:stretch/>
        </p:blipFill>
        <p:spPr>
          <a:xfrm>
            <a:off x="609480" y="20574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2120" y="3048120"/>
            <a:ext cx="716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86462"/>
          <a:stretch/>
        </p:blipFill>
        <p:spPr>
          <a:xfrm>
            <a:off x="914400" y="1676520"/>
            <a:ext cx="762012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42719" r="0" b="43743"/>
          <a:stretch/>
        </p:blipFill>
        <p:spPr>
          <a:xfrm>
            <a:off x="914400" y="2514600"/>
            <a:ext cx="7620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7010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87505"/>
          <a:stretch/>
        </p:blipFill>
        <p:spPr>
          <a:xfrm>
            <a:off x="685800" y="144792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56267" r="0" b="27067"/>
          <a:stretch/>
        </p:blipFill>
        <p:spPr>
          <a:xfrm>
            <a:off x="685800" y="23623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7010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19776"/>
          <a:stretch/>
        </p:blipFill>
        <p:spPr>
          <a:xfrm>
            <a:off x="380880" y="838080"/>
            <a:ext cx="830592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840"/>
          <a:stretch/>
        </p:blipFill>
        <p:spPr>
          <a:xfrm>
            <a:off x="990720" y="53352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0590"/>
          <a:stretch/>
        </p:blipFill>
        <p:spPr>
          <a:xfrm>
            <a:off x="5335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8437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33759"/>
          <a:stretch/>
        </p:blipFill>
        <p:spPr>
          <a:xfrm>
            <a:off x="99072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598"/>
          <a:stretch/>
        </p:blipFill>
        <p:spPr>
          <a:xfrm>
            <a:off x="609480" y="6094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8862"/>
          <a:stretch/>
        </p:blipFill>
        <p:spPr>
          <a:xfrm>
            <a:off x="609480" y="53352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22669"/>
          <a:stretch/>
        </p:blipFill>
        <p:spPr>
          <a:xfrm>
            <a:off x="762120" y="533520"/>
            <a:ext cx="7924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c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0978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03:35Z</dcterms:created>
  <dc:creator>david g. kleinbaum</dc:creator>
  <dc:description/>
  <dc:language>en-US</dc:language>
  <cp:lastModifiedBy>dkleinb</cp:lastModifiedBy>
  <dcterms:modified xsi:type="dcterms:W3CDTF">2003-11-18T15:21:44Z</dcterms:modified>
  <cp:revision>19</cp:revision>
  <dc:subject/>
  <dc:title> Confounding Involving Several Risk Factors</dc:title>
</cp:coreProperties>
</file>