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93D-8593-4A56-B906-6F9D1C4A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516-D3AE-426C-95D0-54469ADE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AD3-6BF6-47A0-BBB5-F68D91E2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88A-7FA7-4B29-BE7A-84AE1193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024-7CD1-4BF4-8845-79E9F7E1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D95-DEC2-4423-ACF8-5B6871F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04D-569F-444C-8A92-CDB03A0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49A-2272-4B35-9ECA-98D4FFA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DF7-C011-4828-92E4-3AB3955A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E6F-307A-4151-BECD-A09335B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556-A9C4-4B12-8A2A-342A11D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761-1159-4F5A-B65C-3E7455D0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D1F-D9BE-4447-A89B-133A6B9B9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9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Variable Selec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d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trol of 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609480"/>
            <a:ext cx="82296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58210" r="0" b="19501"/>
          <a:stretch/>
        </p:blipFill>
        <p:spPr>
          <a:xfrm>
            <a:off x="609480" y="1981080"/>
            <a:ext cx="8229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12952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19446" t="80508" r="58337" b="7736"/>
          <a:stretch/>
        </p:blipFill>
        <p:spPr>
          <a:xfrm>
            <a:off x="3962520" y="4381560"/>
            <a:ext cx="18288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57869" r="0" b="8030"/>
          <a:stretch/>
        </p:blipFill>
        <p:spPr>
          <a:xfrm>
            <a:off x="611280" y="1504800"/>
            <a:ext cx="8210520" cy="22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611280" y="838080"/>
            <a:ext cx="8229600" cy="70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457200" y="2133720"/>
            <a:ext cx="8381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457200" y="1447920"/>
            <a:ext cx="8305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04920" y="1600200"/>
            <a:ext cx="86104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40713" t="81399" r="36284" b="7736"/>
          <a:stretch/>
        </p:blipFill>
        <p:spPr>
          <a:xfrm>
            <a:off x="3429000" y="4952880"/>
            <a:ext cx="198108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58163" r="0" b="7736"/>
          <a:stretch/>
        </p:blipFill>
        <p:spPr>
          <a:xfrm>
            <a:off x="322200" y="1600200"/>
            <a:ext cx="857412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0" r="0" b="90102"/>
          <a:stretch/>
        </p:blipFill>
        <p:spPr>
          <a:xfrm>
            <a:off x="325440" y="990720"/>
            <a:ext cx="856440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20374" t="80508" r="58337" b="7736"/>
          <a:stretch/>
        </p:blipFill>
        <p:spPr>
          <a:xfrm>
            <a:off x="3886200" y="4572000"/>
            <a:ext cx="17524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533520"/>
            <a:ext cx="809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22080"/>
          <a:stretch/>
        </p:blipFill>
        <p:spPr>
          <a:xfrm>
            <a:off x="914400" y="53352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6094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322200"/>
            <a:ext cx="82296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380880" y="685800"/>
            <a:ext cx="83822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609480" y="53352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781680" y="5791320"/>
            <a:ext cx="17528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7512"/>
          <a:stretch/>
        </p:blipFill>
        <p:spPr>
          <a:xfrm>
            <a:off x="304920" y="1752480"/>
            <a:ext cx="838188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8229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00200"/>
            <a:ext cx="807876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1322" r="0" b="69217"/>
          <a:stretch/>
        </p:blipFill>
        <p:spPr>
          <a:xfrm>
            <a:off x="608040" y="2257560"/>
            <a:ext cx="807876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792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0538"/>
          <a:stretch/>
        </p:blipFill>
        <p:spPr>
          <a:xfrm>
            <a:off x="609480" y="1676520"/>
            <a:ext cx="7848720" cy="639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9608" r="0" b="62116"/>
          <a:stretch/>
        </p:blipFill>
        <p:spPr>
          <a:xfrm>
            <a:off x="609480" y="2273400"/>
            <a:ext cx="7848720" cy="469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772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8T15:46:50Z</dcterms:modified>
  <cp:revision>36</cp:revision>
  <dc:subject/>
  <dc:title>PowerPoint Presentation</dc:title>
</cp:coreProperties>
</file>