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B597-5909-4910-B6A0-44572C87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60E-E2E8-443A-A9B4-0F06D60E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8D5-8D17-434D-ABCD-7ACC2607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6CB4-0596-472A-A390-6489E5F2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06E-759E-4E08-9BB9-E59938E1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274-C9C1-4F4A-8F5A-0717D547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D0C-A150-46E7-A1CD-64B6A3E7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7E5-8809-4679-822C-5D85AC6C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81A-D15A-4F63-99FC-74263699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E07-6C3C-4116-A290-2D381AAF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1E0-A12A-4E00-B6CE-EF9ED0B9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0C9-4019-4B0C-88CE-D0F76911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E9A4-FA6C-439E-9174-FCCE3AE11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terpreting a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idence Interv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315200" cy="3181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066680" y="4267080"/>
            <a:ext cx="7315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241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05120" y="4038480"/>
            <a:ext cx="4876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05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9339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6934320" cy="2819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6858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0" y="5562720"/>
            <a:ext cx="1447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309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7467840" cy="1371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4880" y="5257800"/>
            <a:ext cx="82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we interpret this confidence interva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772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31520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731520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14400" y="4572000"/>
            <a:ext cx="7315200" cy="182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20160" y="1905120"/>
            <a:ext cx="128880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i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20160" y="4038480"/>
            <a:ext cx="56628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72200" y="25290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64360" y="46483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8580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1917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7543800" cy="1130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7543800" cy="1562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85800" y="3733920"/>
            <a:ext cx="7543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3T00:04:03Z</dcterms:modified>
  <cp:revision>46</cp:revision>
  <dc:subject/>
  <dc:title>PowerPoint Presentation</dc:title>
</cp:coreProperties>
</file>