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508-CE80-4DB9-9560-2981F349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BC0-13C4-4C25-A24D-A0E0258D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AF4-C5E6-45B9-826F-0B5F0199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DCD-309C-4BE4-8B9E-6D0F5209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D8E-BF9E-4683-85A2-F7DBBEE7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CFF-3CFD-4479-A381-DB9732CD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0FEF-C8CD-42F5-8B6F-A97037A2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7C1-DB11-4CBA-99F9-AE9556BF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E2D-717D-477F-B8A5-3F5C6501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9C8-7CC9-4109-8DED-69BE53C7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5F5-AC73-46C7-B972-5D735CCB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AC3-06AB-4B97-9740-60BA6374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0CCC-DF2C-42EC-B501-CE988EE76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Z Test for RR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rom 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hort 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05120" y="4114800"/>
            <a:ext cx="586728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106704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696080" y="4114800"/>
            <a:ext cx="533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3124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162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77240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7772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3276360" cy="76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772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3962520"/>
            <a:ext cx="4267080" cy="213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3505320" cy="2895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336920" y="3200400"/>
            <a:ext cx="4121280" cy="83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 flipH="1" rot="10800000">
            <a:off x="4267080" y="3886200"/>
            <a:ext cx="30492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 flipH="1" rot="10800000">
            <a:off x="8381880" y="533160"/>
            <a:ext cx="4572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914400" y="4419720"/>
            <a:ext cx="457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943600" cy="316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76520" y="1187280"/>
            <a:ext cx="5943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04:23:59Z</dcterms:modified>
  <cp:revision>42</cp:revision>
  <dc:subject/>
  <dc:title>PowerPoint Presentation</dc:title>
</cp:coreProperties>
</file>