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9911-28D6-49E0-A2C3-6812EECE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3C99-63C3-4DA0-9F1E-9C79AD24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8578-6B1D-406D-B147-CBA450E7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FAAF-020F-48A3-B224-8048F2CF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5C8-7DF0-4735-A027-D7338083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B70D-A3EB-4047-A08E-D2868E58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68EC-441E-4918-85FD-6D13CD53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4AB4-C493-4D05-BE43-4093D94F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DFBA-7532-4A15-8A7D-432DFF1A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D79E-CAFC-4216-ABB2-8FD5BB3F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1771-43EE-4A0C-AA7D-018CAB0A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602-1B79-4179-8F54-537535EB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1E3A-C4FE-4056-9E7A-610B901E3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Hypothesis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Testing -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762120" y="68580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23507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20866"/>
          <a:stretch/>
        </p:blipFill>
        <p:spPr>
          <a:xfrm>
            <a:off x="91440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20528"/>
          <a:stretch/>
        </p:blipFill>
        <p:spPr>
          <a:xfrm>
            <a:off x="83808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838080" y="83808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83808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14400" y="838080"/>
            <a:ext cx="7467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36763"/>
          <a:stretch/>
        </p:blipFill>
        <p:spPr>
          <a:xfrm>
            <a:off x="914400" y="91440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85800" y="45720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762120" y="8380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65903"/>
          <a:stretch/>
        </p:blipFill>
        <p:spPr>
          <a:xfrm>
            <a:off x="914400" y="1828800"/>
            <a:ext cx="7467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85800" y="53352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838080" y="83808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36763"/>
          <a:stretch/>
        </p:blipFill>
        <p:spPr>
          <a:xfrm>
            <a:off x="914400" y="83808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914400" y="6858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8374"/>
          <a:stretch/>
        </p:blipFill>
        <p:spPr>
          <a:xfrm>
            <a:off x="914400" y="990720"/>
            <a:ext cx="7467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0-31T15:35:12Z</dcterms:modified>
  <cp:revision>42</cp:revision>
  <dc:subject/>
  <dc:title>PowerPoint Presentation</dc:title>
</cp:coreProperties>
</file>