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631-6E00-4837-97E8-59EB3BE7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8D7E-2F50-46EF-A560-006FCAE2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A58-8E1F-4242-BFAE-1BDF7681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226E-4C9C-458B-A430-FE7014CB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A44E-353F-4FA9-91B3-76946C42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B5D1-EE85-4D70-9612-4C88E070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1234-6E4B-46AE-A1AE-F43FE3E4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0F35-0F5E-40B0-BF68-ABEAB84B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C4A8-8B5E-4154-92AB-4E22289B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27C8-DD37-4DC9-AC18-15FABCE2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64C-9E90-4EBC-809D-B756CFAA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DC71-D38A-4FAA-81E8-856C10FE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91F4-FA0E-4C00-BF89-BF103FEE7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idence Interval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R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162560" cy="3276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71625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553080" cy="2438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6553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20120" cy="190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7620120" cy="1523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7620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67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2622600"/>
            <a:ext cx="7543800" cy="2940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543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7696080" cy="1676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696080" cy="2133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3124080"/>
            <a:ext cx="76960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 equivalent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769644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69644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38080" y="609480"/>
            <a:ext cx="7696440" cy="1676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080" y="2286000"/>
            <a:ext cx="76964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 equivalent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962520"/>
            <a:ext cx="76964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21:24:58Z</dcterms:modified>
  <cp:revision>41</cp:revision>
  <dc:subject/>
  <dc:title>PowerPoint Presentation</dc:title>
</cp:coreProperties>
</file>