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2A82-AB2F-4D1E-A5E1-9D7CD0FE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960E-75E7-4E97-9661-0003C5B1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6582-1CC7-41E4-B10D-FD296A834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3FD6-7609-4BDA-9CC5-4A73756B8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F238-719D-4068-9169-5681E692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BD62-AAAB-4BE6-BA60-4FBDD9A5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BEDD-AD80-43BB-A702-A48C20FF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5AE2-C430-4141-9553-02569521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FC3D-F0A1-4BD9-835F-921FA6B4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468A-78A9-462B-822F-FC230E2F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4080-D114-4095-9703-3C7C0003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9ABD-5CE8-48A1-801A-60C2BBB1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1AD7-1606-4060-9728-94DB4DAF5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P-value for a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One-Sided 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hi Square Tes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543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010640" cy="1619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066680" y="2819520"/>
            <a:ext cx="70106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467480" cy="1219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90720" y="3029040"/>
            <a:ext cx="74674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960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7057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410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432040" y="1176480"/>
            <a:ext cx="5436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Symbol"/>
                <a:ea typeface="Symbol"/>
              </a:rPr>
              <a:t>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17524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daff"/>
                </a:solidFill>
                <a:latin typeface="Times New Roman"/>
              </a:rPr>
              <a:t>(Two-sid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333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0" y="18288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daff"/>
                </a:solidFill>
                <a:latin typeface="Times New Roman"/>
              </a:rPr>
              <a:t>(One-sid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911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1447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14400" y="2209680"/>
            <a:ext cx="7543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315200" cy="1019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14400" y="3105000"/>
            <a:ext cx="73915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kleinb</cp:lastModifiedBy>
  <dcterms:modified xsi:type="dcterms:W3CDTF">2003-11-04T17:30:27Z</dcterms:modified>
  <cp:revision>41</cp:revision>
  <dc:subject/>
  <dc:title>PowerPoint Presentation</dc:title>
</cp:coreProperties>
</file>