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166-CDA6-44B7-AF78-8170F3A6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0A1-E3CA-4DC2-B44F-CA0B3C38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CD6-E9AA-48DF-9B5C-68F02636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01F-8B1E-476B-8ADF-237B066D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25A-80BE-4AE9-BB40-96432664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69D-AAD7-4A23-962A-C654D21C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D19-A815-4092-AAF7-D5DAA51F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078-FDED-4B1F-84C8-B2E7D5A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311-E2B6-48E4-8906-0F0370E5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B27-76E8-44C1-A63A-1ED6F96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698-342A-4663-9EA2-8D4F213F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B15-CB4E-47F7-9670-06C7C631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DDFC-0824-489B-AF6D-B25FC838F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ample Size fo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01080" y="776160"/>
            <a:ext cx="63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 about Sample Size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0600" y="121932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9644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5480" y="114300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48360" cy="403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6560" y="91440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Principles (cont’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83822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4T01:18:47Z</dcterms:modified>
  <cp:revision>42</cp:revision>
  <dc:subject/>
  <dc:title>PowerPoint Presentation</dc:title>
</cp:coreProperties>
</file>