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E3C7-D252-4997-A1B4-3C690104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9B1A-767B-40E0-8848-95DC46FD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67C5-ED16-4FED-BD8E-8FEF889F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53E0-9DAA-4B47-B201-EEE888EE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968C-6388-437A-8C22-E1547B24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116B-A87B-44AA-8A36-A91F55A9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1C79-2ED4-46E2-8177-70F95676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9C88-CEE0-4A95-B81E-9F41ECDC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7EA9-CB2D-4511-982A-ADA6EDF8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6826-F158-4439-BB94-5D704B85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BF5A-96F1-4B5C-A1F5-9B5DAB44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F737-7112-498E-8FC3-AF729311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2981-DD71-49E8-AAAC-0FB4DE4F6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Hypothesis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Testing -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838080" y="83808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20866"/>
          <a:stretch/>
        </p:blipFill>
        <p:spPr>
          <a:xfrm>
            <a:off x="838080" y="838080"/>
            <a:ext cx="7620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990720" y="838080"/>
            <a:ext cx="7086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838080" y="762120"/>
            <a:ext cx="73915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990720" y="99072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066680" y="83808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9325"/>
          <a:stretch/>
        </p:blipFill>
        <p:spPr>
          <a:xfrm>
            <a:off x="990720" y="685800"/>
            <a:ext cx="7162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990720" y="1066680"/>
            <a:ext cx="7238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609480" y="762120"/>
            <a:ext cx="7848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990720" y="3200400"/>
            <a:ext cx="7391160" cy="3276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0" r="0" b="7610"/>
          <a:stretch/>
        </p:blipFill>
        <p:spPr>
          <a:xfrm>
            <a:off x="990720" y="380880"/>
            <a:ext cx="7391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914400" y="838080"/>
            <a:ext cx="73915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50006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91440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76212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838080"/>
            <a:ext cx="73915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99072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838080" y="762120"/>
            <a:ext cx="7391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7573"/>
          <a:stretch/>
        </p:blipFill>
        <p:spPr>
          <a:xfrm>
            <a:off x="990720" y="609480"/>
            <a:ext cx="7162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047"/>
          <a:stretch/>
        </p:blipFill>
        <p:spPr>
          <a:xfrm>
            <a:off x="685800" y="457200"/>
            <a:ext cx="769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44711"/>
          <a:stretch/>
        </p:blipFill>
        <p:spPr>
          <a:xfrm>
            <a:off x="1066680" y="838080"/>
            <a:ext cx="7010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48579" r="0" b="11428"/>
          <a:stretch/>
        </p:blipFill>
        <p:spPr>
          <a:xfrm>
            <a:off x="990720" y="2743200"/>
            <a:ext cx="7238880" cy="327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0" t="0" r="0" b="44711"/>
          <a:stretch/>
        </p:blipFill>
        <p:spPr>
          <a:xfrm>
            <a:off x="990720" y="533520"/>
            <a:ext cx="7238880" cy="2286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553080" y="571500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48579" r="0" b="11428"/>
          <a:stretch/>
        </p:blipFill>
        <p:spPr>
          <a:xfrm>
            <a:off x="990720" y="2133720"/>
            <a:ext cx="7238880" cy="207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0" r="0" b="44711"/>
          <a:stretch/>
        </p:blipFill>
        <p:spPr>
          <a:xfrm>
            <a:off x="990720" y="533520"/>
            <a:ext cx="723888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553080" y="3962520"/>
            <a:ext cx="1600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066680" y="4495680"/>
            <a:ext cx="7162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685800" y="8380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0-31T16:00:53Z</dcterms:modified>
  <cp:revision>44</cp:revision>
  <dc:subject/>
  <dc:title>PowerPoint Presentation</dc:title>
</cp:coreProperties>
</file>