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472-1139-4A57-BF42-029A4829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7E1-DE0A-409F-A6E9-4CC0E895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29D-6108-4588-A373-51675413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228-9575-475A-8F66-0959BAA5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0DA-F7A1-45D1-93CF-8B730E5B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06F-6A90-4913-AD56-E0C110E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BA7-9762-4F1F-82E6-991A83DA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617-5345-4CC7-BE21-8B41AE9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D55-E5B4-402E-BDA5-400DD4AF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FE5-007F-4233-B045-0DBA610C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CF3-9773-46A4-A6EB-566BAE4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A07-3A37-4D41-A437-595141C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A901-4A99-468B-8767-78218982C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754380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289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543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1T19:55:17Z</dcterms:modified>
  <cp:revision>44</cp:revision>
  <dc:subject/>
  <dc:title>PowerPoint Presentation</dc:title>
</cp:coreProperties>
</file>