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9C8-3FB1-4CA6-A2BD-A38B019F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675-5ECA-408E-8B52-1F6E867E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34F-BE5F-4C6B-A364-FD11C30D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E66-4997-4B11-B993-1A4D303C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9F9-FB45-4105-BF93-E3A2052A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738-D1DC-4102-B44C-5D649B8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F6C-7215-4DDB-A875-13F6B8F6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994-9A13-476B-B1A9-C053B3E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BF2-0B99-46C6-BE4D-0226442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C05-B080-4581-9463-2868D2E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567-C81A-49F1-84CD-C1FD8B3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C35-1234-4E96-899B-8911E4D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15E-459D-4C96-A28A-532C023DF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ase-Contro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181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467480" cy="8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4648320"/>
            <a:ext cx="6705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23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8001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239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39152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237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739152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391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21720" y="1447920"/>
            <a:ext cx="24440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mall s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848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97180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19320" y="4419720"/>
            <a:ext cx="403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4038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4038480" cy="83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22860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3600" y="3200400"/>
            <a:ext cx="1905120" cy="99072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4674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4674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438280" y="4724280"/>
            <a:ext cx="3962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3:10:54Z</dcterms:modified>
  <cp:revision>41</cp:revision>
  <dc:subject/>
  <dc:title>PowerPoint Presentation</dc:title>
</cp:coreProperties>
</file>