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712-5F14-42FB-9BAE-82AC8315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099-CB75-4A94-9B1C-6154B5DB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FD4-6924-4214-B31F-9E49BD6C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7D1-F0A8-4B3F-9E1F-B42BD854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830-FA37-4DF6-935A-316A0B99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958-41BB-49E9-86EF-C288B6C4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FBE-94E9-4D67-97A5-FCA99796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33C-29D5-4352-80E5-593D2E31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33B-663B-4C5F-A1CC-040E0C0A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0C8-0289-43A3-9142-E498B2F5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425-C247-453B-A86C-69752C8F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D68-1B57-497C-90C2-13437731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EB92-15B0-4891-9584-3186F18DE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ample Size for O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i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ase-Control or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Cross-sectional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Stud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05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696080" cy="2921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2120" y="5791320"/>
            <a:ext cx="3733560" cy="63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952880" y="5943600"/>
            <a:ext cx="350532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86200" y="579132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724280" y="5791320"/>
            <a:ext cx="369576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62120" y="2743200"/>
            <a:ext cx="99036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489560" y="3289320"/>
            <a:ext cx="164880" cy="2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4495680" y="5791320"/>
            <a:ext cx="83844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2590920" y="4952880"/>
            <a:ext cx="3174840" cy="36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2743200" y="4495680"/>
            <a:ext cx="3949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514600" y="4710240"/>
            <a:ext cx="4876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7696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6T15:35:27Z</dcterms:modified>
  <cp:revision>42</cp:revision>
  <dc:subject/>
  <dc:title>PowerPoint Presentation</dc:title>
</cp:coreProperties>
</file>