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E76-A1C0-4255-AE8D-8384A954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347-32E1-433D-9A34-AA98FF4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BE4-90D4-42B1-BBCE-ABDD29E8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49C-CA01-477C-ACE9-711F6572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1B6-1AC4-420D-8D95-5A2970D6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820-002A-4EDA-BF0D-63064B2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54-A6A4-4CDC-8440-0A980C5A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E5C-A2C7-4A4D-A9BC-9C89B1F9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82B-3863-4AC0-BB21-ED4B68C0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AAC-54A2-487E-BBA6-14ABA56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EA4-3697-4BF0-98E8-5F8054E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2F1-C160-4BAA-BCA0-DB0B0D87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9039-1F64-404E-99BC-AD6EE51A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ase-Contro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010640" cy="298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198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70106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259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594360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36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46784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696080" cy="23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381024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8080" y="3352680"/>
            <a:ext cx="3657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94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828800"/>
            <a:ext cx="1143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934320" cy="1987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221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6934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2:14:17Z</dcterms:modified>
  <cp:revision>41</cp:revision>
  <dc:subject/>
  <dc:title>PowerPoint Presentation</dc:title>
</cp:coreProperties>
</file>