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531-3617-466C-840E-7AF26FF7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E31-442F-4B21-99D1-92CD9478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6B7-DF16-4CF7-BDE1-8FDE430C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DE3-6DAE-4140-8151-356831DE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ADA-F921-4838-96FB-F4575D2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DE0-6D20-456A-8444-981AFC71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FA0-DE9D-4135-8506-0959AA40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402-16F5-48A9-BDE5-6A331AD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091-277D-4F37-A15C-31B428A1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205-6412-42AE-B015-EE3CB61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B80-1865-4B73-9DF7-B53D64A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06A-FE21-4F7F-930E-7F438268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02D-AB88-4D27-A0C9-7234123D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263760"/>
            <a:ext cx="7467840" cy="19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46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64771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4041720"/>
            <a:ext cx="1066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6201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62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391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739152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39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22:00Z</dcterms:modified>
  <cp:revision>41</cp:revision>
  <dc:subject/>
  <dc:title>PowerPoint Presentation</dc:title>
</cp:coreProperties>
</file>