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EE9-F867-44B7-8243-AE741296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3AF-BE81-45AD-A389-BB3B0DC9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EA8-98F4-41D1-85A9-E29C7CF7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EBC-9939-4920-9E70-EDFE876F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B06-D604-444C-B791-01E84B02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4D2-08A9-413F-913B-7E6EAFF7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C8A-8272-4B1E-B05A-F7FE05B2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2AA-D6C5-49D4-BB12-117A3E3D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ACF-D443-4D4D-BE7A-625E06A0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62B-8799-4BCD-9D6A-13E37D4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278-0E1C-49A4-BE47-42DAA9D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BF9-E417-4190-97E1-220E2F0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5C03-EBA2-44B2-BC4B-1EDC47DD9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003480"/>
            <a:ext cx="69343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66680" y="3035160"/>
            <a:ext cx="716292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109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7162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920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2997360"/>
            <a:ext cx="7162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52480" y="-476280"/>
            <a:ext cx="4851360" cy="952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5715000"/>
            <a:ext cx="7086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31520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1320" y="40384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3390840"/>
            <a:ext cx="7315200" cy="876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315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731520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0481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hould be significant because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449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2520" y="373392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Sided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3657600"/>
            <a:ext cx="22096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large negative values of the normal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13:12:04Z</dcterms:modified>
  <cp:revision>43</cp:revision>
  <dc:subject/>
  <dc:title>PowerPoint Presentation</dc:title>
</cp:coreProperties>
</file>