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13C1-0309-4762-99A6-70F263FF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532A-AB3C-49D4-B84A-75A02338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0DF-5DEA-4932-889B-8AA1D94F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254-BE2C-48EF-BAA2-AE3018A7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2C1E-9081-43F1-A7B9-6B5F4E02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4AC-D9C3-40F5-A4A3-9B3FAEE2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3FD-B64B-48C4-A2CD-146B7F85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1A2-44D5-4243-8676-A9CBC98E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E7D-8DE6-4047-B1BE-FE0CF9D7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46C-7F34-4257-8E10-83F641F9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1110-93A8-4060-BFC6-DD2D5913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DB8-FB1B-41FB-A5A2-54458929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5DD1-A1BA-464C-980B-74421BC4F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idence Interval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the 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848360" cy="221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7848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543800" cy="59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97080" y="106524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eneral Form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315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696080" cy="3187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69608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5800" y="5181480"/>
            <a:ext cx="7696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86600" cy="189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19320" y="3962520"/>
            <a:ext cx="7086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086600" cy="167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7086600" cy="99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43000" y="3048120"/>
            <a:ext cx="708660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43000" y="3733920"/>
            <a:ext cx="7086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3:35:58Z</dcterms:modified>
  <cp:revision>42</cp:revision>
  <dc:subject/>
  <dc:title>PowerPoint Presentation</dc:title>
</cp:coreProperties>
</file>