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783DC-4CA7-485E-BA04-1B8CDB8AC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FC2DF-255D-4490-B0B4-EEB204892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F1212-8A04-4BCE-94C4-5B29A5BD2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D59E5-0DF8-4E9A-BA9B-7FAA353C6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91141-1796-4ADC-8933-E5BCA4D8D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F626F-12C8-4ADE-9AC4-CCDD296B1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65546-2462-4D93-A890-C1D431E77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67926-6CF3-4AAF-BF7F-DD60ECC68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6C591-4197-4AF4-8C48-EFADA9A0F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AA542-F834-44E3-8C5D-C47413F14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5A8D6-9F19-4C94-9676-FF6FF16E4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3A5EA-BC4F-4048-A509-A36FF1564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F664D-D710-4D60-AB6A-1273A3F64B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99cc00"/>
                </a:solidFill>
                <a:latin typeface="Arial"/>
              </a:rPr>
              <a:t>Simple Analysis</a:t>
            </a:r>
            <a:br>
              <a:rPr sz="6000"/>
            </a:br>
            <a:r>
              <a:rPr b="1" lang="en-US" sz="6000" spc="-1" strike="noStrike">
                <a:solidFill>
                  <a:srgbClr val="99cc00"/>
                </a:solidFill>
                <a:latin typeface="Arial"/>
              </a:rPr>
              <a:t>Introduct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62120" y="609480"/>
            <a:ext cx="777240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46748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85800" y="609480"/>
            <a:ext cx="777240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685800"/>
            <a:ext cx="784872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838080" y="533520"/>
            <a:ext cx="76201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762120" y="609480"/>
            <a:ext cx="7696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838080" y="609480"/>
            <a:ext cx="75438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914400" y="609480"/>
            <a:ext cx="754380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838080" y="609480"/>
            <a:ext cx="7391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731520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838080" y="533520"/>
            <a:ext cx="76201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39152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762012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838080" y="762120"/>
            <a:ext cx="754380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609480"/>
            <a:ext cx="77724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762120" y="609480"/>
            <a:ext cx="76197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769644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5438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838080" y="609480"/>
            <a:ext cx="74678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75438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6T20:58:15Z</dcterms:created>
  <dc:creator>david g. kleinbaum</dc:creator>
  <dc:description/>
  <dc:language>en-US</dc:language>
  <cp:lastModifiedBy>david g kleinbaum</cp:lastModifiedBy>
  <dcterms:modified xsi:type="dcterms:W3CDTF">2003-10-30T15:34:13Z</dcterms:modified>
  <cp:revision>42</cp:revision>
  <dc:subject/>
  <dc:title>PowerPoint Presentation</dc:title>
</cp:coreProperties>
</file>