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F84-A99A-4C28-BE06-6A5ED27A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DC8-5674-4DE5-BE91-9123CD95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851-8FE0-40DF-88FE-1D8FD60E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66B-FA23-4392-A5AF-4276B2C5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D1C-7F9E-4133-8BED-7AD40E47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03E-EB23-44F5-A749-B3AD1AE8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902-DAFF-4A2B-B358-0A4DD86F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FE6-7F6B-4971-A01F-6347530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46D-B05C-4457-BB1F-5A3153F9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5F3-F47B-4D08-A6AF-362D0906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823-A402-41D9-8185-70AFAAB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414-6EBE-4F85-8849-DC70547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32E0-81FC-4CDA-BEFE-752740814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1219320"/>
                <a:ext cx="289584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00200" y="4724280"/>
                <a:ext cx="56386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0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Calculate a 99% CI for the m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Mean: 26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tandard deviation: s=5.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52680" y="2895480"/>
                <a:ext cx="434340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81280" y="5562720"/>
                <a:ext cx="42674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Calculate a 95% CI for the propor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proportion: 0.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: n=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29000" y="1447920"/>
                <a:ext cx="3505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3520" y="4800600"/>
                <a:ext cx="81532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95% 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between propor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5715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I for difference between propor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6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365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pretation of 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1911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a Taylor Series approximation for the var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124080" cy="785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3733920" cy="72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31240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R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ds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8148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8862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337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dence Density Ratio (Multiplicativ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equivalent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Uses a Taylor Series approximation for the 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4876920" cy="120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971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rge Sampl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95% Confidence Interval for ID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7242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perties of Confidence Interv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der the CI, the less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e narrow the CI, the more precise the esti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Note:  The confidence interval does not address the issue of b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affects the Confidence Interva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of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th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R, OR, IDR, the strength of the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imila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ulas, (approximate and exa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ther account for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ly equivalent (Theoretically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same information as a statistical test, plus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reminds reader of var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provides range of compatible values (interval estim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 more clearly shows influence of sampl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3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2, 40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8, 61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, 1.0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7, 0.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 vs. P-Valu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y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5, 0.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&lt;0.0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4, 17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9, 16.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.01, 15.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.0, 8.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095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6390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atistical Infer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ypothesis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evidence that the population parameter, e.g.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R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ID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different from the null valu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rval Esti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determine the precision of the point estimate by accounting for sampling variab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ample information to compute two numbers,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bout which we can claim with a certain amount of confidence, say 95%, that they surround the true value of the parame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l CI Formul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ve scale meas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*Note:  The variance in this formula refers 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variance [ln (point estimate)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2362320"/>
                <a:ext cx="716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int estimate 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standard normal deviate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880" y="4114800"/>
                <a:ext cx="8534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int estimate</m:t>
                    </m:r>
                    <m:r>
                      <m:t xml:space="preserve">)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standard normal deviate 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iance</m:t>
                            </m:r>
                          </m:e>
                          <m:sup/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idence Interv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1447920"/>
                <a:ext cx="28954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73432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2743200" y="3886200"/>
          <a:ext cx="3962520" cy="1765440"/>
        </p:xfrm>
        <a:graphic>
          <a:graphicData uri="http://schemas.openxmlformats.org/drawingml/2006/table">
            <a:tbl>
              <a:tblPr/>
              <a:tblGrid>
                <a:gridCol w="2168640"/>
                <a:gridCol w="179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Confidence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Z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4:13:38Z</dcterms:created>
  <dc:creator>Nancy Barker</dc:creator>
  <dc:description/>
  <dc:language>en-US</dc:language>
  <cp:lastModifiedBy>Nancy Barker</cp:lastModifiedBy>
  <dcterms:modified xsi:type="dcterms:W3CDTF">2004-11-08T18:25:16Z</dcterms:modified>
  <cp:revision>50</cp:revision>
  <dc:subject/>
  <dc:title>Confidence Intervals</dc:title>
</cp:coreProperties>
</file>