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3F8-555F-4BAD-97F2-73CD30C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C1B-00D0-4712-A261-F9477AD9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219-85A9-44A9-AB33-D1139973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4E9-0B63-46C9-AC41-A861E7DB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C93-7FAA-4ACE-83E6-1F222B9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CD6-75B8-49CC-883E-31091EAA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D43-9904-4435-8E25-D8082405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259-9E01-427D-885E-CD542C6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C37-8D01-4073-AA91-179AC3C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0E2-BDDF-4E98-8F8C-767885C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8CC-9354-481D-AF49-9BF95CD1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849-F020-4916-820D-6DF8A01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272-66C7-4683-B379-5879B7DF8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384720"/>
            <a:ext cx="7391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135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716256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1625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723888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7620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2412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4876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743200"/>
            <a:ext cx="723888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57150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05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934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6858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48579" r="0" b="11428"/>
          <a:stretch/>
        </p:blipFill>
        <p:spPr>
          <a:xfrm>
            <a:off x="990720" y="2133720"/>
            <a:ext cx="7238880" cy="207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0" b="44711"/>
          <a:stretch/>
        </p:blipFill>
        <p:spPr>
          <a:xfrm>
            <a:off x="990720" y="533520"/>
            <a:ext cx="723888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553080" y="3962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334120"/>
            <a:ext cx="14475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38880" cy="76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7238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75438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619440"/>
            <a:ext cx="754380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950160" y="4095720"/>
            <a:ext cx="150804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7543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281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54380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543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543800" cy="258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543800" cy="83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7543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30:56Z</dcterms:modified>
  <cp:revision>18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