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01F-CE2E-4549-9354-C3B74F24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FF2-A34E-4018-A855-5F5E3EDE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CD9-2CDF-477C-8B63-607DAB89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08C-A0DB-4ED0-933F-345BBAC3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A7C-BD37-407C-A246-286BA55B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0B4-536D-43A0-8706-E6C7B85F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794-5E50-4BD8-AC43-DBF824B7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F9C-9A60-4D6B-944D-6D367142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F09-945B-4D3B-8559-42707130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455-E3BC-42F8-9143-2A398D70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E85-FC11-4C5C-A8A3-83F21CF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C2D-2ABF-49A7-8C52-9BD4F4F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98E7-C75D-4C6E-834B-A633E2CA6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457200"/>
            <a:ext cx="72388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7086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9072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57150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1295280" y="762120"/>
            <a:ext cx="66294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4343400"/>
            <a:ext cx="6477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2695"/>
          <a:stretch/>
        </p:blipFill>
        <p:spPr>
          <a:xfrm>
            <a:off x="1600200" y="838080"/>
            <a:ext cx="64008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80911" r="0" b="10264"/>
          <a:stretch/>
        </p:blipFill>
        <p:spPr>
          <a:xfrm>
            <a:off x="1600200" y="4114800"/>
            <a:ext cx="6400800" cy="60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343400"/>
            <a:ext cx="12956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76520" y="472428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5559"/>
          <a:stretch/>
        </p:blipFill>
        <p:spPr>
          <a:xfrm>
            <a:off x="1066680" y="7621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56252"/>
          <a:stretch/>
        </p:blipFill>
        <p:spPr>
          <a:xfrm>
            <a:off x="914400" y="762120"/>
            <a:ext cx="7467480" cy="27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62511" r="0" b="8336"/>
          <a:stretch/>
        </p:blipFill>
        <p:spPr>
          <a:xfrm>
            <a:off x="914400" y="342900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1295280" y="25146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1295280" y="1219320"/>
            <a:ext cx="685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255" r="0" b="12918"/>
          <a:stretch/>
        </p:blipFill>
        <p:spPr>
          <a:xfrm>
            <a:off x="1143000" y="4648320"/>
            <a:ext cx="6781680" cy="83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0332" r="0" b="12918"/>
          <a:stretch/>
        </p:blipFill>
        <p:spPr>
          <a:xfrm>
            <a:off x="1143000" y="220968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rcRect l="0" t="0" r="0" b="68219"/>
          <a:stretch/>
        </p:blipFill>
        <p:spPr>
          <a:xfrm>
            <a:off x="1143000" y="914400"/>
            <a:ext cx="6781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55301" r="0" b="10264"/>
          <a:stretch/>
        </p:blipFill>
        <p:spPr>
          <a:xfrm>
            <a:off x="1219320" y="99072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57955" r="0" b="10264"/>
          <a:stretch/>
        </p:blipFill>
        <p:spPr>
          <a:xfrm>
            <a:off x="1295280" y="3657600"/>
            <a:ext cx="6782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685800"/>
            <a:ext cx="7391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3716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95280" y="1295280"/>
            <a:ext cx="6782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4711"/>
          <a:stretch/>
        </p:blipFill>
        <p:spPr>
          <a:xfrm>
            <a:off x="1219320" y="114300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1T02:28:36Z</dcterms:modified>
  <cp:revision>44</cp:revision>
  <dc:subject/>
  <dc:title>PowerPoint Presentation</dc:title>
</cp:coreProperties>
</file>