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F3A-AD18-4203-80EC-6D272050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1D1-07EF-4DE3-82EC-6B45735E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7C0-60E9-4260-AB22-77F69646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D8C-902F-43CA-B72E-F3AF17B2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8CB-4F60-42C7-8C45-0596D7DA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71EC-FFC6-49B4-BA5E-7652DFD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399-50B7-4E95-8B7A-99818E1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75B-9A2E-461B-9086-2068FFAF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78B-AB35-4FB7-A387-BC9015FC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402-ED9C-49A6-9E45-4B5F4AE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E0C-6135-4970-B07C-1D22D46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A32-7D54-4FA8-9365-92D36AB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E64-CAB2-432B-AD03-292FB96D8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isher’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Exact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388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4254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627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y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86000" y="3962520"/>
            <a:ext cx="4495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69608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7696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800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971800" y="4038480"/>
            <a:ext cx="2514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1676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696080" cy="84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7696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96080" cy="1066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81680" y="441972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21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7696440" cy="1067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934320" y="3352680"/>
            <a:ext cx="1600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7620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218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304812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78168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6781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10080" y="2971800"/>
            <a:ext cx="1752840" cy="914400"/>
          </a:xfrm>
          <a:prstGeom prst="rect">
            <a:avLst/>
          </a:prstGeom>
          <a:solidFill>
            <a:srgbClr val="fff7ca"/>
          </a:solidFill>
          <a:ln w="9360">
            <a:solidFill>
              <a:srgbClr val="ffee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971800" y="2819520"/>
            <a:ext cx="198108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371600" y="83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91320" y="838080"/>
            <a:ext cx="2361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7162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16292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7543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8720" y="5257800"/>
            <a:ext cx="736956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If you know the frequency in the a-cell you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determine the frequencies in the other 3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3880" y="5105520"/>
            <a:ext cx="6400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7:30:54Z</dcterms:modified>
  <cp:revision>41</cp:revision>
  <dc:subject/>
  <dc:title>PowerPoint Presentation</dc:title>
</cp:coreProperties>
</file>