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14.png" ContentType="image/png"/>
  <Override PartName="/ppt/media/image2.png" ContentType="image/png"/>
  <Override PartName="/ppt/media/image69.png" ContentType="image/png"/>
  <Override PartName="/ppt/media/image32.png" ContentType="image/png"/>
  <Override PartName="/ppt/media/image25.png" ContentType="image/png"/>
  <Override PartName="/ppt/media/image62.png" ContentType="image/png"/>
  <Override PartName="/ppt/media/image75.png" ContentType="image/png"/>
  <Override PartName="/ppt/media/image63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904A-7DC3-400B-95C9-D1F2E153F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98AC-3989-42F2-8F7C-3FF00616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FF94-AABB-4207-95FE-56E525780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19D5-BF82-4A82-AE3B-08AF50B17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C36E-FC85-4085-9AFD-9B0F58CC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D3B8-1B61-4B5D-84D6-14058606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77EB-DC94-437D-A127-416F74CD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5122-E29E-4391-933E-E74F7787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D7A2-9E02-4C0B-A8CC-B250D3C1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CC4C-B103-4429-A1D3-DD6868FE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DC76-3046-4D88-A989-3C0AFF37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61CB-1B55-40B6-B620-7A9FF891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C56A-AEC4-4C69-A011-99CD7E322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image" Target="../media/image51.png"/><Relationship Id="rId9" Type="http://schemas.openxmlformats.org/officeDocument/2006/relationships/image" Target="../media/image51.png"/><Relationship Id="rId10" Type="http://schemas.openxmlformats.org/officeDocument/2006/relationships/image" Target="../media/image51.png"/><Relationship Id="rId1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65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286000"/>
            <a:ext cx="83822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Simple Analysis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for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Cohort Stud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5597-B6D0-4ACD-9249-79B28709F21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848720" cy="5562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4A3F-B820-423E-B7D2-BD8472DC884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Large Sample</a:t>
            </a:r>
            <a:br>
              <a:rPr sz="6000"/>
            </a:b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Chi Square Test</a:t>
            </a:r>
            <a:br>
              <a:rPr sz="6000"/>
            </a:b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for RR</a:t>
            </a:r>
            <a:br>
              <a:rPr sz="6000"/>
            </a:b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in Cohort Studi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4E05-B765-4A93-BAF2-176E4604E2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543800" cy="5486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629400" y="2895480"/>
            <a:ext cx="555480" cy="609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629400" y="5257800"/>
            <a:ext cx="609480" cy="685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629400" y="518148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72560" y="5348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98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7467480" y="52578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391520" y="51055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8A85-D657-4D70-A8FC-8F7ECEBE89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410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781680" y="5410080"/>
            <a:ext cx="167652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BDFE-CB25-417E-8016-633C74D097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7162560" cy="2666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029200" y="2666880"/>
            <a:ext cx="3352680" cy="3733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219320" y="3200400"/>
            <a:ext cx="3809880" cy="320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2327-AA58-4FF1-B2D4-2A0D207764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20120" cy="5410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47DB-DD7C-40CE-B650-3C29ED15BF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238880" cy="5562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07E3-7EF7-4CCD-9E9E-CE3DDEC433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0" t="60282" r="0" b="0"/>
          <a:stretch/>
        </p:blipFill>
        <p:spPr>
          <a:xfrm>
            <a:off x="685800" y="4343400"/>
            <a:ext cx="7696080" cy="22096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09480" y="3886200"/>
            <a:ext cx="7925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hi square test should be significant because Z test is significan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183280" y="4876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daff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rcRect l="0" t="14" r="0" b="39733"/>
          <a:stretch/>
        </p:blipFill>
        <p:spPr>
          <a:xfrm>
            <a:off x="685800" y="380880"/>
            <a:ext cx="7772400" cy="33530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rcRect l="46540" t="89050" r="45552" b="0"/>
          <a:stretch/>
        </p:blipFill>
        <p:spPr>
          <a:xfrm>
            <a:off x="5105520" y="4876920"/>
            <a:ext cx="609480" cy="685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AD38-E831-4C6B-A6B1-640E5AA9E7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4191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914400" y="914400"/>
            <a:ext cx="457200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98c"/>
                </a:solidFill>
                <a:latin typeface="Times New Roman"/>
              </a:rPr>
              <a:t>But there is a problem 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5105520"/>
            <a:ext cx="7788240" cy="119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rge values of a chi square statistic that might indicat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nt result can occur from either large positive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rge negative values of the normal statistic</a:t>
            </a:r>
            <a:r>
              <a:rPr b="1" lang="en-US" sz="2400" spc="-1" strike="noStrike">
                <a:solidFill>
                  <a:srgbClr val="777777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rcRect l="28287" t="22224" r="44451" b="61910"/>
          <a:stretch/>
        </p:blipFill>
        <p:spPr>
          <a:xfrm>
            <a:off x="4343400" y="3733920"/>
            <a:ext cx="2057400" cy="761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400800" y="3657600"/>
            <a:ext cx="12193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E639-EA98-47D3-8B3A-63DED59A22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4800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62120" y="5715000"/>
            <a:ext cx="70866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e way  to compute P-value:   Use Z distrib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04E1-4783-47EB-BD5B-FDD047B88C8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Large Sample</a:t>
            </a:r>
            <a:br>
              <a:rPr sz="6000"/>
            </a:b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Z Test for RR</a:t>
            </a:r>
            <a:br>
              <a:rPr sz="6000"/>
            </a:b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from </a:t>
            </a:r>
            <a:br>
              <a:rPr sz="6000"/>
            </a:b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Cohort Studi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DF12-87AA-443C-91A8-F01348C488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162920" cy="3962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62120" y="5181480"/>
            <a:ext cx="746748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other way to compute P value: Divide the area i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tail of the chi square distribution in ha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C9CE-C2C3-4ABC-993B-E00B91E2EE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9865" r="0" b="0"/>
          <a:stretch/>
        </p:blipFill>
        <p:spPr>
          <a:xfrm>
            <a:off x="838080" y="1219320"/>
            <a:ext cx="7620120" cy="4876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432040" y="1176480"/>
            <a:ext cx="5436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Symbol"/>
                <a:ea typeface="Symbol"/>
              </a:rPr>
              <a:t>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685800"/>
            <a:ext cx="236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Two-side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rcRect l="0" t="0" r="31005" b="90149"/>
          <a:stretch/>
        </p:blipFill>
        <p:spPr>
          <a:xfrm>
            <a:off x="838080" y="685800"/>
            <a:ext cx="5257800" cy="533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019920" y="685800"/>
            <a:ext cx="2361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5D9A-5D0F-4C5C-96F7-C59401E6DD0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3337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572000" y="18288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daff"/>
                </a:solidFill>
                <a:latin typeface="Times New Roman"/>
              </a:rPr>
              <a:t>(One-sid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046E-6CF4-4901-A999-1BD6FB0E7B6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33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DE9C-CF92-4A12-8D8B-797E917AA6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96080" cy="449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1DF2-45C7-4E19-87A6-D4B2DA9521C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Fisher’s</a:t>
            </a:r>
            <a:br>
              <a:rPr sz="6000"/>
            </a:b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Exact Test</a:t>
            </a:r>
            <a:br>
              <a:rPr sz="6000"/>
            </a:b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for R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D5E5-33EA-4CB8-A94A-C083C45EC40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543800" cy="44960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62120" y="4800600"/>
            <a:ext cx="754380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6D25-9AF2-497C-9B0B-2B874B67616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543800" cy="3733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14400" y="4724280"/>
            <a:ext cx="7543800" cy="1181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53A5-AE8D-4988-9047-438D6085A81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4419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162D-541A-4F13-8B7F-3AAF539D518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391520" cy="4190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918720" y="5257800"/>
            <a:ext cx="7369560" cy="947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you know the frequency in the a-cell you c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termine the frequencies in the other 3 cel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2ED6-CECF-4606-9AC5-4693D697A04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162920" cy="51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0579-71D0-4EC1-B0D3-E116461126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934320" cy="3505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8815-F046-48B5-8013-C8D1339D68A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49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276D-3728-40BA-B7F6-CE9E25B67AE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858000" cy="4800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562720" y="38098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98c"/>
                </a:solidFill>
                <a:latin typeface="Times New Roman"/>
              </a:rPr>
              <a:t>If y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BB64-10F6-4A76-A9A2-A3F8418DAF2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543800" cy="518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00BD-0764-4E05-9394-C6AF42D17D5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620120" cy="518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266C-B521-4D13-83A6-C490939C4C1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62120" y="4267080"/>
            <a:ext cx="7467480" cy="2184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85800" y="304920"/>
            <a:ext cx="7620120" cy="380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A215-EEAE-410E-B19C-6C047A3F447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467480" cy="525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31AC-F64D-49C7-99B1-F3EAAD2F465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2514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Mantel-Haenszel Test-</a:t>
            </a:r>
            <a:br>
              <a:rPr sz="6000"/>
            </a:b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Large Sample Version of</a:t>
            </a:r>
            <a:br>
              <a:rPr sz="6000"/>
            </a:b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Fisher’s Exact Tes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0696-102D-461F-A6C6-1EA542371B1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447920" y="838080"/>
            <a:ext cx="6248160" cy="2362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286000" y="3200400"/>
            <a:ext cx="4267080" cy="838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200400" y="4038480"/>
            <a:ext cx="2514600" cy="685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828800" y="4724280"/>
            <a:ext cx="5486400" cy="13716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1447920" y="3200400"/>
            <a:ext cx="1143000" cy="838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447920" y="3962520"/>
            <a:ext cx="1828800" cy="7617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6553080" y="3200400"/>
            <a:ext cx="1143000" cy="838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638680" y="3962520"/>
            <a:ext cx="2057400" cy="7617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9"/>
          <a:stretch/>
        </p:blipFill>
        <p:spPr>
          <a:xfrm>
            <a:off x="1447920" y="4724280"/>
            <a:ext cx="469800" cy="13716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0"/>
          <a:stretch/>
        </p:blipFill>
        <p:spPr>
          <a:xfrm>
            <a:off x="7238880" y="4724280"/>
            <a:ext cx="4572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0A7D-7F8C-4FFA-A5F8-307F488F0DB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858000" cy="4267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143000" y="808200"/>
            <a:ext cx="68580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98c"/>
                </a:solidFill>
                <a:latin typeface="Times New Roman"/>
              </a:rPr>
              <a:t>Alternative to large sample t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CD4A-61E2-4C18-B607-2B6E9078BB9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2971800"/>
            <a:ext cx="7772400" cy="3124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90720" y="457200"/>
            <a:ext cx="777240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867280" y="3352680"/>
            <a:ext cx="2667240" cy="76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0430-D98B-41A9-99F3-380E50D215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238880" cy="3581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143000" y="351000"/>
            <a:ext cx="7238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98c"/>
                </a:solidFill>
                <a:latin typeface="Times New Roman"/>
              </a:rPr>
              <a:t>Alternative to large sample t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143000" y="3962520"/>
            <a:ext cx="5943600" cy="2438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6781680" y="4495680"/>
            <a:ext cx="1600200" cy="190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56BA-DC16-4089-AD08-3B030B85914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248520" cy="396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38BA-A7AD-44D6-89AF-5DEEFC83538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238880" cy="4876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868F-4E2A-4991-B481-2F4365044A5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556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A380-5F37-446E-9D82-4B9BB99234A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467480" cy="51818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486400" y="4876920"/>
            <a:ext cx="2895480" cy="101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dcdc"/>
                </a:solidFill>
                <a:latin typeface="Times New Roman"/>
              </a:rPr>
              <a:t>(Previous Lar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dcdc"/>
                </a:solidFill>
                <a:latin typeface="Times New Roman"/>
              </a:rPr>
              <a:t>Sample Formu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CA86-9744-48B0-B9C9-DCEC890B776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8001000" cy="594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DC5F-DAAC-46D5-83B0-EED72617CEC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848360" cy="5791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50B6-7EF2-4FC7-94DE-5B7BABF0960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Confidence Interval</a:t>
            </a:r>
            <a:br>
              <a:rPr sz="6000"/>
            </a:b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for R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7F42-F773-4322-85D4-B59C0CBB8F9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162920" cy="40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16CC-9F8F-4E43-B816-EF8EE8FE09A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543800" cy="518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3A00-166A-41FF-B2A2-72F7005E1A6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467480" cy="525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5BC8-1934-4645-B446-08B9031B4B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563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78C8-F896-4890-90AE-6D73EDD0F9A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2622600"/>
            <a:ext cx="7543800" cy="2940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838080" y="457200"/>
            <a:ext cx="7543800" cy="182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2C2D-2CC8-4D67-8BCD-74E26E8409E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838080" y="4419720"/>
            <a:ext cx="7696440" cy="1828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838080" y="2819520"/>
            <a:ext cx="7696440" cy="1143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838080" y="609480"/>
            <a:ext cx="7696440" cy="16765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838080" y="2286000"/>
            <a:ext cx="769644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98c"/>
                </a:solidFill>
                <a:latin typeface="Times New Roman"/>
              </a:rPr>
              <a:t>is equivalent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3962520"/>
            <a:ext cx="769644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98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cf98c"/>
                </a:solidFill>
                <a:latin typeface="Times New Roman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3CA0-681D-4742-9F2E-66A5AD00CCE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5181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FA91-0721-4927-9EF5-4F0AF29851B2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91160" cy="518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DC41-8779-429B-B08E-CE4126F5754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162560" cy="3276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990720" y="3809880"/>
            <a:ext cx="7162560" cy="243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1DE4-04EA-4764-9AF8-3FDD06BFCFF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553080" cy="2438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371600" y="3429000"/>
            <a:ext cx="6553080" cy="190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0311-0374-4432-B7D4-CDD821EE178D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620120" cy="19047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838080" y="1828800"/>
            <a:ext cx="7620120" cy="15238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762120" y="3429000"/>
            <a:ext cx="7619760" cy="304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F0AB-3335-4EC7-AEBD-5CB20E310CC5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33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96FB-A145-4049-BAED-4A6F51B48408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63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1553-DC02-4955-8A51-9E4F3A279A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2666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72000" y="3962520"/>
            <a:ext cx="4267080" cy="2133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838080" y="3200400"/>
            <a:ext cx="3505320" cy="2895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4336920" y="3200400"/>
            <a:ext cx="4121280" cy="838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4267080" y="3886200"/>
            <a:ext cx="304920" cy="2209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8381880" y="533520"/>
            <a:ext cx="45720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914400" y="4419720"/>
            <a:ext cx="457200" cy="60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F32B-259E-4E18-988D-E38036058C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5943600" cy="3168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676520" y="1187280"/>
            <a:ext cx="5943600" cy="838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846E-C857-4A45-8C01-1F35AD13DE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20120" cy="563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A511-A248-487E-81E6-35D4924841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5-01-10T20:07:00Z</dcterms:modified>
  <cp:revision>197</cp:revision>
  <dc:subject/>
  <dc:title>Slide 1</dc:title>
</cp:coreProperties>
</file>