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E76-216D-4503-988F-9381CD02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76D-45BE-47FA-9D64-D35171AC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3F0-0AFF-413F-A63C-D9A22B5E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433-3E89-4C01-BA0F-29BA4936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3A0-B8F0-4F64-9E6F-7F43DB68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25F-2710-4643-9052-D86432BB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A86-34EE-4C69-BA50-0F4F9856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5C0-560A-4282-BD7C-61256463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0BE-0B72-42F2-89F6-D0568550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80A-BF4C-4DE6-84F4-4636E5EC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EF2-B5AD-4AC9-81E9-C55A47DE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810-7614-4379-AC9D-AFAF22EC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428D-287F-4C2B-9C7E-4B53E0F2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idence Interv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332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70572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705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7T22:17:36Z</dcterms:modified>
  <cp:revision>44</cp:revision>
  <dc:subject/>
  <dc:title>PowerPoint Presentation</dc:title>
</cp:coreProperties>
</file>