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AE6E-E740-4B61-8198-23BC4BD38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5744-9395-4256-92D0-C61EB9850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5102-CA26-4B23-9BCF-A90BA70DE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FA34-6965-4622-9F9F-F37F9BAA6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0A3B-0BCC-4B66-8E0A-FF1FBA795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6545-668A-4785-A670-5E233A94F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6B36-A33B-4DB9-9E89-20F082D95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A03D-82A8-4BC0-8A40-D48FEAF0A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B3B4-5788-46EE-9003-72201DE58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C35D-F159-4957-8421-8334ACBB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01F1-F74C-40DE-8491-94CDF1E1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5564-F47D-4E6C-8479-76D180B3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EDDAE-DB4C-4BC9-B98A-09F95B77F4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514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Mantel-Haenszel Test-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Large Sample Version of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Fisher’s Exact Tes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4678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162920" cy="35053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066680" y="3886200"/>
            <a:ext cx="7162920" cy="9144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295280" y="4876920"/>
            <a:ext cx="6858000" cy="16002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895480" y="5105520"/>
            <a:ext cx="5335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143000" y="457200"/>
            <a:ext cx="7162920" cy="3048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143000" y="3505320"/>
            <a:ext cx="7162920" cy="838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70866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7162920" cy="3048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066680" y="3505320"/>
            <a:ext cx="7162920" cy="1066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066680" y="4648320"/>
            <a:ext cx="7162920" cy="17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8483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47920" y="838080"/>
            <a:ext cx="6248160" cy="23623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286000" y="3200400"/>
            <a:ext cx="4267080" cy="838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200400" y="4038480"/>
            <a:ext cx="2514600" cy="685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1828800" y="4724280"/>
            <a:ext cx="5486400" cy="1371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1447920" y="3200400"/>
            <a:ext cx="1143000" cy="838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1447920" y="3962520"/>
            <a:ext cx="1828800" cy="761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6553080" y="3200400"/>
            <a:ext cx="1143000" cy="838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5638680" y="3962520"/>
            <a:ext cx="2057400" cy="761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1447920" y="4724280"/>
            <a:ext cx="469800" cy="1371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0"/>
          <a:stretch/>
        </p:blipFill>
        <p:spPr>
          <a:xfrm>
            <a:off x="7238880" y="4724280"/>
            <a:ext cx="4572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858000" cy="4267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143000" y="808200"/>
            <a:ext cx="685800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lternative to large sample te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7238880" cy="3581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219320" y="351000"/>
            <a:ext cx="72388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lternative to large sample te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219320" y="3962520"/>
            <a:ext cx="5943600" cy="2438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858000" y="4495680"/>
            <a:ext cx="16002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6248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2388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4674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467480" cy="51818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486400" y="4876920"/>
            <a:ext cx="2895480" cy="101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dcdc"/>
                </a:solidFill>
                <a:latin typeface="Times New Roman"/>
              </a:rPr>
              <a:t>(Previous Lar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dcdc"/>
                </a:solidFill>
                <a:latin typeface="Times New Roman"/>
              </a:rPr>
              <a:t>Sample Formul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001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1-03T20:38:39Z</dcterms:modified>
  <cp:revision>41</cp:revision>
  <dc:subject/>
  <dc:title>PowerPoint Presentation</dc:title>
</cp:coreProperties>
</file>