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A92-54CD-4814-A272-2EB6022D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7EF-13DD-4D9A-9646-DA7B5E07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040-D45F-44DA-8B42-927F8F08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0AF-DACF-40D5-BA17-D3E7343F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45-BB1F-4AAE-B1FC-B35FC52A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487-047E-44ED-93F2-F3636BD5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3DA-F10B-4D62-8D46-6CD13C95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E82-CF88-487A-87C0-91783B42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97F-B860-4FE6-91AF-84B00BB9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E47-9EDE-409B-9D26-D6D165C1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0E7-8752-4B6F-9142-36BBC1E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C24-5499-426E-826B-1A5E3E5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63A-31C9-468C-8ABF-A2DBA82D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arge Sample Test for ID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 Person-Time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8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3281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2673360"/>
            <a:ext cx="72388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73915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94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434340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90720" y="4343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419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4724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81680" y="4724280"/>
            <a:ext cx="16765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76176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5638680"/>
            <a:ext cx="7696080" cy="76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2520" y="4038480"/>
            <a:ext cx="2819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2:00:42Z</dcterms:modified>
  <cp:revision>41</cp:revision>
  <dc:subject/>
  <dc:title>PowerPoint Presentation</dc:title>
</cp:coreProperties>
</file>