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112-C189-448C-A5AF-63B34BBE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844-7005-469B-BBA3-CFCDDAD2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67F-027E-467F-83A3-F530BF11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B2F-624D-45A5-93A7-031D5467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421-BBBD-45F5-B632-4AD46E99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AB9-80C6-4A79-BE8C-44C13A0C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ED8-CAF6-4AB6-9336-0C74B7CE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692-FD95-46A5-8431-3A927A76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771-BB2B-494D-AE95-FCC8DFC3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79F-6C31-40A2-965B-A499C976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99B-9746-40D3-8294-5BD5276D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487-269B-43EC-AAC9-A90C7D36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D8FE-166C-4854-B835-F6FDFE81C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Expected Value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in a</a:t>
            </a:r>
            <a:br>
              <a:rPr sz="6000"/>
            </a:b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Linear Mod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05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1219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08660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7086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16292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7162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162560" cy="2133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90720" y="685800"/>
            <a:ext cx="7162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52480" y="4038480"/>
            <a:ext cx="5029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4038480"/>
            <a:ext cx="7467840" cy="939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40384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572000"/>
            <a:ext cx="99072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746784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3505320"/>
            <a:ext cx="7467840" cy="939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350532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4038480"/>
            <a:ext cx="9907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286000" y="4648320"/>
            <a:ext cx="4419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96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467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392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2392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238880" cy="129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723888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14400" y="3886200"/>
            <a:ext cx="7238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20:26:21Z</dcterms:modified>
  <cp:revision>43</cp:revision>
  <dc:subject/>
  <dc:title>PowerPoint Presentation</dc:title>
</cp:coreProperties>
</file>