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A91-A217-4B83-8E30-7AFF65D6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7DB2-0CAF-453B-9630-CD10A8F6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3FC-F86B-4FDA-9885-AA7E25DB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76D-66C7-4C55-A124-6C5F4C24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AC7-0EF4-400C-8142-05D0932F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838-BFD8-419F-88B3-4FDF445C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27A-1203-4DC2-B5F4-A7A8D29E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4D7-FD82-41CB-BCD0-DCB0A6C2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A98-9FA9-47B6-B9B5-5B990F07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684-C02E-4DE5-B85E-31564B38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43A-0581-48BA-9254-22B4BD5B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D64F-5DB2-4287-87FC-6DA16981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696F-B7BB-4618-8DC2-56B8C5DD8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Basics of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ogistic Regress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486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5943600"/>
            <a:ext cx="81532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925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1:55:24Z</dcterms:modified>
  <cp:revision>43</cp:revision>
  <dc:subject/>
  <dc:title>PowerPoint Presentation</dc:title>
</cp:coreProperties>
</file>