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A15-EF54-477D-9E02-74196EDD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A7F-BF7A-49BA-AA26-7E11F239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E7B4-F362-41BB-93E8-453E5BD2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5C6-6543-4DE5-9BEE-E9634F4B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7B3-05AC-4C71-B253-0787A5E1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0032-B98F-4D09-AB2F-F3C110B2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994-8CA7-467D-B620-E0CEED38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83B-AAD7-447A-8059-D7783F77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B6B-8AE1-4CA8-A012-0D64907E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B32-3B6D-4A5C-8F04-351FD640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540-E1C9-4AEF-86E1-24124DEB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0E6-1CE5-4CB9-8E9B-31DF07C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E894-5F73-4171-A895-C744D9D29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Randomizatio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543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55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3915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3886200"/>
            <a:ext cx="12193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9152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91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3276720"/>
            <a:ext cx="7315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9116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2514600"/>
            <a:ext cx="7391160" cy="838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90920" y="2971800"/>
            <a:ext cx="13716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3581280"/>
            <a:ext cx="739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391520" cy="99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14400" y="3200400"/>
            <a:ext cx="7391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0" y="571500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533412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With randomization, you hope that the distribution o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variables are distributed similarly in the groups being comp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31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5:03:46Z</dcterms:modified>
  <cp:revision>43</cp:revision>
  <dc:subject/>
  <dc:title>PowerPoint Presentation</dc:title>
</cp:coreProperties>
</file>