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1C4-626B-4B0E-A1C2-0AB89955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5F2-D0CA-40D5-85EC-EBFE18B0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247-977A-4F43-8EDE-16150021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3AF-A31A-4A0E-8B2C-2D11807C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609E-7E6E-45D6-8594-9C24B68E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286-F4B5-4321-97A8-F73FA116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DA4-5477-4F3C-A7AA-B5CF0215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685-1384-47B8-84B6-5836422D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AFE-49BA-4F77-B6DC-F73D2711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21F-7A7A-47CE-BDCF-BDCBA3EE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6F7-938D-459C-9AAB-52DE9D8B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DE3-1FCC-4AA1-AD96-8974F8D7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E3F8-2375-488F-B8CA-30FB028DA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Match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238880" cy="5029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62320" y="5486400"/>
            <a:ext cx="4876560" cy="633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90720" y="5638680"/>
            <a:ext cx="137160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238880" y="5638680"/>
            <a:ext cx="990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553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10516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5105160" cy="175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905120" y="2971800"/>
            <a:ext cx="5105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629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8:32:58Z</dcterms:modified>
  <cp:revision>43</cp:revision>
  <dc:subject/>
  <dc:title>PowerPoint Presentation</dc:title>
</cp:coreProperties>
</file>