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2422-C700-41D7-AA58-B2E2AA1F6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B7EB-E938-4646-A31D-23E39C3E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5881-9448-4361-8E58-D847388C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B258-2C3A-4E65-ACD5-00349F1E9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2432-E5C4-4E22-A5BC-4EC8ED5D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EEA6-4054-4B28-8387-196DAD0B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8DDA-BB7D-4709-BBBA-CA158B03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099A-5EAE-4050-B1D9-2CB4D494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CC95-CC96-46A1-A357-158EF31E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5840-1C6E-4469-BDD6-356C195F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FA26-9C6B-49C1-B38B-D3391477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385C-4A35-410B-8FA5-87643D07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672C-5191-480D-956C-5D31A1774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00"/>
                </a:solidFill>
                <a:latin typeface="Arial"/>
              </a:rPr>
              <a:t>The EVW </a:t>
            </a:r>
            <a:br>
              <a:rPr sz="6600"/>
            </a:br>
            <a:r>
              <a:rPr b="1" lang="en-US" sz="6600" spc="-1" strike="noStrike">
                <a:solidFill>
                  <a:srgbClr val="99cc00"/>
                </a:solidFill>
                <a:latin typeface="Arial"/>
              </a:rPr>
              <a:t>  Logistic 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153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8001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924680" cy="4038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5800" y="4343400"/>
            <a:ext cx="7924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3059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8487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773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22:06:20Z</dcterms:modified>
  <cp:revision>44</cp:revision>
  <dc:subject/>
  <dc:title>PowerPoint Presentation</dc:title>
</cp:coreProperties>
</file>