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706-9E9B-4E96-A2B7-A3D87A29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619-2372-44E0-BC78-44AD88CB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819-77F2-4648-8E4B-102D4C5E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457-804F-417C-8773-07063F12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284-EF74-4C7A-8FD0-EEB0554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C85-8B0D-46BC-8EB5-79CDE58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07F-0834-498D-A6C5-0EDA8217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201-C905-4812-8229-1D6D6C6C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4D9-7171-4818-A94B-78318009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C76-7584-4E11-A9A5-3B6CEA7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A38-DDCA-44E5-B49F-E9D28225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F0C-6CB0-4781-8DA7-98AAFAD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A04-6938-435C-ABA8-66C9341E5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The Risk Function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ed on a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19760" cy="2057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27432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0" y="60958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5438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0" y="2819520"/>
            <a:ext cx="1600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73911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5438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391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72388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1257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371600" y="4114800"/>
            <a:ext cx="6781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20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7239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1752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2392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66680" y="3657600"/>
            <a:ext cx="7162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925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8660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7010640" cy="121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4724280"/>
            <a:ext cx="14479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25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7086600" cy="106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3584520"/>
            <a:ext cx="1524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7086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18960" y="2971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type of risk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86600" cy="3810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62320" y="5105520"/>
            <a:ext cx="4724280" cy="990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572000"/>
            <a:ext cx="22860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43000" y="502920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086600" y="51055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0720" y="838080"/>
            <a:ext cx="5255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umerical Example of a Risk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0" y="594360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6324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44:28Z</dcterms:modified>
  <cp:revision>43</cp:revision>
  <dc:subject/>
  <dc:title>PowerPoint Presentation</dc:title>
</cp:coreProperties>
</file>