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186-E3D4-48BA-9772-49DCC8E8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608-8B60-442D-B2FC-82B40128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A58-D31B-4393-B90B-EFC654EB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471-3F8C-4DD1-AA49-D7486056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DF4C-1AB9-4256-88E0-B9A02C56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B3F1-80E5-4E76-96C8-D8FF48ED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BE2-643C-45AF-8356-12C389B0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DA5-3314-4912-8ED5-BB8659E7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6FE-B394-4CF9-A825-791B9348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EB1-BF40-49D4-9207-28F1B4CF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E68-7F9B-4BAF-8FF3-920B253D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66FA-F682-423C-8917-89986CA6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E38A-9531-43A9-8F06-AF0E41CF3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cc00"/>
                </a:solidFill>
                <a:latin typeface="Arial"/>
              </a:rPr>
              <a:t>Stratified Analy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25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467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746784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7467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7467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" y="770040"/>
            <a:ext cx="7467480" cy="3047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09680" y="5029200"/>
            <a:ext cx="4267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46784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74678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05720" y="540216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586728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467480" cy="2895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3200400"/>
            <a:ext cx="746748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0" y="3649680"/>
            <a:ext cx="16002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411480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7467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0:58:15Z</dcterms:created>
  <dc:creator>david g. kleinbaum</dc:creator>
  <dc:description/>
  <dc:language>en-US</dc:language>
  <cp:lastModifiedBy>david g kleinbaum</cp:lastModifiedBy>
  <dcterms:modified xsi:type="dcterms:W3CDTF">2003-11-05T18:56:14Z</dcterms:modified>
  <cp:revision>43</cp:revision>
  <dc:subject/>
  <dc:title>PowerPoint Presentation</dc:title>
</cp:coreProperties>
</file>