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149-61C3-4FDB-AA5D-6554E59C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975-B072-4E50-8A7B-7A7F153C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FEDB-CCE9-4DBF-962D-AC20F8A1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9EF9-DED2-4EB2-BE3B-F1325763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D54-CE80-43B6-9D9E-065CEAA3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AF5-F02B-4799-8061-F9971264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A09-639B-473D-87AC-CF2DE013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6C3-77B8-4291-85E4-18EE9D3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4FB1-5D1C-423B-95CE-5D92455B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8EE-DE5E-4BD5-8E39-A3A0F1B0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76F-B045-442A-BD27-3EA5D238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92E-1505-42CA-9BBE-51B130F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60AE-11C7-47AA-928C-BE95D0C3E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5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3.png"/><Relationship Id="rId3" Type="http://schemas.openxmlformats.org/officeDocument/2006/relationships/image" Target="../media/image65.png"/><Relationship Id="rId4" Type="http://schemas.openxmlformats.org/officeDocument/2006/relationships/image" Target="../media/image73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Regression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Techniqu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587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gis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46583" r="0" b="0"/>
          <a:stretch/>
        </p:blipFill>
        <p:spPr>
          <a:xfrm>
            <a:off x="990720" y="2590920"/>
            <a:ext cx="739116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0" b="53432"/>
          <a:stretch/>
        </p:blipFill>
        <p:spPr>
          <a:xfrm>
            <a:off x="990720" y="609480"/>
            <a:ext cx="7391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2743200"/>
            <a:ext cx="7238880" cy="2362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18946" t="0" r="0" b="77180"/>
          <a:stretch/>
        </p:blipFill>
        <p:spPr>
          <a:xfrm>
            <a:off x="1447920" y="5410080"/>
            <a:ext cx="6629400" cy="609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13686" t="20022" r="68428" b="65734"/>
          <a:stretch/>
        </p:blipFill>
        <p:spPr>
          <a:xfrm>
            <a:off x="6934320" y="5486400"/>
            <a:ext cx="1295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618c6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23428" r="0" b="0"/>
          <a:stretch/>
        </p:blipFill>
        <p:spPr>
          <a:xfrm>
            <a:off x="990720" y="3276720"/>
            <a:ext cx="70102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10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85565" r="0" b="0"/>
          <a:stretch/>
        </p:blipFill>
        <p:spPr>
          <a:xfrm>
            <a:off x="838080" y="304920"/>
            <a:ext cx="7086600" cy="425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0" t="0" r="0" b="16693"/>
          <a:stretch/>
        </p:blipFill>
        <p:spPr>
          <a:xfrm>
            <a:off x="914400" y="83808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6858000" cy="385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86000" y="2895480"/>
            <a:ext cx="3429000" cy="1295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914400" y="43434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rcRect l="0" t="0" r="0" b="19063"/>
          <a:stretch/>
        </p:blipFill>
        <p:spPr>
          <a:xfrm>
            <a:off x="1828800" y="4952880"/>
            <a:ext cx="48006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47920" y="3429000"/>
            <a:ext cx="426708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09480" y="4800600"/>
            <a:ext cx="6870960" cy="457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rcRect l="0" t="0" r="0" b="22238"/>
          <a:stretch/>
        </p:blipFill>
        <p:spPr>
          <a:xfrm>
            <a:off x="1905120" y="5334120"/>
            <a:ext cx="2895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43:43Z</dcterms:modified>
  <cp:revision>114</cp:revision>
  <dc:subject/>
  <dc:title>The Art in the State of the Art</dc:title>
</cp:coreProperties>
</file>