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8445-19D2-43BE-B821-40210D187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DF66-7A0C-4132-9147-F11BED14B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CEC3-C4C8-45D1-ABA4-A0A8AC867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F528-CCF4-4119-84CD-1CF89B060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D274-975E-4887-A04B-7A7F2F140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56B4-6DCF-4E5F-A909-7F77B0EFA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360A-290F-4558-9419-A7AAD51F0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03AB-0616-4B02-B92C-0F1131672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5778-5B7A-405D-9C6B-9B485DBC5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BEE1-D4D0-43F2-A7BD-EDF99BD5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4E41-81C0-414E-BCA2-F96E1C39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3C17-B1AE-459D-95DE-7EF49B38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4A04E-3C45-435D-B38E-50DF124DAF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Analysis Options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for Contro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6781680" cy="1295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219320" y="2971800"/>
            <a:ext cx="67053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5800" y="3657600"/>
            <a:ext cx="7924680" cy="11620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85800" y="1523880"/>
            <a:ext cx="79246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62120" y="2514600"/>
            <a:ext cx="7924680" cy="1162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62120" y="380880"/>
            <a:ext cx="7924680" cy="2133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762120" y="3809880"/>
            <a:ext cx="79246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7924680" cy="21333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85800" y="3809880"/>
            <a:ext cx="7924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925040" cy="2133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09480" y="2743200"/>
            <a:ext cx="7925040" cy="914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85800" y="3809880"/>
            <a:ext cx="7848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5800" y="3657600"/>
            <a:ext cx="7924680" cy="990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85800" y="1447920"/>
            <a:ext cx="79246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62120" y="2590920"/>
            <a:ext cx="7924680" cy="990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762120" y="609480"/>
            <a:ext cx="7924680" cy="1981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762120" y="3657600"/>
            <a:ext cx="79246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7162920" cy="2133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143000" y="1371600"/>
            <a:ext cx="71629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Another Analysis Op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143000" y="3886200"/>
            <a:ext cx="71629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315200" cy="4724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066680" y="5257800"/>
            <a:ext cx="73152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7053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4678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15200" cy="40701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914400" y="4800600"/>
            <a:ext cx="73152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7543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7467480" cy="2286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85800" y="3276720"/>
            <a:ext cx="74674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62120" y="2590920"/>
            <a:ext cx="7149960" cy="1066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62120" y="1828800"/>
            <a:ext cx="71625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149960" cy="10666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914400" y="838080"/>
            <a:ext cx="7162920" cy="762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914400" y="2768760"/>
            <a:ext cx="716292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62120" y="2666880"/>
            <a:ext cx="7467480" cy="11750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62120" y="1371600"/>
            <a:ext cx="74674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7467480" cy="11746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62120" y="533520"/>
            <a:ext cx="7467480" cy="12952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762120" y="3124080"/>
            <a:ext cx="7467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80010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001000" cy="31244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33520" y="3809880"/>
            <a:ext cx="8001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238880" cy="2971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14400" y="3733920"/>
            <a:ext cx="72388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201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7924680" cy="2133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85800" y="3505320"/>
            <a:ext cx="7924680" cy="2819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85800" y="2514600"/>
            <a:ext cx="7924680" cy="990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6019920" y="5486400"/>
            <a:ext cx="20066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3505320"/>
            <a:ext cx="7924680" cy="30351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" y="380880"/>
            <a:ext cx="7924680" cy="2133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" y="2514600"/>
            <a:ext cx="7924680" cy="990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5562720" y="4572000"/>
            <a:ext cx="28191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2120" y="2209680"/>
            <a:ext cx="7924680" cy="36514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62120" y="762120"/>
            <a:ext cx="792468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90720" y="2286000"/>
            <a:ext cx="70866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7086600" cy="2133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143000" y="3276720"/>
            <a:ext cx="70866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43000" y="2438280"/>
            <a:ext cx="67816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1-05T14:24:34Z</dcterms:modified>
  <cp:revision>43</cp:revision>
  <dc:subject/>
  <dc:title>PowerPoint Presentation</dc:title>
</cp:coreProperties>
</file>