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C3E-277A-4BFA-8806-134F462B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71E9-0FAC-4B3C-B06E-83038E2D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920-4767-422B-8528-339B3BD7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9B6-3738-4586-AF32-37FF240E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91A-54A9-4001-88C7-64E61E4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922-F0F7-4D25-806C-C503756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8D0-ACDF-4A95-BEDA-14A7F7D4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669-6936-4B83-AC73-DF3F2F7B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F35-1BBE-4C0C-B374-C641395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685-5226-4634-9414-B96834C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9BD-CA8C-404E-8DE7-89D9D04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97C-DAF2-4C62-990D-EDEAF6E6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BB9-39A2-46A6-82F0-C7A74D201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2971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162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7467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96440" cy="563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2895480"/>
            <a:ext cx="388620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56:37Z</dcterms:modified>
  <cp:revision>43</cp:revision>
  <dc:subject/>
  <dc:title>PowerPoint Presentation</dc:title>
</cp:coreProperties>
</file>