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B65F-F17B-43B3-8606-20B590AD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1C8A-39A4-4949-92FF-50E054B8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5960-F433-4D51-89A9-0D776D85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1947-4FB7-4590-BFD5-77970BFC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9E8-4BCC-419E-9FCF-E59C4BC0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977-AA99-4CF1-910A-7EAEF9E0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0BA3-F457-4EFC-B468-14B7E54B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C53-20E2-468C-B599-A5273DA0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3439-1D86-44BD-9791-7C05D8BC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BDB9-5A1B-4639-A660-F40F13DD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733-C42A-4DA6-8B58-E3D12A66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9C2-4508-40E6-BB96-7E0845F7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B42D-2849-47D5-9E58-FBD57F914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Control of Extraneous Factor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? Why? How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18c6"/>
                </a:solidFill>
                <a:latin typeface="Times New Roman"/>
              </a:rPr>
              <a:t>Nancy D. Bar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618c6"/>
                </a:solidFill>
                <a:uFillTx/>
                <a:latin typeface="Times New Roman"/>
              </a:rPr>
              <a:t>How</a:t>
            </a: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 do we control for extraneous factor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Options – prior to 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Options – after 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Design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618c6"/>
                </a:solidFill>
                <a:uFillTx/>
                <a:latin typeface="Times New Roman"/>
              </a:rPr>
              <a:t>What</a:t>
            </a: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 does it mean to control for extraneous factor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ake into account other known factors that may influence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2003" t="2316" r="2003" b="23670"/>
          <a:stretch/>
        </p:blipFill>
        <p:spPr>
          <a:xfrm>
            <a:off x="1981080" y="1752480"/>
            <a:ext cx="510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81080" y="4724280"/>
            <a:ext cx="5105520" cy="1051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2003" t="2316" r="2003" b="23670"/>
          <a:stretch/>
        </p:blipFill>
        <p:spPr>
          <a:xfrm>
            <a:off x="1981080" y="1752480"/>
            <a:ext cx="510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2003" t="2316" r="2003" b="12279"/>
          <a:stretch/>
        </p:blipFill>
        <p:spPr>
          <a:xfrm>
            <a:off x="1981080" y="1752480"/>
            <a:ext cx="5105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81080" y="5181480"/>
            <a:ext cx="5105520" cy="1484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2003" t="2316" r="2003" b="12279"/>
          <a:stretch/>
        </p:blipFill>
        <p:spPr>
          <a:xfrm>
            <a:off x="1981080" y="1752480"/>
            <a:ext cx="5105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003" t="2316" r="2003" b="50244"/>
          <a:stretch/>
        </p:blipFill>
        <p:spPr>
          <a:xfrm>
            <a:off x="1981080" y="1752480"/>
            <a:ext cx="5105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003" t="2641" r="2003" b="10227"/>
          <a:stretch/>
        </p:blipFill>
        <p:spPr>
          <a:xfrm>
            <a:off x="1981080" y="1752480"/>
            <a:ext cx="510552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81080" y="3657600"/>
            <a:ext cx="5105520" cy="1001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2003" t="2316" r="2003" b="50244"/>
          <a:stretch/>
        </p:blipFill>
        <p:spPr>
          <a:xfrm>
            <a:off x="1981080" y="1752480"/>
            <a:ext cx="5105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2003" t="2316" r="2003" b="40756"/>
          <a:stretch/>
        </p:blipFill>
        <p:spPr>
          <a:xfrm>
            <a:off x="1981080" y="1752480"/>
            <a:ext cx="5105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2003" t="2316" r="2003" b="40756"/>
          <a:stretch/>
        </p:blipFill>
        <p:spPr>
          <a:xfrm>
            <a:off x="1981080" y="1752480"/>
            <a:ext cx="510552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81080" y="4038480"/>
            <a:ext cx="510552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003" t="2316" r="2003" b="35061"/>
          <a:stretch/>
        </p:blipFill>
        <p:spPr>
          <a:xfrm>
            <a:off x="1981080" y="1752480"/>
            <a:ext cx="5105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003" t="2316" r="2003" b="35061"/>
          <a:stretch/>
        </p:blipFill>
        <p:spPr>
          <a:xfrm>
            <a:off x="1981080" y="1752480"/>
            <a:ext cx="510552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81080" y="4267080"/>
            <a:ext cx="51055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2003" t="2316" r="2003" b="29365"/>
          <a:stretch/>
        </p:blipFill>
        <p:spPr>
          <a:xfrm>
            <a:off x="1981080" y="1752480"/>
            <a:ext cx="5105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2003" t="2316" r="2003" b="29365"/>
          <a:stretch/>
        </p:blipFill>
        <p:spPr>
          <a:xfrm>
            <a:off x="1981080" y="1752480"/>
            <a:ext cx="5105520" cy="2743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981080" y="4495680"/>
            <a:ext cx="510552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Analysis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ifi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al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2003" t="2316" r="2003" b="74916"/>
          <a:stretch/>
        </p:blipFill>
        <p:spPr>
          <a:xfrm>
            <a:off x="1981080" y="1752480"/>
            <a:ext cx="51055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2003" t="2316" r="2003" b="74916"/>
          <a:stretch/>
        </p:blipFill>
        <p:spPr>
          <a:xfrm>
            <a:off x="1981080" y="1752480"/>
            <a:ext cx="5105520" cy="914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81080" y="2666880"/>
            <a:ext cx="5105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2003" t="2316" r="2003" b="65427"/>
          <a:stretch/>
        </p:blipFill>
        <p:spPr>
          <a:xfrm>
            <a:off x="1981080" y="1752480"/>
            <a:ext cx="51055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2003" t="2316" r="2003" b="65427"/>
          <a:stretch/>
        </p:blipFill>
        <p:spPr>
          <a:xfrm>
            <a:off x="1981080" y="1752480"/>
            <a:ext cx="5105520" cy="1295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0552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2003" t="34585" r="2003" b="50244"/>
          <a:stretch/>
        </p:blipFill>
        <p:spPr>
          <a:xfrm>
            <a:off x="1981080" y="3429000"/>
            <a:ext cx="5105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rcRect l="2003" t="34585" r="2003" b="50244"/>
          <a:stretch/>
        </p:blipFill>
        <p:spPr>
          <a:xfrm>
            <a:off x="1981080" y="3429000"/>
            <a:ext cx="5105520" cy="609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981080" y="4038480"/>
            <a:ext cx="51055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2003" t="47866" r="2003" b="35061"/>
          <a:stretch/>
        </p:blipFill>
        <p:spPr>
          <a:xfrm>
            <a:off x="1981080" y="3429000"/>
            <a:ext cx="5105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18c6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81080" y="1219320"/>
            <a:ext cx="510552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at we typically think of when we control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 form st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rcRect l="2003" t="47866" r="2003" b="35061"/>
          <a:stretch/>
        </p:blipFill>
        <p:spPr>
          <a:xfrm>
            <a:off x="1981080" y="3429000"/>
            <a:ext cx="5105520" cy="685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981080" y="4114800"/>
            <a:ext cx="510552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2003" t="61159" r="2003" b="21767"/>
          <a:stretch/>
        </p:blipFill>
        <p:spPr>
          <a:xfrm>
            <a:off x="1981080" y="3429000"/>
            <a:ext cx="5105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2003" t="61159" r="2003" b="21767"/>
          <a:stretch/>
        </p:blipFill>
        <p:spPr>
          <a:xfrm>
            <a:off x="1981080" y="3429000"/>
            <a:ext cx="5105520" cy="685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981080" y="4114800"/>
            <a:ext cx="51055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2003" t="40280" r="2003" b="48341"/>
          <a:stretch/>
        </p:blipFill>
        <p:spPr>
          <a:xfrm>
            <a:off x="1981080" y="3962520"/>
            <a:ext cx="5105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2003" t="2316" r="2003" b="65427"/>
          <a:stretch/>
        </p:blipFill>
        <p:spPr>
          <a:xfrm>
            <a:off x="1981080" y="1752480"/>
            <a:ext cx="51055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2003" t="2316" r="2003" b="65427"/>
          <a:stretch/>
        </p:blipFill>
        <p:spPr>
          <a:xfrm>
            <a:off x="1981080" y="1752480"/>
            <a:ext cx="5105520" cy="1295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0552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1055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2003" t="2316" r="2003" b="55939"/>
          <a:stretch/>
        </p:blipFill>
        <p:spPr>
          <a:xfrm>
            <a:off x="1981080" y="1752480"/>
            <a:ext cx="5105520" cy="1676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105520" cy="542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981080" y="3962520"/>
            <a:ext cx="51055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618c6"/>
                </a:solidFill>
                <a:uFillTx/>
                <a:latin typeface="Times New Roman"/>
              </a:rPr>
              <a:t>Why</a:t>
            </a:r>
            <a:r>
              <a:rPr b="1" lang="en-US" sz="4800" spc="-1" strike="noStrike">
                <a:solidFill>
                  <a:srgbClr val="4618c6"/>
                </a:solidFill>
                <a:latin typeface="Times New Roman"/>
              </a:rPr>
              <a:t> do we control for extraneous variabl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 Mo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ou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2003" t="2316" r="2003" b="46451"/>
          <a:stretch/>
        </p:blipFill>
        <p:spPr>
          <a:xfrm>
            <a:off x="1981080" y="1752480"/>
            <a:ext cx="5105520" cy="2057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981080" y="3809880"/>
            <a:ext cx="51055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2003" t="2316" r="2003" b="46451"/>
          <a:stretch/>
        </p:blipFill>
        <p:spPr>
          <a:xfrm>
            <a:off x="1981080" y="1752480"/>
            <a:ext cx="510552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981080" y="3809880"/>
            <a:ext cx="5105520" cy="885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981080" y="4648320"/>
            <a:ext cx="51055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003" t="53561" r="2003" b="17975"/>
          <a:stretch/>
        </p:blipFill>
        <p:spPr>
          <a:xfrm>
            <a:off x="1981080" y="1752480"/>
            <a:ext cx="5105520" cy="1143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510552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18c6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2003" t="2316" r="2003" b="7610"/>
          <a:stretch/>
        </p:blipFill>
        <p:spPr>
          <a:xfrm>
            <a:off x="1981080" y="1752480"/>
            <a:ext cx="51055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Nancy Barker</cp:lastModifiedBy>
  <dcterms:modified xsi:type="dcterms:W3CDTF">2004-02-17T15:20:51Z</dcterms:modified>
  <cp:revision>244</cp:revision>
  <dc:subject/>
  <dc:title>The Art in the State of the Art</dc:title>
</cp:coreProperties>
</file>