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266-C274-4FFE-B337-44899A81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AF78-2812-482F-B759-BF4124DF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D97-2DA1-4A8C-BAAC-D822FA7A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66D-C69F-4CE2-A6B9-2499BA6C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D0C-522F-4D73-90ED-77659A1B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EC8-BDDE-4A35-BF94-3D027E36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266-3191-4164-8CED-E5D367E2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1A6-8AF3-4F89-8F3A-DB14FA2D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085-C51F-464C-9A45-B7FAD640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4565-6ECE-4D9A-9133-3EA505FC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B04-4DF3-4E9D-A723-FCA75D5B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428D-C250-4B99-950A-7625DB3E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371E-C395-45DE-9B92-BBE4C2045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7.png"/><Relationship Id="rId3" Type="http://schemas.openxmlformats.org/officeDocument/2006/relationships/image" Target="../media/image39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The Logistic 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43800" cy="5257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47242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54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96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086600" cy="294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6934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6858000" cy="38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438280" y="4419720"/>
            <a:ext cx="3429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858000" cy="2895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6864480" cy="457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981080" y="4495680"/>
            <a:ext cx="4800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6858000" cy="281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685800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914400" y="4114800"/>
            <a:ext cx="6858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772400" cy="990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7772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858000" cy="2819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6858000" cy="457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362320" y="4495680"/>
            <a:ext cx="42670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0" cy="2819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687060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971800" y="4495680"/>
            <a:ext cx="2895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16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609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14400" y="25146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914400" y="4572000"/>
            <a:ext cx="7315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1218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7315200" cy="198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14400" y="4648320"/>
            <a:ext cx="73152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533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7315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7315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066680" y="4800600"/>
            <a:ext cx="6934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315200" cy="673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705720" y="42670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7315200" cy="673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29400" y="40384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7315200" cy="1219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731520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066680" y="4495680"/>
            <a:ext cx="7010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543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467480" cy="3047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746748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0120" cy="243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7620120" cy="135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7162560" cy="2286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850520" y="4267080"/>
            <a:ext cx="561600" cy="459720"/>
          </a:xfrm>
          <a:prstGeom prst="rect">
            <a:avLst/>
          </a:prstGeom>
          <a:solidFill>
            <a:srgbClr val="d5f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153280" y="4724280"/>
            <a:ext cx="304920" cy="1752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81080" y="4724280"/>
            <a:ext cx="457200" cy="304920"/>
          </a:xfrm>
          <a:prstGeom prst="rect">
            <a:avLst/>
          </a:prstGeom>
          <a:solidFill>
            <a:srgbClr val="e6f1ff"/>
          </a:solidFill>
          <a:ln w="9360">
            <a:solidFill>
              <a:srgbClr val="e6f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1:43:28Z</dcterms:modified>
  <cp:revision>43</cp:revision>
  <dc:subject/>
  <dc:title>PowerPoint Presentation</dc:title>
</cp:coreProperties>
</file>