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CA6-EC77-4B2D-A05B-75BAA249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CA5-09ED-4D50-BB34-E776A6E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CEE-75EC-4FAD-9B7D-8F3D8626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7E2-6982-49F6-B3DD-D4AC263E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740-901E-462A-B291-A6B60AD1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37FA-2124-4DB5-9A81-58F181D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F32-D60C-449E-9EBE-019E1FB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D0B-C058-4D5B-868D-0CECFAE2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794-03CF-49BB-A4AD-FAC3D146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A28-59EC-4796-8F44-69D97890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C5A-F264-4147-8102-1A32DBBB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B36-FA89-42EC-8B70-FE9950A7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A1A6-F51C-40C0-B30B-1A428B7D9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Mathematical Modeling</a:t>
            </a:r>
            <a:br>
              <a:rPr sz="5400"/>
            </a:br>
            <a:r>
              <a:rPr b="1" lang="en-US" sz="5400" spc="-1" strike="noStrike">
                <a:solidFill>
                  <a:srgbClr val="99cc00"/>
                </a:solidFill>
                <a:latin typeface="Arial"/>
              </a:rPr>
              <a:t>Linear Mode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858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3352680"/>
            <a:ext cx="68580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6858000" cy="1600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6782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2210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66680" y="3429000"/>
            <a:ext cx="685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6858000" cy="87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8580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6781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858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85800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85800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43000" y="4648320"/>
            <a:ext cx="6858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3828960"/>
            <a:ext cx="7315200" cy="150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7315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10640" cy="2210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7010640" cy="135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7010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6858000" cy="1175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219320" y="4495680"/>
            <a:ext cx="6858000" cy="86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05720" y="502920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3276720"/>
            <a:ext cx="304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5800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6858000" cy="1022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95280" y="3733920"/>
            <a:ext cx="6858000" cy="863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781680" y="4267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2666880"/>
            <a:ext cx="30456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19320" y="4724280"/>
            <a:ext cx="69339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7010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2209680"/>
            <a:ext cx="69343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43000" y="2286000"/>
            <a:ext cx="6934320" cy="2095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71600" y="4572000"/>
            <a:ext cx="6248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58000" cy="170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6858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9:55:04Z</dcterms:modified>
  <cp:revision>43</cp:revision>
  <dc:subject/>
  <dc:title>PowerPoint Presentation</dc:title>
</cp:coreProperties>
</file>