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95CA-E487-4EE1-B109-B7561AC4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B4A-072E-4044-BB57-020CA047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E3E-F9C4-4ED9-8447-F9DE9EF2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17D-1A3B-4D19-9BDB-B29E95C3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6AA5-A326-4480-BE9F-2DCEDDC5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133A-2A97-4868-8FF9-F49F05FD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066-E99B-4B40-B659-8B2FCE76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5D9-1CAC-4FC5-B082-216D1B6E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0EAD-9C9F-4D46-8A43-40756C61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98E7-7B3B-4D53-A23B-7BF27E7D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77C-64D9-4F10-9E57-CC9DC9E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F42-A8DA-4484-9EE6-E6F96BCD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8A51-2833-4EE3-B25D-924A2EA9A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Restric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15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1500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52480" y="3429000"/>
            <a:ext cx="571500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52480" y="43434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3276720"/>
            <a:ext cx="10670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5344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14600" y="1828800"/>
            <a:ext cx="4343400" cy="2819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4648320"/>
            <a:ext cx="655344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95280" y="1752480"/>
            <a:ext cx="1219320" cy="289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858000" y="1828800"/>
            <a:ext cx="990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39116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3911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315200" cy="3733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73152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086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1067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953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05:10Z</dcterms:modified>
  <cp:revision>44</cp:revision>
  <dc:subject/>
  <dc:title>PowerPoint Presentation</dc:title>
</cp:coreProperties>
</file>