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806-21D9-405F-B29D-BD406774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CB3C-FB50-483E-9029-0C34C825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11A-14CA-4E84-9351-689C7A62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3B88-43FF-44A7-AB22-3361C533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46A8-0957-45F5-B3C2-CB372198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1FF-8967-46B9-B5BA-27FCD4D7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E3F1-C1A6-4689-AAAD-7F2B8A10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D51A-9B89-4870-AF14-424FF6A7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E14-0399-403D-A80F-F5BA6735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3606-6078-4610-9F44-B0867552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606E-8D0D-41E4-8FC3-B2F99B05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BC03-09DB-4D90-B492-9BF23B24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8265-7591-4942-B11D-99F38F8FB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18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Methods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for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Times New Roman"/>
              </a:rPr>
              <a:t>Control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4343400"/>
            <a:ext cx="3886200" cy="198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Overview about contr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Design op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ando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st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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609480"/>
            <a:ext cx="7239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914400" y="762120"/>
            <a:ext cx="7238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685800"/>
            <a:ext cx="7467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077" t="13118" r="2155" b="42283"/>
          <a:stretch/>
        </p:blipFill>
        <p:spPr>
          <a:xfrm>
            <a:off x="1066680" y="1295280"/>
            <a:ext cx="7010640" cy="2590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43886" t="51020" r="16330" b="24171"/>
          <a:stretch/>
        </p:blipFill>
        <p:spPr>
          <a:xfrm>
            <a:off x="2895480" y="3886200"/>
            <a:ext cx="297180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rcRect l="44906" t="75842" r="16330" b="14507"/>
          <a:stretch/>
        </p:blipFill>
        <p:spPr>
          <a:xfrm>
            <a:off x="4724280" y="4800600"/>
            <a:ext cx="2895840" cy="457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791320" y="380988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886200"/>
            <a:ext cx="18288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43800" y="4724280"/>
            <a:ext cx="5335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5257800"/>
            <a:ext cx="701064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15834" r="0" b="49856"/>
          <a:stretch/>
        </p:blipFill>
        <p:spPr>
          <a:xfrm>
            <a:off x="914400" y="1523880"/>
            <a:ext cx="723888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55360" y="3962520"/>
            <a:ext cx="7479000" cy="12520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ingle adjusted estimate that controls for confou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mask the fact that the E-D relationship differ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t categories of a control 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10264"/>
          <a:stretch/>
        </p:blipFill>
        <p:spPr>
          <a:xfrm>
            <a:off x="990720" y="914400"/>
            <a:ext cx="7238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618c6"/>
                </a:solidFill>
                <a:latin typeface="Arial"/>
              </a:rPr>
              <a:t>Design Options</a:t>
            </a:r>
            <a:br>
              <a:rPr sz="6000"/>
            </a:br>
            <a:r>
              <a:rPr b="1" lang="en-US" sz="6000" spc="-1" strike="noStrike">
                <a:solidFill>
                  <a:srgbClr val="4618c6"/>
                </a:solidFill>
                <a:latin typeface="Arial"/>
              </a:rPr>
              <a:t> for Contro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7467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67840" cy="1828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746784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086600" cy="2590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V="1">
            <a:off x="3124080" y="1371600"/>
            <a:ext cx="13716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143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f6f1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r focu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1066680"/>
            <a:ext cx="243864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12918" r="0" b="39404"/>
          <a:stretch/>
        </p:blipFill>
        <p:spPr>
          <a:xfrm>
            <a:off x="914400" y="990720"/>
            <a:ext cx="7162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029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080" y="3086280"/>
            <a:ext cx="340992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vailable in this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162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3505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7238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7010640" cy="990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7010640" cy="1218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066680" y="1752480"/>
            <a:ext cx="701064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066680" y="3733920"/>
            <a:ext cx="70106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0195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7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52660"/>
          <a:stretch/>
        </p:blipFill>
        <p:spPr>
          <a:xfrm>
            <a:off x="990720" y="1066680"/>
            <a:ext cx="6933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391520" cy="4190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>
            <a:off x="3200400" y="2438280"/>
            <a:ext cx="76320" cy="685800"/>
          </a:xfrm>
          <a:prstGeom prst="line">
            <a:avLst/>
          </a:prstGeom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239240" cy="2749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7239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162920" cy="2209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7162920" cy="762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066680" y="4267080"/>
            <a:ext cx="7162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70866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7086600" cy="838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523880" y="3886200"/>
            <a:ext cx="5943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2210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7086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708660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066680" y="3962520"/>
            <a:ext cx="7086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2210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708660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7086600" cy="882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066680" y="3962520"/>
            <a:ext cx="70866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467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11804" r="0" b="8224"/>
          <a:stretch/>
        </p:blipFill>
        <p:spPr>
          <a:xfrm>
            <a:off x="609480" y="1523880"/>
            <a:ext cx="7848720" cy="4724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609480"/>
            <a:ext cx="777240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e typically think of when we contro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form str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31456"/>
          <a:stretch/>
        </p:blipFill>
        <p:spPr>
          <a:xfrm>
            <a:off x="914400" y="83808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618c6"/>
                </a:solidFill>
                <a:latin typeface="Arial"/>
              </a:rPr>
              <a:t>Reasons for Contro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1066680" y="838080"/>
            <a:ext cx="6934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762120"/>
            <a:ext cx="7467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610"/>
          <a:stretch/>
        </p:blipFill>
        <p:spPr>
          <a:xfrm>
            <a:off x="838080" y="76212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30T13:39:54Z</dcterms:created>
  <dc:creator>david g kleinbaum</dc:creator>
  <dc:description/>
  <dc:language>en-US</dc:language>
  <cp:lastModifiedBy>dkleinb</cp:lastModifiedBy>
  <dcterms:modified xsi:type="dcterms:W3CDTF">2005-01-10T19:56:35Z</dcterms:modified>
  <cp:revision>111</cp:revision>
  <dc:subject/>
  <dc:title>The Art in the State of the Art</dc:title>
</cp:coreProperties>
</file>