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7C9-3ADB-4425-994F-16AEB059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77B2-E049-4749-93C7-E97C514D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AEF4-EAF9-467F-9A3B-792C75D0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81D-A8B0-4538-BA4F-AC2986F8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777-7CA9-4FF7-8AFA-641B2058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4B48-CA8D-40CE-A3F1-FA55E777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349-4BE9-4799-9D5D-8A92A92F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155-F38B-4978-9FAC-C7EDC078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F67-ACB0-46F8-8F85-568D3268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0B92-8EAE-444E-85EC-0B3C8C52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9CC-83D3-42DA-9B0B-00DEE53D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A8F-792F-4269-8D7C-F243218A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09CF-D603-4DB6-8BA9-3A9AFE173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Reasons for Contr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8580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7610" r="0" b="34109"/>
          <a:stretch/>
        </p:blipFill>
        <p:spPr>
          <a:xfrm>
            <a:off x="1143000" y="114300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914400"/>
            <a:ext cx="7086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14400" y="609480"/>
            <a:ext cx="7238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12918"/>
          <a:stretch/>
        </p:blipFill>
        <p:spPr>
          <a:xfrm>
            <a:off x="990720" y="762120"/>
            <a:ext cx="7162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990720" y="838080"/>
            <a:ext cx="7010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9144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28815"/>
          <a:stretch/>
        </p:blipFill>
        <p:spPr>
          <a:xfrm>
            <a:off x="1066680" y="68580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3200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14400" y="4343400"/>
            <a:ext cx="754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990720" y="1447920"/>
            <a:ext cx="6781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7238880" cy="1067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7238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23888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8880" cy="191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7162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543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2438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7543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620120" cy="243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14400" y="3124080"/>
            <a:ext cx="7620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36763"/>
          <a:stretch/>
        </p:blipFill>
        <p:spPr>
          <a:xfrm>
            <a:off x="990720" y="533520"/>
            <a:ext cx="7315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1066680"/>
            <a:ext cx="7238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90720" y="685800"/>
            <a:ext cx="7238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838080"/>
            <a:ext cx="716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094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04:09:24Z</dcterms:modified>
  <cp:revision>45</cp:revision>
  <dc:subject/>
  <dc:title>PowerPoint Presentation</dc:title>
</cp:coreProperties>
</file>