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E3B5-502E-4323-A0C8-3CDAF128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A545-4A50-4973-BD46-7472974C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6E89-D0D2-40AB-AC1F-DD80F2BC6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BC1A-1BC1-4680-9886-66607CDA9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32BA-6823-453B-9BA0-E36C49E8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ECC9-89B1-4FCC-8C74-0EDD1A4E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2066-0146-4DAF-B5C6-145A7C8B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B805-723E-47D6-A654-1D27D702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2AD2-0E90-4B7D-B795-8F441973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398F-361C-415C-B676-E5685C5B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0844-DE64-45E3-83C1-935DA679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8357-833A-470B-A645-509CE3CA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A67F-3692-44DE-BBA8-9020340E5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990720"/>
            <a:ext cx="76201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Methods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for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Control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4648320"/>
            <a:ext cx="3810240" cy="1252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nalysis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ratified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thematical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81680" cy="1295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219320" y="2971800"/>
            <a:ext cx="6705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3657600"/>
            <a:ext cx="7924680" cy="1162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79246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7924680" cy="1162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7924680" cy="2133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762120" y="3809880"/>
            <a:ext cx="7924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924680" cy="2133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7924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2133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09480" y="2743200"/>
            <a:ext cx="792504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5800" y="3809880"/>
            <a:ext cx="7848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3657600"/>
            <a:ext cx="7924680" cy="990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1447920"/>
            <a:ext cx="7924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924680" cy="990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7924680" cy="1981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62120" y="3657600"/>
            <a:ext cx="7924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4678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162920" cy="2133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143000" y="1371600"/>
            <a:ext cx="71629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Another Analysis Op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43000" y="3886200"/>
            <a:ext cx="7162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315200" cy="4724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066680" y="5257800"/>
            <a:ext cx="73152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7053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467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4070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14400" y="4800600"/>
            <a:ext cx="7315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543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467480" cy="2286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85800" y="3276720"/>
            <a:ext cx="74674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149960" cy="1066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62120" y="1828800"/>
            <a:ext cx="71625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149960" cy="1066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14400" y="838080"/>
            <a:ext cx="7162920" cy="762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914400" y="2768760"/>
            <a:ext cx="71629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2120" y="2666880"/>
            <a:ext cx="7467480" cy="1175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62120" y="1371600"/>
            <a:ext cx="7467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467480" cy="1174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7467480" cy="1295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762120" y="3124080"/>
            <a:ext cx="7467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001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001000" cy="3124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3520" y="3809880"/>
            <a:ext cx="8001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2971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14400" y="3733920"/>
            <a:ext cx="7238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924680" cy="2133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7924680" cy="2819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85800" y="2514600"/>
            <a:ext cx="7924680" cy="990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019920" y="5486400"/>
            <a:ext cx="20066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7924680" cy="3035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7924680" cy="2133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85800" y="2514600"/>
            <a:ext cx="792468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562720" y="4572000"/>
            <a:ext cx="28191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7924680" cy="3651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62120" y="762120"/>
            <a:ext cx="79246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086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7086600" cy="2133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143000" y="3276720"/>
            <a:ext cx="7086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67816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3-11-16T16:05:41Z</dcterms:modified>
  <cp:revision>109</cp:revision>
  <dc:subject/>
  <dc:title>The Art in the State of the Art</dc:title>
</cp:coreProperties>
</file>