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AE8-61EB-4446-AA00-90FC1EB9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44C-492B-4ED3-BAD5-41AD0E1D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2BC-D6CF-4A39-A86A-B9AAB644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E0B-8176-457E-84F6-D647E020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3A0-FB34-499C-B35B-C0E5D770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0AA-EDD7-4279-8334-7747D61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F76-F1E8-428D-9C00-39BFA1E3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FAE-03DB-4CA2-8C8F-A73E4E4E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A14-F270-4687-AA78-D3800D88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FB9-1AAA-4206-9C91-AB5FF66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739-EB31-4DAF-BBCB-4F98DAC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FDD-3DCE-4A5E-B82F-F5D41CC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0F8-2F3B-48D3-BD7E-5FD69CE88F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6160" y="1523880"/>
            <a:ext cx="7887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ed Estim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eighting b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ci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6672"/>
          <a:stretch/>
        </p:blipFill>
        <p:spPr>
          <a:xfrm>
            <a:off x="685800" y="533520"/>
            <a:ext cx="731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685800" y="7621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5859"/>
          <a:stretch/>
        </p:blipFill>
        <p:spPr>
          <a:xfrm>
            <a:off x="838080" y="83808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474"/>
          <a:stretch/>
        </p:blipFill>
        <p:spPr>
          <a:xfrm>
            <a:off x="838080" y="533520"/>
            <a:ext cx="739152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44009" t="77632" r="40002" b="7610"/>
          <a:stretch/>
        </p:blipFill>
        <p:spPr>
          <a:xfrm>
            <a:off x="1905120" y="5334120"/>
            <a:ext cx="167616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5257800"/>
            <a:ext cx="4572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334120"/>
            <a:ext cx="1066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1143000" y="990720"/>
            <a:ext cx="7086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106668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533520" y="6094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3948"/>
          <a:stretch/>
        </p:blipFill>
        <p:spPr>
          <a:xfrm>
            <a:off x="685800" y="137160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8975"/>
          <a:stretch/>
        </p:blipFill>
        <p:spPr>
          <a:xfrm>
            <a:off x="762120" y="6858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14400" y="990720"/>
            <a:ext cx="7162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762120" y="114300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68580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609480" y="533520"/>
            <a:ext cx="8077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410"/>
          <a:stretch/>
        </p:blipFill>
        <p:spPr>
          <a:xfrm>
            <a:off x="685800" y="4572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6:18:44Z</dcterms:modified>
  <cp:revision>217</cp:revision>
  <dc:subject/>
  <dc:title>Slide 1</dc:title>
</cp:coreProperties>
</file>