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0493-08A8-4671-A87B-8128C52D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744D-DBF5-4C18-BEB4-4C3619E0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0C7-4BBB-4328-8E95-F85B72E1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4A6F-22E6-435F-8F73-3B1FFB44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6CC9-9B16-49B4-BC92-67E8F30F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CE3E-8F4F-4C2D-8115-169C6D90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282C-B851-4BF7-B4C8-F93BEAFB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8D7B-9906-4850-B41A-EF54DF44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12A3-786F-433E-8F4B-363318BB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75A0-FAB2-44D3-8EBD-276B9C49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97C4-3E59-4F81-BC57-92EDFF71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A873-A222-4214-B6A7-776F0F40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2499-8FC8-49D8-BBEF-B425D84045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06600" y="1828800"/>
            <a:ext cx="6314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Large-sampl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Interval Estim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Stratified Analysi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762120" y="533520"/>
            <a:ext cx="7772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11904"/>
          <a:stretch/>
        </p:blipFill>
        <p:spPr>
          <a:xfrm>
            <a:off x="685800" y="457200"/>
            <a:ext cx="7848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5997"/>
          <a:stretch/>
        </p:blipFill>
        <p:spPr>
          <a:xfrm>
            <a:off x="762120" y="53352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36087"/>
          <a:stretch/>
        </p:blipFill>
        <p:spPr>
          <a:xfrm>
            <a:off x="762120" y="533520"/>
            <a:ext cx="7696080" cy="2666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0" t="63925" r="0" b="15997"/>
          <a:stretch/>
        </p:blipFill>
        <p:spPr>
          <a:xfrm>
            <a:off x="762120" y="3200400"/>
            <a:ext cx="7696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3093"/>
          <a:stretch/>
        </p:blipFill>
        <p:spPr>
          <a:xfrm>
            <a:off x="762120" y="457200"/>
            <a:ext cx="7772400" cy="5867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705720" y="6095880"/>
            <a:ext cx="16761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40831"/>
          <a:stretch/>
        </p:blipFill>
        <p:spPr>
          <a:xfrm>
            <a:off x="762120" y="457200"/>
            <a:ext cx="7772400" cy="2666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65941" r="0" b="18851"/>
          <a:stretch/>
        </p:blipFill>
        <p:spPr>
          <a:xfrm>
            <a:off x="762120" y="3124080"/>
            <a:ext cx="7772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40831"/>
          <a:stretch/>
        </p:blipFill>
        <p:spPr>
          <a:xfrm>
            <a:off x="762120" y="457200"/>
            <a:ext cx="7772400" cy="2666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80486" r="0" b="14169"/>
          <a:stretch/>
        </p:blipFill>
        <p:spPr>
          <a:xfrm>
            <a:off x="762120" y="3124080"/>
            <a:ext cx="7772400" cy="533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705720" y="3048120"/>
            <a:ext cx="16761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7060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162920" y="5791320"/>
            <a:ext cx="144756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54938"/>
          <a:stretch/>
        </p:blipFill>
        <p:spPr>
          <a:xfrm>
            <a:off x="914400" y="838080"/>
            <a:ext cx="7696080" cy="4038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0" t="52660" r="0" b="23507"/>
          <a:stretch/>
        </p:blipFill>
        <p:spPr>
          <a:xfrm>
            <a:off x="914400" y="4876920"/>
            <a:ext cx="7696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58280" r="0" b="15233"/>
          <a:stretch/>
        </p:blipFill>
        <p:spPr>
          <a:xfrm>
            <a:off x="914400" y="3962520"/>
            <a:ext cx="7620120" cy="1676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0" t="0" r="0" b="56703"/>
          <a:stretch/>
        </p:blipFill>
        <p:spPr>
          <a:xfrm>
            <a:off x="914400" y="762120"/>
            <a:ext cx="7620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8838"/>
          <a:stretch/>
        </p:blipFill>
        <p:spPr>
          <a:xfrm>
            <a:off x="990720" y="685800"/>
            <a:ext cx="7391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7950"/>
          <a:stretch/>
        </p:blipFill>
        <p:spPr>
          <a:xfrm>
            <a:off x="762120" y="6094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11691"/>
          <a:stretch/>
        </p:blipFill>
        <p:spPr>
          <a:xfrm>
            <a:off x="762120" y="609480"/>
            <a:ext cx="7467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41107"/>
          <a:stretch/>
        </p:blipFill>
        <p:spPr>
          <a:xfrm>
            <a:off x="685800" y="1219320"/>
            <a:ext cx="76201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10001"/>
          <a:stretch/>
        </p:blipFill>
        <p:spPr>
          <a:xfrm>
            <a:off x="609480" y="762120"/>
            <a:ext cx="7925040" cy="5486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13320" y="419112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Times New Roman"/>
              </a:rPr>
              <a:t>Difference measu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48006" t="56628" r="12002" b="18213"/>
          <a:stretch/>
        </p:blipFill>
        <p:spPr>
          <a:xfrm>
            <a:off x="4648320" y="4724280"/>
            <a:ext cx="3200400" cy="1524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48680" y="426708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Times New Roman"/>
              </a:rPr>
              <a:t>Ratio measu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13156"/>
          <a:stretch/>
        </p:blipFill>
        <p:spPr>
          <a:xfrm>
            <a:off x="609480" y="609480"/>
            <a:ext cx="78487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20:50:59Z</dcterms:modified>
  <cp:revision>217</cp:revision>
  <dc:subject/>
  <dc:title>Slide 1</dc:title>
</cp:coreProperties>
</file>