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AFC-2A5E-4E38-A4FF-136064BA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21A-DDEE-46B2-A350-62B604BC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A5A-478C-46F7-BBD6-93A3DA94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B24-E728-4534-B6A4-7250A069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35B-7817-4E2C-9FCE-CBDA6D62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8FE-437B-4C45-A15A-83045DD8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DA0-AC6A-4244-A2EC-0B8C6F2A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2E8-41AB-45AB-81F2-EAAEB9C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88B-AC44-4B0D-915B-22E1E325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A01-632C-46BB-A41E-E94AA625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7A8-49EB-4D55-82EB-77B5C39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16B-057E-4813-8C69-E3B51E46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1F0D-3DD9-4A7A-9A5F-B15C4F122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1080" y="1447920"/>
            <a:ext cx="682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veral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ssess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685800"/>
            <a:ext cx="647712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005" t="84391" r="0" b="7836"/>
          <a:stretch/>
        </p:blipFill>
        <p:spPr>
          <a:xfrm>
            <a:off x="1066680" y="5943600"/>
            <a:ext cx="647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7887"/>
          <a:stretch/>
        </p:blipFill>
        <p:spPr>
          <a:xfrm>
            <a:off x="762120" y="5335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936"/>
          <a:stretch/>
        </p:blipFill>
        <p:spPr>
          <a:xfrm>
            <a:off x="990720" y="60948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6858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09480"/>
            <a:ext cx="739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2580"/>
          <a:stretch/>
        </p:blipFill>
        <p:spPr>
          <a:xfrm>
            <a:off x="1143000" y="91440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762120"/>
            <a:ext cx="7848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1:05:22Z</dcterms:modified>
  <cp:revision>217</cp:revision>
  <dc:subject/>
  <dc:title>Slide 1</dc:title>
</cp:coreProperties>
</file>