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C8B-A5B7-4BCC-B830-DBB092A8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A57-A5BF-4FA1-A712-BF3E0A3B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A81-BB54-47C8-85DB-609F57D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5A4-3C91-43C9-82D1-9C6E4F64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00D-28DC-4130-8283-45871174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B23-7C76-487C-BEEB-CCE7EE50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142-1B9A-4B24-8B5D-42801AD1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3F4-C47D-4FC4-8DF0-AC2553D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467-1975-49A8-8F34-319F795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7A0-CB5E-4A5E-93D3-7012CA7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458-40E1-4C5E-BB44-CA3B529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1F2-0F89-46EB-9274-A426B0B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F8B-7E36-4D49-9BC0-AC1EC5322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82880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m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24797"/>
          <a:stretch/>
        </p:blipFill>
        <p:spPr>
          <a:xfrm>
            <a:off x="609480" y="457200"/>
            <a:ext cx="8077320" cy="441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75216" r="0" b="12267"/>
          <a:stretch/>
        </p:blipFill>
        <p:spPr>
          <a:xfrm>
            <a:off x="609480" y="4876920"/>
            <a:ext cx="8077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25973"/>
          <a:stretch/>
        </p:blipFill>
        <p:spPr>
          <a:xfrm>
            <a:off x="609480" y="106668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147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91440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9638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5791320"/>
            <a:ext cx="7315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on? Can’t tell.    Confounding?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12193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39442"/>
          <a:stretch/>
        </p:blipFill>
        <p:spPr>
          <a:xfrm>
            <a:off x="685800" y="3808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3418"/>
          <a:stretch/>
        </p:blipFill>
        <p:spPr>
          <a:xfrm>
            <a:off x="9907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11253"/>
          <a:stretch/>
        </p:blipFill>
        <p:spPr>
          <a:xfrm>
            <a:off x="9144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914400" y="53352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762120" y="12952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971800"/>
            <a:ext cx="769608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297180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9528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5078"/>
          <a:stretch/>
        </p:blipFill>
        <p:spPr>
          <a:xfrm>
            <a:off x="609480" y="457200"/>
            <a:ext cx="7696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09480" y="2133720"/>
            <a:ext cx="769644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133720"/>
            <a:ext cx="35816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505320"/>
            <a:ext cx="1676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762120" y="175248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2895480"/>
            <a:ext cx="7696080" cy="19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289548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42670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4934" r="0" b="61472"/>
          <a:stretch/>
        </p:blipFill>
        <p:spPr>
          <a:xfrm>
            <a:off x="685800" y="762120"/>
            <a:ext cx="7696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685800" y="190512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1905120"/>
            <a:ext cx="35812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2767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914400" y="16765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914400" y="251460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2514600"/>
            <a:ext cx="3809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43434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2860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8540" r="0" b="51496"/>
          <a:stretch/>
        </p:blipFill>
        <p:spPr>
          <a:xfrm>
            <a:off x="762120" y="91440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44749" r="0" b="6935"/>
          <a:stretch/>
        </p:blipFill>
        <p:spPr>
          <a:xfrm>
            <a:off x="762120" y="1752480"/>
            <a:ext cx="769608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752480"/>
            <a:ext cx="3810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3581280"/>
            <a:ext cx="1676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52388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20:12:57Z</dcterms:modified>
  <cp:revision>217</cp:revision>
  <dc:subject/>
  <dc:title>Slide 1</dc:title>
</cp:coreProperties>
</file>