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508C-7F13-4998-A516-C3250274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E147-714F-4684-8880-59C67EC3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4875-94CB-4812-8AB9-697162D2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C9E1-22CA-40B1-8479-0171FDE3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DE1E-8DB3-44B0-90C1-076CF77A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8486-6CBB-4D19-BB66-00519753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431B-696C-4342-B86D-5E5C62A9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B6F0-083A-4A28-9B09-4E671048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8909-1BDA-4496-AE3B-1B3128AA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07D2-546B-4CE0-8864-2A6F84A1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EBD6-17FE-4D61-B72E-C3AD2421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07C0-BA23-42F0-A31C-62638B8A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68A4-1611-4CD4-8B48-665C55C59A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7960" y="1447920"/>
            <a:ext cx="616248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Example- part 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Stratified Analysi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with Several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ontrol Variabl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685800" y="304920"/>
            <a:ext cx="7772400" cy="3657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2120" y="4114800"/>
            <a:ext cx="76197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762120" y="53352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8989"/>
          <a:stretch/>
        </p:blipFill>
        <p:spPr>
          <a:xfrm>
            <a:off x="457200" y="457200"/>
            <a:ext cx="8077320" cy="4343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3520" y="4952880"/>
            <a:ext cx="7924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762120" y="533520"/>
            <a:ext cx="76197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685800" y="304920"/>
            <a:ext cx="7924680" cy="3886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5800" y="4267080"/>
            <a:ext cx="78487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914400" y="609480"/>
            <a:ext cx="73915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533520" y="304920"/>
            <a:ext cx="8001000" cy="3886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09480" y="4267080"/>
            <a:ext cx="78487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79146"/>
          <a:stretch/>
        </p:blipFill>
        <p:spPr>
          <a:xfrm>
            <a:off x="457200" y="228600"/>
            <a:ext cx="815328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838080"/>
            <a:ext cx="8153280" cy="271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" y="3429000"/>
            <a:ext cx="8153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79146"/>
          <a:stretch/>
        </p:blipFill>
        <p:spPr>
          <a:xfrm>
            <a:off x="990720" y="914400"/>
            <a:ext cx="7315200" cy="1066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0" t="34447" r="0" b="20866"/>
          <a:stretch/>
        </p:blipFill>
        <p:spPr>
          <a:xfrm>
            <a:off x="990720" y="1981080"/>
            <a:ext cx="7315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42584" r="0" b="47928"/>
          <a:stretch/>
        </p:blipFill>
        <p:spPr>
          <a:xfrm>
            <a:off x="533520" y="2514600"/>
            <a:ext cx="7924680" cy="838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0" t="0" r="0" b="79146"/>
          <a:stretch/>
        </p:blipFill>
        <p:spPr>
          <a:xfrm>
            <a:off x="533520" y="1143000"/>
            <a:ext cx="7924680" cy="1371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371600" y="3505320"/>
            <a:ext cx="624852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55301"/>
          <a:stretch/>
        </p:blipFill>
        <p:spPr>
          <a:xfrm>
            <a:off x="762120" y="68580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52084" r="0" b="38415"/>
          <a:stretch/>
        </p:blipFill>
        <p:spPr>
          <a:xfrm>
            <a:off x="457200" y="2590920"/>
            <a:ext cx="7848720" cy="838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rcRect l="0" t="0" r="0" b="79146"/>
          <a:stretch/>
        </p:blipFill>
        <p:spPr>
          <a:xfrm>
            <a:off x="457200" y="1143000"/>
            <a:ext cx="7848720" cy="1523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09480" y="3809880"/>
            <a:ext cx="76201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62236" r="0" b="27638"/>
          <a:stretch/>
        </p:blipFill>
        <p:spPr>
          <a:xfrm>
            <a:off x="762120" y="1295280"/>
            <a:ext cx="7467480" cy="838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0" t="0" r="0" b="79146"/>
          <a:stretch/>
        </p:blipFill>
        <p:spPr>
          <a:xfrm>
            <a:off x="762120" y="304920"/>
            <a:ext cx="7467480" cy="990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762120" y="2209680"/>
            <a:ext cx="7467480" cy="1752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57200" y="4191120"/>
            <a:ext cx="2565360" cy="2057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276720" y="4191120"/>
            <a:ext cx="2463840" cy="2057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6095880" y="4191120"/>
            <a:ext cx="2451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0" r="0" b="19239"/>
          <a:stretch/>
        </p:blipFill>
        <p:spPr>
          <a:xfrm>
            <a:off x="1219320" y="533520"/>
            <a:ext cx="69339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0" b="19239"/>
          <a:stretch/>
        </p:blipFill>
        <p:spPr>
          <a:xfrm>
            <a:off x="609480" y="304920"/>
            <a:ext cx="7848720" cy="4572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5800" y="5029200"/>
            <a:ext cx="7543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609480" y="533520"/>
            <a:ext cx="7772400" cy="5715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934320" y="5638680"/>
            <a:ext cx="12952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60996"/>
          <a:stretch/>
        </p:blipFill>
        <p:spPr>
          <a:xfrm>
            <a:off x="914400" y="838080"/>
            <a:ext cx="731520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46564" r="0" b="15697"/>
          <a:stretch/>
        </p:blipFill>
        <p:spPr>
          <a:xfrm>
            <a:off x="914400" y="3200400"/>
            <a:ext cx="7315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56465" r="0" b="32257"/>
          <a:stretch/>
        </p:blipFill>
        <p:spPr>
          <a:xfrm>
            <a:off x="533520" y="3733920"/>
            <a:ext cx="761976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0" t="0" r="0" b="61422"/>
          <a:stretch/>
        </p:blipFill>
        <p:spPr>
          <a:xfrm>
            <a:off x="533520" y="685800"/>
            <a:ext cx="7619760" cy="3124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09480" y="4800600"/>
            <a:ext cx="7391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68031" r="0" b="21167"/>
          <a:stretch/>
        </p:blipFill>
        <p:spPr>
          <a:xfrm>
            <a:off x="685800" y="3124080"/>
            <a:ext cx="7620120" cy="838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0" t="0" r="0" b="61422"/>
          <a:stretch/>
        </p:blipFill>
        <p:spPr>
          <a:xfrm>
            <a:off x="685800" y="380880"/>
            <a:ext cx="7620120" cy="2743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5800" y="4114800"/>
            <a:ext cx="7620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38703"/>
          <a:stretch/>
        </p:blipFill>
        <p:spPr>
          <a:xfrm>
            <a:off x="914400" y="76212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685800" y="685800"/>
            <a:ext cx="7924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609480" y="304920"/>
            <a:ext cx="7925040" cy="3886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9480" y="4343400"/>
            <a:ext cx="7925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066680" y="91440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7T02:26:12Z</dcterms:modified>
  <cp:revision>219</cp:revision>
  <dc:subject/>
  <dc:title>Slide 1</dc:title>
</cp:coreProperties>
</file>