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6C8-9326-4813-AACC-D4BA43D7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946-86DC-47EF-A133-4A723554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F7F-F87E-4A1F-913E-D92E874D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D35-1ED1-4CA9-B879-D30B0992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882-DFA5-4F1D-9834-3C3EDDD9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D55-0567-4479-9DD6-37F22AEB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43E-D8CA-45D1-AAB3-08DA6B5A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824-1700-4A2E-8486-95960577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098-0FF9-4455-8172-6D93061E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787-6CDD-466B-A0AF-D7D61E4C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0BD-5EDE-4731-A962-CF9C379E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F1F-AF35-4FAD-97F5-F1267E1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137E-60E0-4669-BE86-DE6870F52E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680" y="1447920"/>
            <a:ext cx="682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ith Sever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ontrol Variabl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29628"/>
          <a:stretch/>
        </p:blipFill>
        <p:spPr>
          <a:xfrm>
            <a:off x="1295280" y="1523880"/>
            <a:ext cx="6629400" cy="403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4267080"/>
            <a:ext cx="6629400" cy="1295640"/>
          </a:xfrm>
          <a:prstGeom prst="rect">
            <a:avLst/>
          </a:prstGeom>
          <a:solidFill>
            <a:srgbClr val="57fac4"/>
          </a:solidFill>
          <a:ln w="9360">
            <a:solidFill>
              <a:srgbClr val="5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990720" y="533520"/>
            <a:ext cx="746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40656" r="0" b="48905"/>
          <a:stretch/>
        </p:blipFill>
        <p:spPr>
          <a:xfrm>
            <a:off x="914400" y="2971800"/>
            <a:ext cx="716292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914400" y="685800"/>
            <a:ext cx="71629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7086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50307" r="0" b="44148"/>
          <a:stretch/>
        </p:blipFill>
        <p:spPr>
          <a:xfrm>
            <a:off x="1143000" y="3048120"/>
            <a:ext cx="701028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1143000" y="914400"/>
            <a:ext cx="701028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219320" y="3733920"/>
            <a:ext cx="685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56002" r="0" b="34923"/>
          <a:stretch/>
        </p:blipFill>
        <p:spPr>
          <a:xfrm>
            <a:off x="990720" y="304812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990720" y="914400"/>
            <a:ext cx="74674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391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65089" r="0" b="24797"/>
          <a:stretch/>
        </p:blipFill>
        <p:spPr>
          <a:xfrm>
            <a:off x="1066680" y="274320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65039"/>
          <a:stretch/>
        </p:blipFill>
        <p:spPr>
          <a:xfrm>
            <a:off x="1066680" y="762120"/>
            <a:ext cx="708660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3809880"/>
            <a:ext cx="7010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68580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7487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6398"/>
          <a:stretch/>
        </p:blipFill>
        <p:spPr>
          <a:xfrm>
            <a:off x="533520" y="457200"/>
            <a:ext cx="8076960" cy="4191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7696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6398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998"/>
          <a:stretch/>
        </p:blipFill>
        <p:spPr>
          <a:xfrm>
            <a:off x="914400" y="6858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7023"/>
          <a:stretch/>
        </p:blipFill>
        <p:spPr>
          <a:xfrm>
            <a:off x="533520" y="304920"/>
            <a:ext cx="7772400" cy="4419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96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6110"/>
          <a:stretch/>
        </p:blipFill>
        <p:spPr>
          <a:xfrm>
            <a:off x="609480" y="380880"/>
            <a:ext cx="777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65953" r="0" b="23395"/>
          <a:stretch/>
        </p:blipFill>
        <p:spPr>
          <a:xfrm>
            <a:off x="1219320" y="3505320"/>
            <a:ext cx="708660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1219320" y="609480"/>
            <a:ext cx="7086600" cy="2895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95280" y="4572000"/>
            <a:ext cx="701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76055" r="0" b="17099"/>
          <a:stretch/>
        </p:blipFill>
        <p:spPr>
          <a:xfrm>
            <a:off x="1219320" y="3429000"/>
            <a:ext cx="708660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1219320" y="685800"/>
            <a:ext cx="708660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219320" y="4191120"/>
            <a:ext cx="7010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59870" r="0" b="14733"/>
          <a:stretch/>
        </p:blipFill>
        <p:spPr>
          <a:xfrm>
            <a:off x="838080" y="3581280"/>
            <a:ext cx="746784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838080" y="838080"/>
            <a:ext cx="7467840" cy="2743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553080" y="571500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65653" r="0" b="23970"/>
          <a:stretch/>
        </p:blipFill>
        <p:spPr>
          <a:xfrm>
            <a:off x="762120" y="3429000"/>
            <a:ext cx="75438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762120" y="685800"/>
            <a:ext cx="754380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4495680"/>
            <a:ext cx="7467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76042" r="0" b="14733"/>
          <a:stretch/>
        </p:blipFill>
        <p:spPr>
          <a:xfrm>
            <a:off x="838080" y="3200400"/>
            <a:ext cx="73915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0" r="0" b="40243"/>
          <a:stretch/>
        </p:blipFill>
        <p:spPr>
          <a:xfrm>
            <a:off x="838080" y="457200"/>
            <a:ext cx="7391520" cy="274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77120" y="37339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391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31130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13519"/>
          <a:stretch/>
        </p:blipFill>
        <p:spPr>
          <a:xfrm>
            <a:off x="685800" y="457200"/>
            <a:ext cx="8001000" cy="5867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0" y="6095880"/>
            <a:ext cx="1752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0" b="43297"/>
          <a:stretch/>
        </p:blipFill>
        <p:spPr>
          <a:xfrm>
            <a:off x="609480" y="762120"/>
            <a:ext cx="777240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60721" r="0" b="29077"/>
          <a:stretch/>
        </p:blipFill>
        <p:spPr>
          <a:xfrm>
            <a:off x="609480" y="3505320"/>
            <a:ext cx="77724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7772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9939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0" b="43297"/>
          <a:stretch/>
        </p:blipFill>
        <p:spPr>
          <a:xfrm>
            <a:off x="609480" y="762120"/>
            <a:ext cx="777240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71235" r="0" b="23770"/>
          <a:stretch/>
        </p:blipFill>
        <p:spPr>
          <a:xfrm>
            <a:off x="609480" y="3657600"/>
            <a:ext cx="77724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7696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43297"/>
          <a:stretch/>
        </p:blipFill>
        <p:spPr>
          <a:xfrm>
            <a:off x="685800" y="762120"/>
            <a:ext cx="7772400" cy="289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76242" r="0" b="14357"/>
          <a:stretch/>
        </p:blipFill>
        <p:spPr>
          <a:xfrm>
            <a:off x="685800" y="3657600"/>
            <a:ext cx="7772400" cy="838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53080" y="4191120"/>
            <a:ext cx="17528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38080" y="4724280"/>
            <a:ext cx="7467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13431"/>
          <a:stretch/>
        </p:blipFill>
        <p:spPr>
          <a:xfrm>
            <a:off x="685800" y="457200"/>
            <a:ext cx="784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43347"/>
          <a:stretch/>
        </p:blipFill>
        <p:spPr>
          <a:xfrm>
            <a:off x="609480" y="30492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62511" r="0" b="27350"/>
          <a:stretch/>
        </p:blipFill>
        <p:spPr>
          <a:xfrm>
            <a:off x="609480" y="2971800"/>
            <a:ext cx="807732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800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43347"/>
          <a:stretch/>
        </p:blipFill>
        <p:spPr>
          <a:xfrm>
            <a:off x="380880" y="380880"/>
            <a:ext cx="822960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0" t="72274" r="0" b="23445"/>
          <a:stretch/>
        </p:blipFill>
        <p:spPr>
          <a:xfrm>
            <a:off x="380880" y="39625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8001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43347"/>
          <a:stretch/>
        </p:blipFill>
        <p:spPr>
          <a:xfrm>
            <a:off x="609480" y="380880"/>
            <a:ext cx="807732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77356" r="0" b="17574"/>
          <a:stretch/>
        </p:blipFill>
        <p:spPr>
          <a:xfrm>
            <a:off x="609480" y="3809880"/>
            <a:ext cx="8077320" cy="533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8001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838080" y="5335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6858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838080" y="68580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6858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2:04:19Z</dcterms:modified>
  <cp:revision>221</cp:revision>
  <dc:subject/>
  <dc:title>Slide 1</dc:title>
</cp:coreProperties>
</file>