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D86-3F3A-42D0-AF70-E153FC0C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FB8-FB92-4DA1-AB2B-A5693D00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888-F922-41DA-A0D4-99A15D46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DFE-426A-4F43-AB7A-AB5F4076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E60-843F-44E2-948E-E75C5BB3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601-63A1-47CB-B27E-36AA9895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8DD-46A7-4F7C-83B3-F3F78E9D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E12-B6D5-4A74-9B64-5C37EF56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273-66B1-4F5B-B2F4-E2B0822A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2EA-931A-48A3-82AD-1BB627B8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A04-278D-4E50-9270-8A5AB050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8CD-FDCA-444A-96BD-A28C30EE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07E5-34ED-49C0-B2E0-A24C8075D0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240" y="1523880"/>
            <a:ext cx="771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- ba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ed 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aOR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22957"/>
          <a:stretch/>
        </p:blipFill>
        <p:spPr>
          <a:xfrm>
            <a:off x="990720" y="990720"/>
            <a:ext cx="739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9907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699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8214"/>
          <a:stretch/>
        </p:blipFill>
        <p:spPr>
          <a:xfrm>
            <a:off x="91440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1371600" y="762120"/>
            <a:ext cx="6934320" cy="487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84760" y="2476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Times New Roman"/>
              </a:rPr>
              <a:t>Precision-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838080" y="609480"/>
            <a:ext cx="74678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965"/>
          <a:stretch/>
        </p:blipFill>
        <p:spPr>
          <a:xfrm>
            <a:off x="76212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7149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30442"/>
          <a:stretch/>
        </p:blipFill>
        <p:spPr>
          <a:xfrm>
            <a:off x="838080" y="1219320"/>
            <a:ext cx="7925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169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8:47:07Z</dcterms:modified>
  <cp:revision>218</cp:revision>
  <dc:subject/>
  <dc:title>Slide 1</dc:title>
</cp:coreProperties>
</file>