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02A-24B0-4C8F-B82A-11D543EB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87A2-4202-48C6-A1B4-7BF0A6A0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2E2-86E3-441F-A61E-A3255DBF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C512-3379-4E11-B383-E2ED4641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5401-EA42-4887-AD6A-37E9F305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3BE0-CD75-41C3-AAB4-AA8F5340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799-A6E4-4034-AA88-8159E656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D26-D232-4327-93C5-A01F2D61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11C-CA5B-4B7D-9309-04AC69E3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0C9-52EE-4607-8B7E-F062787F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CB3-5DCF-40CF-8995-84E5DE7A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A42-74D5-4C23-B376-FB36BF27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0E6A-3764-47B8-9531-45856AACF2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5120" y="990720"/>
            <a:ext cx="71787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Adjusted Estimat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verall Effec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in 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27713" r="0" b="8975"/>
          <a:stretch/>
        </p:blipFill>
        <p:spPr>
          <a:xfrm>
            <a:off x="685800" y="2819520"/>
            <a:ext cx="769608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0" r="0" b="74527"/>
          <a:stretch/>
        </p:blipFill>
        <p:spPr>
          <a:xfrm>
            <a:off x="685800" y="6094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38916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0872"/>
          <a:stretch/>
        </p:blipFill>
        <p:spPr>
          <a:xfrm>
            <a:off x="762120" y="838080"/>
            <a:ext cx="7619760" cy="1676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59895" r="0" b="9363"/>
          <a:stretch/>
        </p:blipFill>
        <p:spPr>
          <a:xfrm>
            <a:off x="762120" y="2514600"/>
            <a:ext cx="761976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88709" r="0" b="7285"/>
          <a:stretch/>
        </p:blipFill>
        <p:spPr>
          <a:xfrm>
            <a:off x="762120" y="5486400"/>
            <a:ext cx="76197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12617" r="0" b="54976"/>
          <a:stretch/>
        </p:blipFill>
        <p:spPr>
          <a:xfrm>
            <a:off x="1219320" y="1905120"/>
            <a:ext cx="6324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10264" r="0" b="28815"/>
          <a:stretch/>
        </p:blipFill>
        <p:spPr>
          <a:xfrm>
            <a:off x="1143000" y="1066680"/>
            <a:ext cx="7010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39404"/>
          <a:stretch/>
        </p:blipFill>
        <p:spPr>
          <a:xfrm>
            <a:off x="1066680" y="762120"/>
            <a:ext cx="6858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55301"/>
          <a:stretch/>
        </p:blipFill>
        <p:spPr>
          <a:xfrm>
            <a:off x="1143000" y="1447920"/>
            <a:ext cx="7162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36763"/>
          <a:stretch/>
        </p:blipFill>
        <p:spPr>
          <a:xfrm>
            <a:off x="1219320" y="1066680"/>
            <a:ext cx="6858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1066680" y="1143000"/>
            <a:ext cx="6858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50006"/>
          <a:stretch/>
        </p:blipFill>
        <p:spPr>
          <a:xfrm>
            <a:off x="1143000" y="1523880"/>
            <a:ext cx="6705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39404"/>
          <a:stretch/>
        </p:blipFill>
        <p:spPr>
          <a:xfrm>
            <a:off x="990720" y="1219320"/>
            <a:ext cx="7238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609480" y="68580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998"/>
          <a:stretch/>
        </p:blipFill>
        <p:spPr>
          <a:xfrm>
            <a:off x="685800" y="685800"/>
            <a:ext cx="784872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96120" y="5157720"/>
            <a:ext cx="53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notes the measure of effect of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7T15:44:30Z</dcterms:modified>
  <cp:revision>217</cp:revision>
  <dc:subject/>
  <dc:title>Slide 1</dc:title>
</cp:coreProperties>
</file>