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AAF89-CE42-457B-84C1-C7E0ACB79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7689B-A1FC-44D4-AE2A-BB9EBA837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D15D1-3D8C-49E2-AE18-4C2F37AED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8CD60-36FF-46F3-BFD4-55A5F7463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B1B77-1349-4545-A7A6-6F0E67F18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CCBDD-58C7-431A-A71D-5075DD027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7A08A-019D-44C7-A018-5AAB1AC38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C394F-F29B-43B7-A407-17B11E14D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BDB23-EEC0-45AF-971E-50B18AF1E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EB5B7-2FDE-445C-B31C-0D2ACC854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38D69-5002-4026-A492-37E227032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813BA-5B67-4D4B-8184-F737AF5E8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CCA97-BC90-4E79-8745-00BCC8D3565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1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4080" y="1447920"/>
            <a:ext cx="6363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     </a:t>
            </a: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When Not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     </a:t>
            </a: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to Use the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Mantel-Haenszel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          </a:t>
            </a: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Test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762120" y="533520"/>
            <a:ext cx="78483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62120" y="838080"/>
            <a:ext cx="769608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143000" y="762120"/>
            <a:ext cx="6934320" cy="13716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143000" y="2133720"/>
            <a:ext cx="6934320" cy="9144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1219320" y="3200400"/>
            <a:ext cx="68580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2514600"/>
            <a:ext cx="7238880" cy="7621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914400" y="1143000"/>
            <a:ext cx="7238880" cy="13716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914400" y="3352680"/>
            <a:ext cx="723888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838080" y="609480"/>
            <a:ext cx="7543800" cy="541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600200" y="2286000"/>
            <a:ext cx="6172200" cy="161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762120" y="533520"/>
            <a:ext cx="7543800" cy="55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685800"/>
            <a:ext cx="746784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838080" y="609480"/>
            <a:ext cx="78487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838080" y="457200"/>
            <a:ext cx="739152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762120" y="609480"/>
            <a:ext cx="7619760" cy="56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762120" y="609480"/>
            <a:ext cx="784836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685800" y="533520"/>
            <a:ext cx="7772400" cy="57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6T01:37:56Z</dcterms:created>
  <dc:creator>david g. kleinbaum</dc:creator>
  <dc:description/>
  <dc:language>en-US</dc:language>
  <cp:lastModifiedBy>david g kleinbaum</cp:lastModifiedBy>
  <dcterms:modified xsi:type="dcterms:W3CDTF">2003-11-07T04:29:30Z</dcterms:modified>
  <cp:revision>217</cp:revision>
  <dc:subject/>
  <dc:title>Slide 1</dc:title>
</cp:coreProperties>
</file>