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5772-B661-4EA6-A4EA-C6E8B27B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8AB4-79BA-4F87-B58C-63484E35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4BDC-0476-444E-B3AC-D3E4B7B6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911E-D293-4C0A-9199-7D1E2ED1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4950-92FF-41DF-B7F9-F39F6A6E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DB61-46D0-4298-880D-4744AF1C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C310-DEAB-4201-92C4-DCF198F3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39C-42F0-46BE-AB87-731DE0F6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E2BC-8726-42D3-B317-4803B2EB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A399-307A-4637-8236-EFEB3DD0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3776-80A9-4A21-879F-BFC1D844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2408-7E60-4F6B-B7EB-7CBDDBC1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F913-7DBC-462F-B2EE-0EC9473F47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360" y="1676520"/>
            <a:ext cx="678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antel-Haensz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est f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erson-Time Dat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010280" cy="3505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6933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7086600" cy="990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66680" y="380880"/>
            <a:ext cx="7086600" cy="2743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43000" y="4267080"/>
            <a:ext cx="69343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01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1752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467480" cy="4800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5410080"/>
            <a:ext cx="7467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315200" cy="1676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3733920" cy="1600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676520" y="3733920"/>
            <a:ext cx="6400800" cy="2603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 flipH="1" rot="10800000">
            <a:off x="1143000" y="2057040"/>
            <a:ext cx="198108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 flipH="1" rot="10800000">
            <a:off x="6705720" y="2057040"/>
            <a:ext cx="1752480" cy="1676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 flipH="1" rot="10800000">
            <a:off x="1143000" y="3657600"/>
            <a:ext cx="533520" cy="2666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 flipH="1" rot="10800000">
            <a:off x="8001000" y="3657600"/>
            <a:ext cx="457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6933960" cy="3200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05120" y="3581280"/>
            <a:ext cx="5105160" cy="2667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 flipH="1" rot="10800000">
            <a:off x="6934320" y="3505320"/>
            <a:ext cx="99036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 flipH="1" rot="10800000">
            <a:off x="990720" y="3505320"/>
            <a:ext cx="914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91160" cy="1724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90720" y="2286000"/>
            <a:ext cx="7391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7696080" cy="2971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7696080" cy="1371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057400" y="1981080"/>
            <a:ext cx="3962520" cy="1295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696080" y="83808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 flipH="1" rot="10800000">
            <a:off x="5943600" y="1904760"/>
            <a:ext cx="2666880" cy="1447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 flipH="1" rot="10800000">
            <a:off x="914400" y="1676160"/>
            <a:ext cx="1143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7086600" cy="2666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05120" y="3505320"/>
            <a:ext cx="99036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43000" y="762120"/>
            <a:ext cx="670572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 flipH="1" rot="10800000">
            <a:off x="7620120" y="762120"/>
            <a:ext cx="609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7T14:10:43Z</dcterms:modified>
  <cp:revision>217</cp:revision>
  <dc:subject/>
  <dc:title>Slide 1</dc:title>
</cp:coreProperties>
</file>