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EAD1-D770-43B5-B86B-550EB72A1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7A0C-9C3B-45AC-B484-C69D9FB6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9DF9-E80B-4DB0-9BA5-2BECDB574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B5A6-4EC7-49F8-9A1F-616F41AA0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C72A-A71F-43E7-A0E8-F9C64A98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A8C5-C850-40AD-94E6-854C7C63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5E32-4274-42DC-BD21-77F54B1C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0F37-4BDE-4DE2-8245-8BDD274C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B077-C146-425C-AEDC-93FC6EB2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7DB9-54F5-4C79-94E2-EE61BCED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80A5-694D-4E8A-85AA-7864B5A8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12DF-E1DA-4928-983E-A24F7432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DBCD-9387-4475-8558-063ACBE8FC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760" y="2057400"/>
            <a:ext cx="7041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Mantel-Haensze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est fo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tratified Analysi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960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486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91120" y="4038480"/>
            <a:ext cx="990360" cy="1067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96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7816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4267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85800" y="4952880"/>
            <a:ext cx="784872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162920" cy="2438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38080" y="3048120"/>
            <a:ext cx="7162920" cy="838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14400" y="3962520"/>
            <a:ext cx="7086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467480" cy="5257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934320" y="5715000"/>
            <a:ext cx="144756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467480" cy="4038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934320" y="4114800"/>
            <a:ext cx="144756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14400" y="4419720"/>
            <a:ext cx="73915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467840" cy="5715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781680" y="5791320"/>
            <a:ext cx="14479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543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620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911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07T03:44:33Z</dcterms:modified>
  <cp:revision>217</cp:revision>
  <dc:subject/>
  <dc:title>Slide 1</dc:title>
</cp:coreProperties>
</file>