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F73-E60B-4BCC-8D37-98C2C9F0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FA6-2BDD-43F1-B1D2-62323A34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A047-4308-4348-B682-ACA45609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9CD1-C810-4B28-9963-4E762EB3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3D0B-5CAA-44A7-ACB1-485FF204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345B-A714-46D4-9B3F-A981AADB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A4B1-AC0B-4BA2-B40B-D1DB84FD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307-7ADC-47FB-A43F-976DF848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7DAD-FC5F-4CF8-8AB5-08FBE255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F0B0-435F-4F83-BF05-62268BFC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1947-A4B9-4F58-AD8E-79E88D2B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6137-0674-4733-B675-4FB98473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EC26-6178-44D3-921D-4E19FEACED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7080" y="1828800"/>
            <a:ext cx="6543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Large-samp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nfidence Interv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for the m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6873"/>
          <a:stretch/>
        </p:blipFill>
        <p:spPr>
          <a:xfrm>
            <a:off x="609480" y="45720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6873"/>
          <a:stretch/>
        </p:blipFill>
        <p:spPr>
          <a:xfrm>
            <a:off x="609480" y="457200"/>
            <a:ext cx="7772400" cy="3886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70822" r="0" b="9939"/>
          <a:stretch/>
        </p:blipFill>
        <p:spPr>
          <a:xfrm>
            <a:off x="609480" y="4343400"/>
            <a:ext cx="7772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9638"/>
          <a:stretch/>
        </p:blipFill>
        <p:spPr>
          <a:xfrm>
            <a:off x="68580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0389"/>
          <a:stretch/>
        </p:blipFill>
        <p:spPr>
          <a:xfrm>
            <a:off x="609480" y="60948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28840" y="4381560"/>
            <a:ext cx="22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 a comp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do this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20491"/>
          <a:stretch/>
        </p:blipFill>
        <p:spPr>
          <a:xfrm>
            <a:off x="838080" y="129528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3760" y="533520"/>
            <a:ext cx="75067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bstituting the cell frequencies from each stratum i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variance formula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25610"/>
          <a:stretch/>
        </p:blipFill>
        <p:spPr>
          <a:xfrm>
            <a:off x="685800" y="380880"/>
            <a:ext cx="79246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323"/>
          <a:stretch/>
        </p:blipFill>
        <p:spPr>
          <a:xfrm>
            <a:off x="457200" y="304920"/>
            <a:ext cx="83818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2054"/>
          <a:stretch/>
        </p:blipFill>
        <p:spPr>
          <a:xfrm>
            <a:off x="685800" y="533520"/>
            <a:ext cx="7848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21:14:02Z</dcterms:modified>
  <cp:revision>217</cp:revision>
  <dc:subject/>
  <dc:title>Slide 1</dc:title>
</cp:coreProperties>
</file>