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11B-C852-4165-991B-8F553459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68F-CDB5-4049-A502-8E9351E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D87-92DD-4CE9-91ED-E91258D5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AA9-1FAF-4EFF-9721-55F61F4C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5F3-ADF2-4381-B8EC-5187895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5F9-0C07-46ED-A201-BC39FA5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89E-F0B4-4DA6-A876-37E95E3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812-FE6C-4267-AA51-61979884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A17-3F8E-4913-B7DC-003EAB3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FC4-3433-46F6-8C5B-67320979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36D-50D4-486A-AA83-8F23E0E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065-13D3-4E25-A161-E125252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F37-E44C-43EA-828F-2C19AE6D4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9040" y="1447920"/>
            <a:ext cx="67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rend Tes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457200" y="533520"/>
            <a:ext cx="8077320" cy="586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6095880"/>
            <a:ext cx="3962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5867280"/>
            <a:ext cx="1676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3083"/>
          <a:stretch/>
        </p:blipFill>
        <p:spPr>
          <a:xfrm>
            <a:off x="457200" y="45720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457200" y="533520"/>
            <a:ext cx="807732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67480" r="0" b="22894"/>
          <a:stretch/>
        </p:blipFill>
        <p:spPr>
          <a:xfrm>
            <a:off x="457200" y="4419720"/>
            <a:ext cx="8077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8566"/>
          <a:stretch/>
        </p:blipFill>
        <p:spPr>
          <a:xfrm>
            <a:off x="533520" y="380880"/>
            <a:ext cx="80769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77119" r="0" b="7235"/>
          <a:stretch/>
        </p:blipFill>
        <p:spPr>
          <a:xfrm>
            <a:off x="533520" y="3886200"/>
            <a:ext cx="807696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4572000"/>
            <a:ext cx="3962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343400"/>
            <a:ext cx="1676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6026"/>
          <a:stretch/>
        </p:blipFill>
        <p:spPr>
          <a:xfrm>
            <a:off x="838080" y="12193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9144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7621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9526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285"/>
          <a:stretch/>
        </p:blipFill>
        <p:spPr>
          <a:xfrm>
            <a:off x="609480" y="304920"/>
            <a:ext cx="8077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914400" y="121932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54174"/>
          <a:stretch/>
        </p:blipFill>
        <p:spPr>
          <a:xfrm>
            <a:off x="685800" y="45720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9907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49293" r="0" b="16986"/>
          <a:stretch/>
        </p:blipFill>
        <p:spPr>
          <a:xfrm>
            <a:off x="762120" y="533520"/>
            <a:ext cx="777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862"/>
          <a:stretch/>
        </p:blipFill>
        <p:spPr>
          <a:xfrm>
            <a:off x="685800" y="4572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838080" y="533520"/>
            <a:ext cx="762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5536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6584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106668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11"/>
          <a:stretch/>
        </p:blipFill>
        <p:spPr>
          <a:xfrm>
            <a:off x="762120" y="685800"/>
            <a:ext cx="784836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2040" y="49150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fferent scoring system (2, 1, 0)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22480" y="55245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or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3:07:18Z</dcterms:modified>
  <cp:revision>217</cp:revision>
  <dc:subject/>
  <dc:title>Slide 1</dc:title>
</cp:coreProperties>
</file>