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85C-65C4-4F7D-9EAC-5F6B7514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718-D52F-4951-BD7A-5F20EBE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681-248E-42C4-A898-210344F6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34B-D160-41C2-AD4C-810B3F99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CA5-B8C6-4393-8E32-009687CB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089-2EBE-42AD-8557-53A91CFD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B14-18D0-4FAF-BD79-93C1F26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F5E-3F46-464A-B064-C7879AA8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5D5-2DD7-4DFE-A014-DEF26BFA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2B7-2D81-4F05-9761-681E69A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E65-E93D-4400-8239-09AF5313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E96-886B-4B7C-A4E2-2FB8FA8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1EFC-AA23-4832-B142-6F262E2168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7040" y="2133720"/>
            <a:ext cx="682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 o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ratified Analy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4370"/>
          <a:stretch/>
        </p:blipFill>
        <p:spPr>
          <a:xfrm>
            <a:off x="762120" y="68580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77120" y="5943600"/>
            <a:ext cx="1752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0004"/>
          <a:stretch/>
        </p:blipFill>
        <p:spPr>
          <a:xfrm>
            <a:off x="838080" y="30492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37002" t="52007" r="17001" b="26000"/>
          <a:stretch/>
        </p:blipFill>
        <p:spPr>
          <a:xfrm>
            <a:off x="838080" y="403848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42108"/>
          <a:stretch/>
        </p:blipFill>
        <p:spPr>
          <a:xfrm>
            <a:off x="838080" y="380880"/>
            <a:ext cx="746784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1003" t="58004" r="20001" b="27336"/>
          <a:stretch/>
        </p:blipFill>
        <p:spPr>
          <a:xfrm>
            <a:off x="914400" y="4191120"/>
            <a:ext cx="731520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0" t="69771" r="0" b="24909"/>
          <a:stretch/>
        </p:blipFill>
        <p:spPr>
          <a:xfrm>
            <a:off x="838080" y="3352680"/>
            <a:ext cx="7467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43485"/>
          <a:stretch/>
        </p:blipFill>
        <p:spPr>
          <a:xfrm>
            <a:off x="762120" y="762120"/>
            <a:ext cx="746748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7002" t="51339" r="17998" b="26000"/>
          <a:stretch/>
        </p:blipFill>
        <p:spPr>
          <a:xfrm>
            <a:off x="838080" y="3657600"/>
            <a:ext cx="73152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74077" r="0" b="16573"/>
          <a:stretch/>
        </p:blipFill>
        <p:spPr>
          <a:xfrm>
            <a:off x="762120" y="2895480"/>
            <a:ext cx="7467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8962"/>
          <a:stretch/>
        </p:blipFill>
        <p:spPr>
          <a:xfrm>
            <a:off x="609480" y="45720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9113"/>
          <a:stretch/>
        </p:blipFill>
        <p:spPr>
          <a:xfrm>
            <a:off x="76212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18563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762120" y="1371600"/>
            <a:ext cx="7543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990720" y="914400"/>
            <a:ext cx="716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914400"/>
            <a:ext cx="7162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45720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4560" y="762120"/>
            <a:ext cx="43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-Step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838080"/>
            <a:ext cx="7010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914400" y="83808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33784"/>
          <a:stretch/>
        </p:blipFill>
        <p:spPr>
          <a:xfrm>
            <a:off x="685800" y="380880"/>
            <a:ext cx="769608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37002" t="52668" r="17001" b="19335"/>
          <a:stretch/>
        </p:blipFill>
        <p:spPr>
          <a:xfrm>
            <a:off x="685800" y="373392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60270"/>
          <a:stretch/>
        </p:blipFill>
        <p:spPr>
          <a:xfrm>
            <a:off x="457200" y="762120"/>
            <a:ext cx="8153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5233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457200"/>
            <a:ext cx="761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066680" y="45720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7T01:20:26Z</dcterms:modified>
  <cp:revision>219</cp:revision>
  <dc:subject/>
  <dc:title>Slide 1</dc:title>
</cp:coreProperties>
</file>