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640A-9604-4A60-871F-E0FD7B60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0F09-6AF0-4B24-843B-4D03F57C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4196-BEEF-40CD-BBB2-F5635360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709C-FCAE-42C5-A044-3D2EC0B6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0579-C59A-4068-A2EE-FC1A1680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D1DB-D6C7-4326-9A28-3BDFF7E5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EB12-3C71-4B83-B3A3-2AEB2A2B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AF25-AFE0-4992-BB67-882FFB48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5255-F0CD-42CF-8E6A-09071738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C175-3E6C-4B59-B9C8-C763BD8C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3251-858F-4678-B532-49DF48A5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D304-BC86-441C-90E5-47137733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2C25-248D-4F02-A6DD-568A3429BB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523880"/>
            <a:ext cx="6870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General Formul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Fo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recision- base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R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14282"/>
          <a:stretch/>
        </p:blipFill>
        <p:spPr>
          <a:xfrm>
            <a:off x="838080" y="1066680"/>
            <a:ext cx="72392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15947"/>
          <a:stretch/>
        </p:blipFill>
        <p:spPr>
          <a:xfrm>
            <a:off x="990720" y="762120"/>
            <a:ext cx="7238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41920"/>
          <a:stretch/>
        </p:blipFill>
        <p:spPr>
          <a:xfrm>
            <a:off x="838080" y="762120"/>
            <a:ext cx="7391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44711"/>
          <a:stretch/>
        </p:blipFill>
        <p:spPr>
          <a:xfrm>
            <a:off x="838080" y="685800"/>
            <a:ext cx="7315200" cy="2895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0" t="18551" r="0" b="44374"/>
          <a:stretch/>
        </p:blipFill>
        <p:spPr>
          <a:xfrm>
            <a:off x="838080" y="3581280"/>
            <a:ext cx="7315200" cy="2210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90720" y="175248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wo stra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2767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 stra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14996"/>
          <a:stretch/>
        </p:blipFill>
        <p:spPr>
          <a:xfrm>
            <a:off x="838080" y="76212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46163"/>
          <a:stretch/>
        </p:blipFill>
        <p:spPr>
          <a:xfrm>
            <a:off x="990720" y="533520"/>
            <a:ext cx="7238880" cy="5410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0" t="18551" r="0" b="44374"/>
          <a:stretch/>
        </p:blipFill>
        <p:spPr>
          <a:xfrm>
            <a:off x="990720" y="1752480"/>
            <a:ext cx="6858000" cy="1828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3962520"/>
            <a:ext cx="914400" cy="1218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96080" y="1600200"/>
            <a:ext cx="2286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42859"/>
          <a:stretch/>
        </p:blipFill>
        <p:spPr>
          <a:xfrm>
            <a:off x="609480" y="990720"/>
            <a:ext cx="7925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20003"/>
          <a:stretch/>
        </p:blipFill>
        <p:spPr>
          <a:xfrm>
            <a:off x="1066680" y="68580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20003"/>
          <a:stretch/>
        </p:blipFill>
        <p:spPr>
          <a:xfrm>
            <a:off x="762120" y="609480"/>
            <a:ext cx="76960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19277"/>
          <a:stretch/>
        </p:blipFill>
        <p:spPr>
          <a:xfrm>
            <a:off x="685800" y="533520"/>
            <a:ext cx="75438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39079"/>
          <a:stretch/>
        </p:blipFill>
        <p:spPr>
          <a:xfrm>
            <a:off x="762120" y="380880"/>
            <a:ext cx="7467480" cy="3886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61071" r="0" b="28477"/>
          <a:stretch/>
        </p:blipFill>
        <p:spPr>
          <a:xfrm>
            <a:off x="762120" y="4267080"/>
            <a:ext cx="7467480" cy="1143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343400" y="4114800"/>
            <a:ext cx="6094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0" t="71536" r="0" b="18726"/>
          <a:stretch/>
        </p:blipFill>
        <p:spPr>
          <a:xfrm>
            <a:off x="762120" y="5334120"/>
            <a:ext cx="74674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07T16:47:54Z</dcterms:modified>
  <cp:revision>218</cp:revision>
  <dc:subject/>
  <dc:title>Slide 1</dc:title>
</cp:coreProperties>
</file>