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E62-B411-4B84-B132-3E22BD89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2BC-5A97-4D5C-9DF4-1882D94B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E8B-FA1A-4640-936D-DC2384F1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1E2-1DAC-4AE6-85E5-667D9299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EAF-7D14-4B89-A741-095E944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002-3D5C-4559-A2B8-52DB1839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DB5-685C-4EFE-AB90-8EEE900A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D09-15A8-4048-93D8-979F7340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8CE-2941-4C1F-BADF-C7ECAB70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A3D-7DE4-4CC7-997B-C180563C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882-E76E-42A2-87D4-F2C19EF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82B-199F-464B-A3EE-AD2C3C1A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338E-9170-4233-B8AA-C7313A1A1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Other Iss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8320" y="2514600"/>
            <a:ext cx="6727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ssessing Interaction Involving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atch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reaking the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Ignoring the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6760" y="2819520"/>
            <a:ext cx="607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Ignoring the Matc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2240" y="1676520"/>
            <a:ext cx="540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ssessing Intera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Involving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ing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6400" y="2819520"/>
            <a:ext cx="620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Breaking the Matc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20:10:43Z</dcterms:modified>
  <cp:revision>81</cp:revision>
  <dc:subject/>
  <dc:title>The Art in the State of the Art</dc:title>
</cp:coreProperties>
</file>