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1F4-9F62-4971-AEF7-86C59981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EBE-F2A6-459B-A6FF-B93A0B7A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CE8-62EF-4DDA-BA1F-AC73203C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149-1BB1-4A13-AF6F-9EDA7EBC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42E-5D00-4CF7-88F3-A69E70EC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DB8-1970-4A73-BB68-BAEC2DF8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604-C3B5-41D3-A199-8C83BA5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C15-FF02-49E1-8567-2E75B0AC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8C1-F6FE-4871-AC1E-853B5C27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E5B-2923-4F42-8F8E-13BAB2D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EB9-A80B-431D-8C00-FD4E384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8C2-477C-4571-A5A6-4C313C64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7D49-0FAE-4512-A2E2-D48C26007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O MATCH OR NOT TO MATCH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7315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7848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4451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38680" y="5105520"/>
            <a:ext cx="28958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E ALTERNATIVE TO MATCH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391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236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31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238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6858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144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2508120"/>
            <a:ext cx="76960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86600" cy="3124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96252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3:36:08Z</dcterms:modified>
  <cp:revision>106</cp:revision>
  <dc:subject/>
  <dc:title>The Art in the State of the Art</dc:title>
</cp:coreProperties>
</file>