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A240-E85B-4B31-9800-65997E32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61D-ACBF-4DA6-A7D2-7C17C940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2DF-194E-4AC9-89A6-52AD35F2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FA0-12F6-4923-B134-AAA343DE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F9E5-372B-40E6-AF2C-7FE1400D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349-EBFC-4623-854D-107E842F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3E1-A357-43AB-B4B2-D583B113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E9B-E170-4507-B987-A2398155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20E-DEC3-4C48-9B3F-E2FB7AE9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382-C036-4E47-8299-170B1CD3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4F2-B1BD-4A41-BBF2-A6253638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7FC9-BA5E-42AA-98A9-AF8400F0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534C-1542-4D69-97AD-6141FB321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nalysis of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R-to-1 Matched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ase-Control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467480" cy="838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7391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64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7315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1066680" y="1371600"/>
            <a:ext cx="70106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7162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914400" y="838080"/>
            <a:ext cx="7467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1066680" y="1143000"/>
            <a:ext cx="7315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1066680" y="91440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990720" y="609480"/>
            <a:ext cx="7238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162920" cy="32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>
            <a:lum bright="2000"/>
          </a:blip>
          <a:stretch/>
        </p:blipFill>
        <p:spPr>
          <a:xfrm>
            <a:off x="1066680" y="4114800"/>
            <a:ext cx="7086600" cy="190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1066680" y="6019920"/>
            <a:ext cx="70106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cp:lastPrinted>2002-06-27T18:28:52Z</cp:lastPrinted>
  <dcterms:modified xsi:type="dcterms:W3CDTF">2002-07-02T15:13:45Z</dcterms:modified>
  <cp:revision>80</cp:revision>
  <dc:subject/>
  <dc:title>The Art in the State of the Art</dc:title>
</cp:coreProperties>
</file>