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F4C-10FE-4B3B-A9D2-A6884B73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880-A015-4FE2-90E1-B351525C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158-A119-4DF1-9A02-5AB7F686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30E-A04C-4697-8690-762A22DC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BBB-501D-46B2-ABBE-37E140E6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7E5-3231-4B43-AF8F-F0F3659F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231-8085-42CE-A38D-AC13C2C9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435-FC97-4C32-9EFC-E5C10006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E4E-7C12-4FAA-B78D-EE0D2E5C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15B-D461-4695-8141-AB2E9389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B19-4790-452C-9EA8-D661F1C5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4C1-B52B-4948-A2AB-B44DAC00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292F-0E22-48D6-A46A-ED158D2C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0574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atching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ypes &amp; Rati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391520" cy="2210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3059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239240" cy="373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403200"/>
            <a:ext cx="81532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5257800"/>
            <a:ext cx="784872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7848360" cy="127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807732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2819520"/>
            <a:ext cx="78483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00200"/>
            <a:ext cx="762012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MATCHING - 2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8483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24680" cy="3092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7772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7238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ING RAT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620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848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57400" y="4724280"/>
            <a:ext cx="4495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3032280"/>
            <a:ext cx="7925040" cy="100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3166920"/>
            <a:ext cx="7848720" cy="795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181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4610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286000" cy="5105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4572000" cy="396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4343400" cy="838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3809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851200"/>
            <a:ext cx="7696080" cy="30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3T13:40:09Z</dcterms:modified>
  <cp:revision>109</cp:revision>
  <dc:subject/>
  <dc:title>The Art in the State of the Art</dc:title>
</cp:coreProperties>
</file>