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3BE-5F02-4B18-98DE-0B8D164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755-009F-40D8-A9B3-ED8B3DA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FA7-9636-4B3B-BE42-2260B62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80A-2E49-4026-B612-FE8DF88F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153-30C0-430E-9719-76F77B93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2EC-8E39-4D7D-822D-5F31AAA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A7D-0000-45CA-BABD-7D078C1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79A-3AEF-4EE9-88C2-C441B917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226-6BC6-4AB8-B723-99F0572C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BB6-6CBB-452E-9601-3B1FEB8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B44-4DB2-4049-A6AE-07675D7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96A-5130-4BEB-AEC9-2B23070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157-E64B-45C6-A170-0EA7CAA96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esign and Analysis of 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0520" y="3505320"/>
            <a:ext cx="649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Presenter: DAVID G. KLEINBA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ept.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Rollins School of Public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mory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tlanta,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2080" y="1752480"/>
            <a:ext cx="8183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ll 15 Chapters (Lessons) Complet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Golden Master CD sent to Publisher-  May 15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ctivEpi Companion Text- to be completed Jun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D- approx $US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ompanion Text:  approx $US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vailability for Purchase: Septem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9480" y="106668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URRENT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D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DEFINITION OF MA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CHING ?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esign Option for the Control of Extraneou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657240"/>
            <a:ext cx="6781680" cy="205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riment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ohort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ase-Contro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920" y="19209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7432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73920" cy="404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8305920" cy="1384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art 0: ACTIVEPI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 MULTIMEDIA CD ROM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COURSE ON  FUNDAMENTALS OF EPIDEM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OUTLINE: MATCHING IN EPIDEMIOLOGIC RESEARCH (Part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Defini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ypes of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for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Agains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2- ANALY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ptions and Gener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-to-1 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Frequency-match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oh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3- OTHER ISSU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 Exchangeable Matched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For Match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nything el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COURSE PREREQUISITES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HOPEFUL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epidemiology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udy designs,  measures of disease frequency and effect, confounding, effect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bio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andard error, tests of hypothesis, confidence intervals, P-v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background in logistic regress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the model form, the logit function, odds ratio estim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experience with compute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AS, STATA, SP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192096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743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LEARNER-INTERACTIVE COURSE ON 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7520" y="192096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74320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VID G. KLEINBAUM- AUTH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TA DESCRIPTION (Ithaca, NY)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MEDIA 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SPRINGER-VERLAG- 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ourse outline covers topics in most      intro epi text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Kleinbaum, Kupper, &amp; Morgenstern, Rothman-Greenland, Kels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hapter Topic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Measures of Disease Frequency, Measures of Effect, Confounding)</a:t>
            </a: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a800"/>
                </a:solidFill>
                <a:latin typeface="Times New Roman"/>
              </a:rPr>
              <a:t>(NOTE: LESSON 15- MATC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9907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18:39Z</dcterms:modified>
  <cp:revision>107</cp:revision>
  <dc:subject/>
  <dc:title>The Art in the State of the Art</dc:title>
</cp:coreProperties>
</file>