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8EC-BAA6-49D7-B6C5-7EBD4937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F174-9CF4-45BB-A212-305285D4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11F-CBCF-4614-ADD3-F544E9F7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493-FD30-4F3E-BA6C-04144574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9A5-2A23-49E0-9068-290F2BD9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454-EF70-433E-A64E-1D05B431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A30-5288-4880-9668-F2FC079B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50B-0941-4A47-85EB-42650C34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34C-5FF9-4E4F-9374-3A815101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48C-487C-4D4B-8BF5-2C6D5CAA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CFE-570B-41AF-AA89-B87E0568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50A-BDA2-4569-81D0-93F9F600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5BAF-D25B-43E6-8640-1E2DB6A6B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OF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PAIR-MATCHED CASE-CONTROL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4674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7467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3352680"/>
            <a:ext cx="6705360" cy="1930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7162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447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5181480"/>
            <a:ext cx="3962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772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he Analysis of McNemar’s Table Involves Only the Discordant Pairs  </a:t>
            </a:r>
            <a:br>
              <a:rPr sz="3600"/>
            </a:b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X and 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848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2590920"/>
            <a:ext cx="7391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19520" y="4343400"/>
            <a:ext cx="350496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7391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9250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467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2T13:37:08Z</dcterms:modified>
  <cp:revision>82</cp:revision>
  <dc:subject/>
  <dc:title>The Art in the State of the Art</dc:title>
</cp:coreProperties>
</file>