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9EC-54A8-4E27-B95F-BFA97991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4BE-FC3E-43E1-BD48-C2F34F91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9A6-13D9-4704-A2CC-376907DC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C5C-3A9D-4E22-81FD-B911223B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0CA-FD6C-476F-B6B1-36956289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B39-95D1-44EC-A07B-1B25F950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F61-EC44-455A-AAC9-14C2DBE3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A37-BE1C-4797-96B8-B7AC31B6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227-EE34-46A0-BDA7-05CB4D8F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8E4-5F89-4967-87EE-52AC1536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9F0-3715-49CB-A2EF-F8ABFAE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5E0-16D1-42C8-BF1F-3C118BB0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253C-2955-49A7-A64F-99FB2692A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MATCHED DATA OVER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838080" y="19810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838080" y="685800"/>
            <a:ext cx="762012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19320" y="6019920"/>
            <a:ext cx="68580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66680" y="4343400"/>
            <a:ext cx="769644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371600" y="3995640"/>
            <a:ext cx="4495680" cy="387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 flipV="1">
            <a:off x="3351960" y="5562720"/>
            <a:ext cx="541044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867280"/>
            <a:ext cx="243864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22440" y="3114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37320" y="3035160"/>
            <a:ext cx="748728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…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2971800"/>
            <a:ext cx="7543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838080" y="1295280"/>
            <a:ext cx="76964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762120" y="914400"/>
            <a:ext cx="761976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8120" y="4140360"/>
            <a:ext cx="84837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BP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2560" y="3962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5880" y="464832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99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467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838080" y="68580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914400" y="1143000"/>
            <a:ext cx="7467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762120" y="45720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21240" y="3340080"/>
            <a:ext cx="101520" cy="17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373392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100 st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666880" y="4419720"/>
            <a:ext cx="3657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5:02:28Z</dcterms:modified>
  <cp:revision>90</cp:revision>
  <dc:subject/>
  <dc:title>The Art in the State of the Art</dc:title>
</cp:coreProperties>
</file>