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36CA-313E-4CA5-94A1-AE279CAB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8A97-37E0-46D3-869A-6357FE65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D842-89FB-4DC9-9DAC-509AE65B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4E38-0C8D-4B90-B238-C8DFE046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F62A-CCBE-4F3C-BE40-56A34F5C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91D7-38B4-4CEB-B9A8-D3C2BF2E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8AE8-DF90-4D84-ACAE-92CB6699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F5FF-0114-477B-921C-22BAA1E3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EDA1-3378-4ABA-AB2B-197506F4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3855-2A29-49F8-8ACB-A9FC5ABF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5DE3-FB33-4AD1-9C48-DB05AD4F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B502-038C-4D84-BCBA-6B382061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522D-4D6A-4DC0-BB2D-B79302ED2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18"/>
                </a:solidFill>
                <a:latin typeface="Times New Roman"/>
              </a:rPr>
              <a:t>EXERCI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33360" y="2895480"/>
            <a:ext cx="520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•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POP QUI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•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P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•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LOGISTIC REG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91320" y="1889280"/>
            <a:ext cx="545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Exercises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Pooling Exchange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Matched Str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8001000" cy="4190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52480" y="4572000"/>
            <a:ext cx="5181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257800" cy="27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4114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905120" y="4495680"/>
            <a:ext cx="563868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4648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90720" y="5029200"/>
            <a:ext cx="69339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8001000" cy="4038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371600" y="4495680"/>
            <a:ext cx="5943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4191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19320" y="4648320"/>
            <a:ext cx="7086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30840" y="2438280"/>
            <a:ext cx="483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Exercises 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Logistic Reg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For Match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4419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523880" y="4952880"/>
            <a:ext cx="63248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805840" y="2529000"/>
            <a:ext cx="32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POP  QUI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4419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19320" y="4800600"/>
            <a:ext cx="7010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71600" y="380880"/>
            <a:ext cx="626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Answers to Exercises on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Pooling Exchangeable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Matched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97200" y="2568600"/>
            <a:ext cx="8695440" cy="38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.         How many concordant pairs are there where both pair members are exposed?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1»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2.         How many concordant pairs are there where both members are unexposed?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1»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3.         How many discordant pairs are there where the case is exposed and the control is unexposed?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2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4.         How many discordant pairs are there where case is unexposed and the control is exposed?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1»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This table is called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McNemar's»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What is the estimated mOR for these data?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2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What type of matched analysis is being used with this table?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unpooled»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What is the estimated mOR from these data (use the formula for the mOR in the box below)? «2.5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What type of matched analysis is being used here?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pooled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.       Which type of analysis should be preferred for these matched data (where smoking status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only matched variable), pooled or unpooled?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pooled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1.       W=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2»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?  12. X =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1»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?  13. Y =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0»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?  14. Z=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2»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5.       mOR (unpooled) =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undefined».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6.       mOR (pooled) =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2.5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Which of the following helps explain why the pooled mOR estimate should be preferred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the unpooled m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. The pooled mOR's are equal whereas the unpooled mOR's are diffe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.The unpooled mOR's assume that exchangeable matched pairs are not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.The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pooled mOR's assume that exchangeable matched pairs are unique.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a»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71600" y="380880"/>
            <a:ext cx="6264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Answers to Exercises on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Logistic Regression for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Match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3200400"/>
            <a:ext cx="7696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Which of the logistic models shown below is appropriate for analyzing these data?</a:t>
            </a:r>
            <a:r>
              <a:rPr b="1" lang="en-US" sz="1400" spc="-1" strike="noStrike">
                <a:solidFill>
                  <a:srgbClr val="000000"/>
                </a:solidFill>
                <a:latin typeface="Geneva"/>
              </a:rPr>
              <a:t> «b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What method of estimation should be used to fit the appropriate model for these data? </a:t>
            </a:r>
            <a:r>
              <a:rPr b="1" lang="en-US" sz="1400" spc="-1" strike="noStrike">
                <a:solidFill>
                  <a:srgbClr val="000000"/>
                </a:solidFill>
                <a:latin typeface="Geneva"/>
              </a:rPr>
              <a:t>«Conditional MLE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What is the adjusted odds ratio for the effect of SMK on cervical cancer outcome? </a:t>
            </a:r>
            <a:r>
              <a:rPr b="1" lang="en-US" sz="1400" spc="-1" strike="noStrike">
                <a:solidFill>
                  <a:srgbClr val="000000"/>
                </a:solidFill>
                <a:latin typeface="Geneva"/>
              </a:rPr>
              <a:t>«exp(1.4361)»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Is number of lifetime sexual partners a significant predictor of cervical cancer outcome, controlling for the matching variables and the other non-matching variables? </a:t>
            </a:r>
            <a:r>
              <a:rPr b="1" lang="en-US" sz="1400" spc="-1" strike="noStrike">
                <a:solidFill>
                  <a:srgbClr val="000000"/>
                </a:solidFill>
                <a:latin typeface="Geneva"/>
              </a:rPr>
              <a:t>«yes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5.       Are the matching variables being controlled? </a:t>
            </a:r>
            <a:r>
              <a:rPr b="1" lang="en-US" sz="1400" spc="-1" strike="noStrike">
                <a:solidFill>
                  <a:srgbClr val="000000"/>
                </a:solidFill>
                <a:latin typeface="Geneva"/>
              </a:rPr>
              <a:t>«yes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A 95% CI for the (adjusted) effect of SMK is given by the express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neva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Geneva"/>
              </a:rPr>
              <a:t>«exp[1.4361 +- 1.96(.3167)]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8483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8483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77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2-07-03T15:04:41Z</dcterms:modified>
  <cp:revision>91</cp:revision>
  <dc:subject/>
  <dc:title>The Art in the State of the Art</dc:title>
</cp:coreProperties>
</file>