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5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6.png" ContentType="image/png"/>
  <Override PartName="/ppt/media/image56.wmf" ContentType="image/x-wmf"/>
  <Override PartName="/ppt/media/image15.png" ContentType="image/png"/>
  <Override PartName="/ppt/media/image55.wmf" ContentType="image/x-wmf"/>
  <Override PartName="/ppt/media/image14.png" ContentType="image/png"/>
  <Override PartName="/ppt/media/image5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7.wmf" ContentType="image/x-wmf"/>
  <Override PartName="/ppt/media/image40.png" ContentType="image/png"/>
  <Override PartName="/ppt/media/image58.wmf" ContentType="image/x-wmf"/>
  <Override PartName="/ppt/media/image43.wmf" ContentType="image/x-wmf"/>
  <Override PartName="/ppt/media/image44.png" ContentType="image/png"/>
  <Override PartName="/ppt/media/image45.wmf" ContentType="image/x-wmf"/>
  <Override PartName="/ppt/media/image46.png" ContentType="image/png"/>
  <Override PartName="/ppt/media/image9.png" ContentType="image/png"/>
  <Override PartName="/ppt/media/image42.wmf" ContentType="image/x-wmf"/>
  <Override PartName="/ppt/media/image39.png" ContentType="image/png"/>
  <Override PartName="/ppt/media/image41.png" ContentType="image/png"/>
  <Override PartName="/ppt/media/image50.png" ContentType="image/png"/>
  <Override PartName="/ppt/media/image52.wmf" ContentType="image/x-wmf"/>
  <Override PartName="/ppt/media/image34.wmf" ContentType="image/x-wmf"/>
  <Override PartName="/ppt/media/image13.png" ContentType="image/png"/>
  <Override PartName="/ppt/media/image53.wmf" ContentType="image/x-wmf"/>
  <Override PartName="/ppt/media/image38.png" ContentType="image/png"/>
  <Override PartName="/ppt/media/image8.png" ContentType="image/png"/>
  <Override PartName="/ppt/media/image11.png" ContentType="image/png"/>
  <Override PartName="/ppt/media/image48.png" ContentType="image/png"/>
  <Override PartName="/ppt/media/image51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EA50-6BE6-4262-9A28-7CAAF384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A4FC-47B9-47FD-87D9-B718F959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B52B-E165-4928-BE8E-614F37ED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344-4021-42B1-9C90-42C75D63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A3E-75B4-4EBF-A73F-63BA62A4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A44-C110-4DB3-BF30-4941BB09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58A-F566-4987-A81B-2D89DFD9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C394-0BA0-4457-8554-01483E88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A88E-6383-42ED-AB11-E3DA22DF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AB5-2842-4835-9E83-65EBFB84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A2D9-76D3-422F-922C-F886AE68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0E1B-4B6D-449D-8E6C-5831E099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98F9-F4A5-4C79-829A-D372D44A3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5.wmf"/><Relationship Id="rId3" Type="http://schemas.openxmlformats.org/officeDocument/2006/relationships/image" Target="../media/image20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5.wmf"/><Relationship Id="rId3" Type="http://schemas.openxmlformats.org/officeDocument/2006/relationships/image" Target="../media/image34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5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5.wmf"/><Relationship Id="rId3" Type="http://schemas.openxmlformats.org/officeDocument/2006/relationships/image" Target="../media/image42.wmf"/><Relationship Id="rId4" Type="http://schemas.openxmlformats.org/officeDocument/2006/relationships/image" Target="../media/image20.wmf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4.png"/><Relationship Id="rId3" Type="http://schemas.openxmlformats.org/officeDocument/2006/relationships/image" Target="../media/image25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1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980720"/>
            <a:ext cx="7238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Logistic Regression Analysis of 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Matched D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1440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31080" y="457200"/>
            <a:ext cx="60418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ENERAL LOGISTIC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3962520"/>
            <a:ext cx="7696080" cy="1630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t form of logistic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git P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05920" cy="2362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34320" y="2819520"/>
            <a:ext cx="4539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772400" cy="2209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6477120" cy="83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914400" y="4648320"/>
            <a:ext cx="7162920" cy="1295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16200" y="4191120"/>
            <a:ext cx="19486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it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676520"/>
            <a:ext cx="7696080" cy="2209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3880" y="3276720"/>
            <a:ext cx="6019920" cy="1930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162920" cy="1295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38080" y="914400"/>
            <a:ext cx="5715000" cy="685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37920" y="4952880"/>
            <a:ext cx="682812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al Case: No Interaction, I.e., al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209680" y="5410080"/>
            <a:ext cx="4480200" cy="762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523880" y="3276720"/>
            <a:ext cx="601992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835640" y="457200"/>
            <a:ext cx="522504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W LOGISTIC MODEL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CH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676520"/>
            <a:ext cx="8458200" cy="69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t P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98280" y="2743200"/>
            <a:ext cx="5516280" cy="39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= (0, 1)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denote dummy variables use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matching st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denote potential confounders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matching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denote potential effect mod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ually other than matching 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2666880"/>
            <a:ext cx="54864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2209680"/>
            <a:ext cx="7391520" cy="1312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08520" y="547560"/>
            <a:ext cx="591696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justed OR Comparing E=1 vs. E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ling for the V’s and W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4720" y="4145040"/>
            <a:ext cx="682812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al Case: No Interaction, I.e., al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670572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00200" y="4635360"/>
            <a:ext cx="6550200" cy="109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0" y="4724280"/>
            <a:ext cx="5181480" cy="844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2209680"/>
            <a:ext cx="73915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7320" y="2338560"/>
            <a:ext cx="688320" cy="764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257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7315200" cy="1067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0" y="3429000"/>
            <a:ext cx="5731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467480" cy="5410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467480" cy="1067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48320" y="1828800"/>
            <a:ext cx="5731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838080" y="762120"/>
            <a:ext cx="76964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4114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7543800" cy="1219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3124080"/>
            <a:ext cx="4267080" cy="1193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48320" y="2209680"/>
            <a:ext cx="53316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25000" y="3352680"/>
            <a:ext cx="7920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86600" cy="4496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14600" y="3657600"/>
            <a:ext cx="5181480" cy="1143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14400" y="2362320"/>
            <a:ext cx="7086600" cy="1295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419720" y="2743200"/>
            <a:ext cx="53316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7620120" cy="4267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86000" y="2209680"/>
            <a:ext cx="4952880" cy="990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62120" y="533520"/>
            <a:ext cx="7467480" cy="1447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95680" y="990720"/>
            <a:ext cx="5335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7086600" cy="2590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73152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86600" cy="1676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53320" y="5334120"/>
            <a:ext cx="60894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62 dummy vari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63 matched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6934320" cy="1981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943600" y="3733920"/>
            <a:ext cx="533520" cy="1130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467480" cy="1524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7162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619760" cy="3124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533412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62120" y="533520"/>
            <a:ext cx="7467480" cy="160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209680" y="4572000"/>
            <a:ext cx="5791320" cy="787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0" y="1066680"/>
            <a:ext cx="5335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391160" cy="3657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5334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905120" y="5334120"/>
            <a:ext cx="5790960" cy="711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762120" y="533520"/>
            <a:ext cx="7467480" cy="160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1066680"/>
            <a:ext cx="5335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543800" cy="5105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666880" y="914400"/>
            <a:ext cx="533412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905120" y="3581280"/>
            <a:ext cx="57909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91520" cy="722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7315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1143000" y="1066680"/>
            <a:ext cx="7010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946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7162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238880" cy="4343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133720" y="2133720"/>
            <a:ext cx="5333760" cy="990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438280" y="5638680"/>
            <a:ext cx="3886200" cy="58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62120" y="533520"/>
            <a:ext cx="7467480" cy="1600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057400" y="4876920"/>
            <a:ext cx="4343400" cy="768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0" y="1066680"/>
            <a:ext cx="5335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238880" cy="4191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7162560" cy="1412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981080" y="457200"/>
            <a:ext cx="5334120" cy="990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905120" y="3200400"/>
            <a:ext cx="4724280" cy="846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14600" y="4038480"/>
            <a:ext cx="2514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7086600" cy="1847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6019920" cy="1981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295280" y="838080"/>
            <a:ext cx="6400800" cy="806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05120" y="2590920"/>
            <a:ext cx="4876560" cy="137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514600" y="2819520"/>
            <a:ext cx="33526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36760" y="1233360"/>
            <a:ext cx="676584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ACTION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63 matched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70280" y="380880"/>
            <a:ext cx="75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Previous model was a no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81080" y="3809880"/>
            <a:ext cx="5639040" cy="1143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0880" y="2590920"/>
            <a:ext cx="9095760" cy="631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ogit P(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 +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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GALL +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GAL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8000" y="2362320"/>
            <a:ext cx="4093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57400" y="914400"/>
            <a:ext cx="558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5% CI for OR involving interac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60680" y="2529000"/>
            <a:ext cx="47401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, What is the 95% CI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8153280" y="3505320"/>
            <a:ext cx="609840" cy="1008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1600" y="3352680"/>
            <a:ext cx="66294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2280" y="380880"/>
            <a:ext cx="750960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RAL 100(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 CI FORMULA IN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ISTIC MODEL FOR MATCHED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5943600" cy="509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5715000" cy="1600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914400" y="1905120"/>
            <a:ext cx="7086600" cy="1117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705720" y="2133720"/>
            <a:ext cx="53316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58600" y="471600"/>
            <a:ext cx="401220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IANCE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7162920" cy="3048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8305920" cy="914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162920" y="1752480"/>
            <a:ext cx="53316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3657600"/>
            <a:ext cx="457200" cy="703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105520"/>
            <a:ext cx="3808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5105520"/>
            <a:ext cx="380880" cy="48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5105520"/>
            <a:ext cx="533520" cy="48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65640" y="6581880"/>
            <a:ext cx="18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9960" y="4648320"/>
            <a:ext cx="3574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11480" y="5562720"/>
            <a:ext cx="46260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6200" y="0"/>
            <a:ext cx="657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: 95% CI form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334120" cy="914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6629400" cy="1067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676520" y="3276720"/>
            <a:ext cx="533376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1066680" y="4419720"/>
            <a:ext cx="6782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14400" y="83808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838080" y="7621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90720" y="609480"/>
            <a:ext cx="73911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838080" y="762120"/>
            <a:ext cx="7467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90720" y="68580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990720" y="533520"/>
            <a:ext cx="7238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2T17:08:35Z</dcterms:modified>
  <cp:revision>97</cp:revision>
  <dc:subject/>
  <dc:title>The Art in the State of the Art</dc:title>
</cp:coreProperties>
</file>