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0AA-2B27-48BC-8FF9-33F6E1CF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1C1-02F7-4E94-A9F0-681AC01C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6D5-BD1B-4C1C-BCFF-FF3A45A0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006-F64F-4069-A0E1-9B5B59B6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2C8-27F1-4060-801D-D1AB2F7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270-C11F-4413-8753-C1AB598E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E43-1719-406C-B01F-18F0CF2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885-4064-429D-A465-198CB2F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8D6-11C8-4A60-9AA4-BA9D65D6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605-B2AA-440C-A560-8CC6FF3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ABF-7231-460F-AC88-1D4FC79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C0A-9B7E-4671-85AE-19E0CEA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AECB-D004-49DB-A2AF-9B79E289E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ir-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ohort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328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914400" y="1447920"/>
            <a:ext cx="7162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066680" y="762120"/>
            <a:ext cx="7239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1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6019920"/>
            <a:ext cx="83822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380880"/>
            <a:ext cx="716292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209680" y="1295280"/>
            <a:ext cx="472464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90720" y="30481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86600" y="6172200"/>
            <a:ext cx="12193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9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67480" y="65530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477120"/>
            <a:ext cx="1447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553080"/>
            <a:ext cx="94489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9144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1143000"/>
            <a:ext cx="739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20:19:56Z</cp:lastPrinted>
  <dcterms:modified xsi:type="dcterms:W3CDTF">2002-09-13T19:21:08Z</dcterms:modified>
  <cp:revision>87</cp:revision>
  <dc:subject/>
  <dc:title>The Art in the State of the Art</dc:title>
</cp:coreProperties>
</file>