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B1BA-5A39-40DD-B8F6-6C8F19834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2ED4-CB80-4219-8F2E-36F17A3E6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2A54-FE7A-49B3-A532-72E974129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D6D8-7068-4D63-B49E-6983030EB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C06C-A20B-49F0-BA3D-C0370CEBE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AE8E-17D2-4EB4-9DED-DFC40938C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F0BD-7717-4B45-BB3D-045928D58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5AEF-A411-4E16-86AE-3EBC18EA6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6C6F-F0EF-4BBE-87FF-C9A15F43B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70C7-55E6-44F2-A66B-1436E0DD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E5BF-B77C-48DB-A5B8-18AE9A6E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C01C-E461-4E76-8E67-59752566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AB7CD-404C-42F5-90EF-13FA389C03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1.png"/><Relationship Id="rId3" Type="http://schemas.openxmlformats.org/officeDocument/2006/relationships/image" Target="../media/image17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ANALYSIS OF FREQUENCY-MATCHED DA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238880" cy="648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838080" y="1905120"/>
            <a:ext cx="7239240" cy="26668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990720" y="4876920"/>
            <a:ext cx="678168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38080" y="682560"/>
            <a:ext cx="4953240" cy="612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295280" y="4038480"/>
            <a:ext cx="6782040" cy="2133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505320" y="1828800"/>
            <a:ext cx="19047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b7e0"/>
                </a:solidFill>
                <a:latin typeface="Times New Roman"/>
              </a:rPr>
              <a:t>cOR = 4.0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505320" y="2895480"/>
            <a:ext cx="182880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066680" y="762120"/>
            <a:ext cx="7086600" cy="9842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514600" y="1981080"/>
            <a:ext cx="4038480" cy="16765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066680" y="3809880"/>
            <a:ext cx="7086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143000" y="609480"/>
            <a:ext cx="4876920" cy="457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>
            <a:lum bright="8000"/>
          </a:blip>
          <a:stretch/>
        </p:blipFill>
        <p:spPr>
          <a:xfrm>
            <a:off x="990720" y="1523880"/>
            <a:ext cx="7238880" cy="22100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143000" y="3886200"/>
            <a:ext cx="71629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2133720" y="1143000"/>
            <a:ext cx="1600200" cy="380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1905120" y="685800"/>
            <a:ext cx="4883040" cy="4986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2514600" y="1752480"/>
            <a:ext cx="4038480" cy="1676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838080" y="3657600"/>
            <a:ext cx="72392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>
            <a:lum bright="2000"/>
          </a:blip>
          <a:stretch/>
        </p:blipFill>
        <p:spPr>
          <a:xfrm>
            <a:off x="914400" y="762120"/>
            <a:ext cx="7315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990720" y="1219320"/>
            <a:ext cx="7162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391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990720" y="685800"/>
            <a:ext cx="73911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762120" y="1295280"/>
            <a:ext cx="7543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4674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960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>
            <a:lum bright="-4000"/>
          </a:blip>
          <a:stretch/>
        </p:blipFill>
        <p:spPr>
          <a:xfrm>
            <a:off x="762120" y="685800"/>
            <a:ext cx="76197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91520" cy="51051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914400" y="5867280"/>
            <a:ext cx="1600200" cy="3812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467480" y="5562720"/>
            <a:ext cx="838440" cy="30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cp:lastPrinted>2002-06-27T19:30:17Z</cp:lastPrinted>
  <dcterms:modified xsi:type="dcterms:W3CDTF">2002-07-02T15:16:36Z</dcterms:modified>
  <cp:revision>81</cp:revision>
  <dc:subject/>
  <dc:title>The Art in the State of the Art</dc:title>
</cp:coreProperties>
</file>