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D729-1A17-40A8-8212-9FCE583AE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67EC-91D7-4549-9F46-5F940D9EB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A43B-D3F3-4063-B0CF-55B8F3718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DF55-8714-4BCF-83FB-CD424E488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DAA4-D4AF-43B2-8559-49B3AD3E9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D79D-6CC8-4B5A-8F4C-60B8457DD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4CF9-1630-46DB-9BFA-88291757D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7B87-BBB6-493E-B415-58FDC8CB4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4752-D0D7-4F72-88BB-F8F66301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3711-B67B-4B6B-826F-D0486E86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EE4A-32F3-4335-8F2F-47914332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0B62-7468-46F9-94A5-FB82CBF5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48BB7-4151-4F0F-999B-1ECA4184DF4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atchi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ncy D. Barker, 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atchi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2003" t="2316" r="2003" b="16623"/>
          <a:stretch/>
        </p:blipFill>
        <p:spPr>
          <a:xfrm>
            <a:off x="1447920" y="1371600"/>
            <a:ext cx="6095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atchi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2003" t="2316" r="2003" b="54775"/>
          <a:stretch/>
        </p:blipFill>
        <p:spPr>
          <a:xfrm>
            <a:off x="1447920" y="1371600"/>
            <a:ext cx="6095880" cy="2057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447920" y="3429000"/>
            <a:ext cx="609588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atchi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2003" t="42058" r="2003" b="16623"/>
          <a:stretch/>
        </p:blipFill>
        <p:spPr>
          <a:xfrm>
            <a:off x="1447920" y="1371600"/>
            <a:ext cx="6095880" cy="1981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447920" y="3352680"/>
            <a:ext cx="6095880" cy="16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atching Ratio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447920" y="1371600"/>
            <a:ext cx="60958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atching Ratio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447920" y="1371600"/>
            <a:ext cx="6095880" cy="43178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rcRect l="2003" t="45237" r="2003" b="40468"/>
          <a:stretch/>
        </p:blipFill>
        <p:spPr>
          <a:xfrm>
            <a:off x="1447920" y="3429000"/>
            <a:ext cx="6095880" cy="685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rcRect l="2003" t="61134" r="2003" b="7610"/>
          <a:stretch/>
        </p:blipFill>
        <p:spPr>
          <a:xfrm>
            <a:off x="1447920" y="4191120"/>
            <a:ext cx="6095880" cy="14983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rcRect l="2003" t="73852" r="2003" b="7610"/>
          <a:stretch/>
        </p:blipFill>
        <p:spPr>
          <a:xfrm>
            <a:off x="1447920" y="4800600"/>
            <a:ext cx="609588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atching Ratio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447920" y="1371600"/>
            <a:ext cx="60958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o Match or Not to Match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447920" y="1371600"/>
            <a:ext cx="60958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o Match or Not to Match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447920" y="1371600"/>
            <a:ext cx="60958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o Match or Not to Match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447920" y="1371600"/>
            <a:ext cx="60958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o Match or Not to Match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447920" y="1371600"/>
            <a:ext cx="60958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ypes of Matchi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vid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qu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o Match or Not to Match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447920" y="1371600"/>
            <a:ext cx="60958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nalysis of Matched Data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447920" y="1371600"/>
            <a:ext cx="60958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nalyzing Pair Matched Data</a:t>
            </a:r>
            <a:br>
              <a:rPr sz="40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ase-Control Study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447920" y="1371600"/>
            <a:ext cx="60958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nalyzing Pair Matched Data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ase-Control Study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447920" y="1371600"/>
            <a:ext cx="60958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nalyzing Pair Matched Data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ase-Control Study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447920" y="1371600"/>
            <a:ext cx="60958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nalyzing Pair Matched Data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ase-Control Study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447920" y="1371600"/>
            <a:ext cx="60958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nalyzing Pair Matched Data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ase-Control Study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447920" y="1371600"/>
            <a:ext cx="60958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nalyzing R-to-1 Matched Data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ase-Control Study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447920" y="1371600"/>
            <a:ext cx="60958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nalyzing R-to-1 Matched Data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ase-Control Study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447920" y="1371600"/>
            <a:ext cx="60958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nalyzing R-to-1 Matched Data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ase-Control Study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447920" y="1371600"/>
            <a:ext cx="60958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ndividual Matchi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447920" y="1371600"/>
            <a:ext cx="60958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nalyzing Frequency Matched Data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447920" y="1371600"/>
            <a:ext cx="60958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nalyzing Frequency Matched Data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447920" y="1371600"/>
            <a:ext cx="60958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nalyzing Frequency Matched Data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447920" y="1371600"/>
            <a:ext cx="60958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nalyzing Frequency Matched Data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447920" y="1371600"/>
            <a:ext cx="60958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nalyzing Pair Matched Data</a:t>
            </a:r>
            <a:br>
              <a:rPr sz="4000"/>
            </a:b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Cohort Study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447920" y="1371600"/>
            <a:ext cx="60958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nalyzing Pair Matched Data</a:t>
            </a:r>
            <a:br>
              <a:rPr sz="4000"/>
            </a:b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Cohort Study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447920" y="1371600"/>
            <a:ext cx="60958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nalyzing Pair Matched Data</a:t>
            </a:r>
            <a:br>
              <a:rPr sz="4000"/>
            </a:b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Cohort Study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447920" y="1371600"/>
            <a:ext cx="60958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nalyzing Pair Matched Data</a:t>
            </a:r>
            <a:br>
              <a:rPr sz="4000"/>
            </a:b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Cohort Study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447920" y="1371600"/>
            <a:ext cx="60958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nalyzing Pair Matched Data</a:t>
            </a:r>
            <a:br>
              <a:rPr sz="4000"/>
            </a:b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Cohort Study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447920" y="1371600"/>
            <a:ext cx="60958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nalyzing Pair Matched Data</a:t>
            </a:r>
            <a:br>
              <a:rPr sz="4000"/>
            </a:b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Cohort Study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447920" y="1371600"/>
            <a:ext cx="60958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ndividual Matchi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447920" y="1371600"/>
            <a:ext cx="60958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requency Matchi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447920" y="1371600"/>
            <a:ext cx="60958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requency Matchi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2003" t="2316" r="2003" b="16623"/>
          <a:stretch/>
        </p:blipFill>
        <p:spPr>
          <a:xfrm>
            <a:off x="1447920" y="1371600"/>
            <a:ext cx="6095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requency Matchi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2003" t="2316" r="2003" b="27751"/>
          <a:stretch/>
        </p:blipFill>
        <p:spPr>
          <a:xfrm>
            <a:off x="1447920" y="1371600"/>
            <a:ext cx="6095880" cy="3352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447920" y="4724280"/>
            <a:ext cx="6095880" cy="14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requency Matchi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2003" t="2316" r="2003" b="16623"/>
          <a:stretch/>
        </p:blipFill>
        <p:spPr>
          <a:xfrm>
            <a:off x="1447920" y="1371600"/>
            <a:ext cx="6095880" cy="3886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447920" y="5257800"/>
            <a:ext cx="609588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atchi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447920" y="1371600"/>
            <a:ext cx="60958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7T18:28:24Z</dcterms:created>
  <dc:creator>Nancy Barker</dc:creator>
  <dc:description/>
  <dc:language>en-US</dc:language>
  <cp:lastModifiedBy>Nancy Barker</cp:lastModifiedBy>
  <dcterms:modified xsi:type="dcterms:W3CDTF">2004-02-23T05:15:50Z</dcterms:modified>
  <cp:revision>69</cp:revision>
  <dc:subject/>
  <dc:title>Slide 1</dc:title>
</cp:coreProperties>
</file>