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349-390E-4257-8EEB-4F61F093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C73-3714-441E-A455-31B87F65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7F9-360F-4D7B-B270-EAC3CB9F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F6F-4CFE-49B2-A808-08A1EF07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EA5-A2F5-4983-BB3A-30701067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585-AD70-4990-BA5B-0A989C2E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082-1817-4533-998A-5BDEE251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BA1-989C-4E1F-91EA-A03B53D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536-BCDA-4CD8-A4FF-7168B20A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4FA-7F95-4289-8685-E6B61053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99F-DA3E-4890-811F-3A333C1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51E-DEFF-4C00-9590-7BF29F2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5026-FE24-4E3E-9445-73DD4C7B4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Logistic Regression Analysis of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-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rt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7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54380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TATA’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G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DURE TO CARRY OU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L ESTIMATION OF MATCHED DATA USING LOGISTIC REGRE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565200"/>
            <a:ext cx="8204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9484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82296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57913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gall  [fweight=wgt],  strata(strat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7360" y="1295280"/>
            <a:ext cx="836928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744480"/>
            <a:ext cx="8382240" cy="63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3301920" cy="93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1066680"/>
            <a:ext cx="6781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gall   [fweight=wgt],  strata(stratum)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35640" y="457200"/>
            <a:ext cx="522504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W LOGISTIC MODEL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458200" cy="193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E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6705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04040" cy="464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792468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7240" y="1447920"/>
            <a:ext cx="5231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[fweight=wgt],  strata(strat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1520" y="1143000"/>
            <a:ext cx="786096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5562720"/>
            <a:ext cx="7925040" cy="847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9480" y="277920"/>
            <a:ext cx="7848720" cy="91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57800" y="1676520"/>
            <a:ext cx="26668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1066680"/>
            <a:ext cx="556272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[fweight=wgt],  strata(stratum)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23720"/>
            <a:ext cx="800100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SS does not perform conditional logistic regression except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there is only one case per stratum, with one or more contro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SS survival analysis procedure COXREG can be used to obtain coefficient estimates equivalent to running a conditional logistic regress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is similar to that demonstrated for SAS with PROC PHREG and the GALL dataset, although SAS is not limited to the special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990720"/>
            <a:ext cx="8077320" cy="44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SAS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must be created in the data, coded to indicate that all cases had the event at the same time, and all controls were censored at a lat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GALL dataset,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s nam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SPSS dataset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ll.sav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229600" cy="60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en-US" sz="2400" spc="-1" strike="noStrike">
                <a:solidFill>
                  <a:srgbClr val="000000"/>
                </a:solidFill>
                <a:latin typeface="SAS Monospace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cod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l.s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set (assuming one line of data for each subject, I.e., no weight variabl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S Monospace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FILE='A:gall.sav'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COX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survt  /STATUS=case(1)  /STRATA=str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/METHOD=ENTER  est  g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/CRITERIA=PIN(.05) POUT(.10) ITERATE(20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statement contains the time variabl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llowed by a backslash and the case status variabl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the value for ca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arenth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762120"/>
            <a:ext cx="7467480" cy="5257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AS’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E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DURE TO CARRY OU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L ESTIMATION OF MATCHED DATA USING LOGISTIC REGRE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7-03T15:05:41Z</cp:lastPrinted>
  <dcterms:modified xsi:type="dcterms:W3CDTF">2002-07-03T15:24:32Z</dcterms:modified>
  <cp:revision>107</cp:revision>
  <dc:subject/>
  <dc:title>The Art in the State of the Art</dc:title>
</cp:coreProperties>
</file>