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D4D-397F-4B5E-BBF5-1B42DF45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B44-37A7-49FD-BBB5-6AB3E2C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624-CA67-4ADC-85B7-F911CAF0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977-EA83-4686-B8FC-062FCE30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C82-7F65-491A-9C13-4F7AC9A9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760-FB53-4636-BF95-759E5351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1B4-63CF-4AF9-B099-C63F2365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F8D-B966-47A7-BF63-B83994C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E19-F416-4B85-AF2B-3A8E202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858-780C-40CC-B3C0-4214613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498-D033-47A4-9246-690FFA3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3B6-80F4-4FAD-B078-8A3414EF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8728-EC96-452D-9885-1549B1208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ooling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2520" y="2819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92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24852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391160" cy="3917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762012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981080" y="380880"/>
            <a:ext cx="37339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28456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69608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038480" y="419112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95480" y="4800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ymbol"/>
              </a:rPr>
              <a:t>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7:12:34Z</dcterms:modified>
  <cp:revision>77</cp:revision>
  <dc:subject/>
  <dc:title>The Art in the State of the Art</dc:title>
</cp:coreProperties>
</file>